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wmf" ContentType="image/x-wmf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935-4FE7-4D33-B0EA-46EDE0DA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uly_25" TargetMode="External"/><Relationship Id="rId2" Type="http://schemas.openxmlformats.org/officeDocument/2006/relationships/hyperlink" Target="http://en.wikipedia.org/wiki/1902" TargetMode="External"/><Relationship Id="rId3" Type="http://schemas.openxmlformats.org/officeDocument/2006/relationships/hyperlink" Target="http://en.wikipedia.org/wiki/May_21" TargetMode="External"/><Relationship Id="rId4" Type="http://schemas.openxmlformats.org/officeDocument/2006/relationships/hyperlink" Target="http://en.wikipedia.org/wiki/1983" TargetMode="External"/><Relationship Id="rId5" Type="http://schemas.openxmlformats.org/officeDocument/2006/relationships/hyperlink" Target="http://en.wikipedia.org/wiki/Writer" TargetMode="External"/><Relationship Id="rId6" Type="http://schemas.openxmlformats.org/officeDocument/2006/relationships/slide" Target="../slides/slide2.xml"/><Relationship Id="rId7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9554-24EF-4BEF-B169-C1F5BBA9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31EC-684A-4C67-B13A-D5A2CE7D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426-A3AA-48FD-84FE-DBA6F0BC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9D44-B357-4494-8403-822F002C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1614-3EAF-45B5-9722-33A4ADE71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wikis into the classroom provides a perfect vehicle for reinforcing or teaching students the importance of wide and reliable research, checking authors and sources, etc.  Just as podcasting and blogging provides a vehicle for instructing students in copyright and fair use guidelin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8D68-CEE7-47BA-B065-5A402818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784-DED2-458C-A102-BD0E3077B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D2AC-9EA8-4801-81C4-9D89FA9D5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F30-DE9C-460B-A87A-B3203C2A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ikispaces.com/site/for/teachers100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844-F0F9-4A95-A3E6-400B9720E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F653-5682-404E-9DC5-00EC60642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A394-1978-457E-8FE8-98E1886DF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ic Hoff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July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0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May 2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198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was an American social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ri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He produced ten books and was awarded the Presidential Medal of Freedom in February 1983 by President of the United States Ronald Reagan. His first book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True Believ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ublished in 1951, was widely recognized as a classic, receiving critical acclaim from both scholars and laymen.  This book, which he considered his best, established his reputation. He remained a successful writer for most of his remaining ye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404F-244D-4C89-9F0C-A5C51D38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8CB-CE66-4414-9A16-61B289D7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90ED-3547-4FA8-87C3-2E981146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9F46-740B-48E2-8C89-E28921E4B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Not every member must contribute, but all must believe they are free to contribute when ready and that what they contribute will be appropriately val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In such a world, many will only dabble, some will dig deeper, and still others will master the skills that are most valued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the communi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The community itself, however, provides strong incentives for creative expression and active particip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istorically, we have valued creative writing or art classes because they help to identify and train future writers and artists, but also because the creative process is valuable on its own; every child deserves the chance to express him- or herself through words, sounds, and images, even if most will never write, perform, or draw professional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Bembo"/>
              </a:rPr>
              <a:t>-Having these experiences, we believe, changes the way youth think about themselves and alters the way they look at work created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3D5A-8A3E-4B7C-B2F3-42644B0D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5DCC-D1D4-41F9-B603-14A2A6537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6F7-1F2B-4FD0-A5B2-0AF1D290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4015-5E2C-479C-B2EA-5A9D1D8C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Wiki-wiki" means "hurry quick" in Hawai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7CFA-9ADD-4F21-829F-3C9AA5C2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F4F-044A-4C1D-BD80-07D0BB6D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224-146E-4BFC-A7F2-56D91F2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19BCB-AC5D-4DF0-BA72-EEDE0B9F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3C98A-735C-4CDE-A9E2-6C67266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4E692-2E95-4063-8D7D-6DA59D01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56B1-4562-4FBD-B995-07DB67B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139E9-8FF4-41B2-8A9E-5F690BE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2BB30-FBA3-48C1-B2C0-37AA417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5E47C-D2F2-48C0-919F-6B499F01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45F2E-878A-4106-8486-3B242572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AD0F3-4410-4D37-A09F-1712DA3A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D9C-6B1D-4BD0-A0EE-5F365CE1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8AB6-6826-4A80-8A6A-5ACFDE54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4A06-BBC7-4ADD-B0DA-96323E6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1F96-A2D8-43B5-8A86-DAEF3362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EB14-D11D-4C9C-99EF-4F209C9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9FD5-F884-48F4-AF9F-4B1529CC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F965-6655-4D77-98FC-6CF9A62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466-2FFD-479B-8055-A9241798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6930-07B4-465A-97BF-7828829E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C1B-4A80-43B7-8C95-893AA80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8DBC-9B16-4858-B42A-9215FDA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918A-3A77-4C01-AAF5-7158A3A4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A0B3-48EE-4005-AE36-B6F86A5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48B-CDD5-4D90-9005-CBACC44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DEFE-3DDD-4E4A-9C79-9BE59A45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34CDD-9284-44A8-AE47-C289AF8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B2CC-EC5E-497E-AF1B-C5D90750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5EDC2-2219-4605-B236-823722E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FE555-664B-44B7-A5A7-BEC5FD33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55D0-44F0-4229-900D-F0670804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EAD-A323-4C73-9B72-4F96F177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3C30-39C3-447E-B7F7-0C30C314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F8B2E-AE4C-455F-8433-2009BB8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3E3C-D308-4CE4-A66A-40EE868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EF94-8F48-443A-A0C0-9815EEA2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B9DE-77BF-4E07-9F4F-D591405E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1F77-7532-47D5-B939-36E7C034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A4DE-55A4-4645-AA20-56682FAB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B90C-2FDC-474D-AE5D-E41045B2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AE67-1C28-484A-B07F-2788912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557B6-5C94-42D1-8B4F-6E71042C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F884-74A6-48AA-9C11-5346ABC6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9E291-048E-4F24-849F-DF341899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2CFC8-99E0-4F2B-A637-12AB0C04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144C-2007-4403-ACDE-3EDF0F6E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76B7-AF9C-46DA-B08E-88EF8E9C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9176-3F1F-425A-AC17-F1B8726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4A6E-5707-4922-A30A-DA83B53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9329F-8BE8-4CEF-8E05-1C58A9E5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12411-082C-4654-B74D-0E189B4B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056D2-DF46-4278-AF71-A72CE65C4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C34B4-56C5-4DA0-8D7A-132247F64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AB6C-FAC4-4B9C-B7AE-B3ACBCCC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09C2C-0134-4CB1-B920-DFBB42C6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BD3F-8012-4892-8793-69B1FB7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3868-7029-431D-BEFE-DDB93DB6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D568-83D9-47D6-AC65-089A6D1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DEEB-F9A8-406C-A28F-23000D41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595A6-E60C-41B0-9F7A-E7106B0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DF2F7-6441-4638-BA40-9DB2C551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9A7D-C1E5-4AB8-880C-197C5A8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ED83-EB7F-4C42-A795-2DEF179A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BDC76-EE75-4344-80AD-60AF542E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2FB-7DB6-4BF7-AD1B-0FB08B4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55EBC-EAAB-4657-AF29-ACFB80B6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ECA22-ABAF-41A1-BBC6-B5601A7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987A-454C-460E-939C-030DDDD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2DC1-C51C-46BD-956E-BFEA092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E93D-0D55-4868-88B6-DC9B727B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FB635-5BBF-4491-BD72-D27FA267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9751-4767-472C-9E05-556C341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FF5B-DF83-4B58-A17B-84EB8F48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B4EC-AB4C-4280-98CF-C0F94EB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0ECB-E1D3-45F8-A8CB-E48819B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5B8-D7D6-414B-919E-69779BCB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3A57-D5AA-4223-91C9-67FCDB2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2EF9C-8A2E-4663-A3D1-CA4DC168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04B03-CB91-4E70-BDC2-8113186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BAEAF-E89C-4F57-97BF-F229BFD4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044F-95A8-4FEE-8FC9-A1BFBCA4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FE409-D430-451A-A389-7C735A60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DA4F1-A8F4-4B06-976F-68E1542C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53F99-2DF4-4950-991A-B259B233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BFB9F-F154-4DA4-90D6-759A6A12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47C3E-2B48-45EC-B76C-5DB92EC5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7A4-2799-4D9D-B211-CDAAF617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4352F-2BC4-4FED-B3F0-4DCD679C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EA456-04B3-4F95-985C-E323F202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421C5-0A05-4C50-8669-6534CFEA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31A42-9AD9-47F4-B9AA-63A89E16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C2506-EDA7-422C-8054-31BEBFF4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7B7F9-B265-487E-AAF4-74E78787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F341A-8FC6-421F-9908-35B0FC25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202F-5247-4EB1-AF19-115DACC2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608B-A136-4474-8CF5-C7DC495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6CF17-6CB3-47D5-B586-9DFBDE8E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9F8F-6233-4BDA-B564-92D91F44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924C-571F-4A5B-B1BF-3059FA93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3AFCC-B692-403F-87B4-1C0598B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C4E36-95AA-4C9F-A245-F252A878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46BB-031E-4FDD-A618-5A62675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E9424-6FB7-4B43-877C-FBFA322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67D9E-F040-49DE-8D4C-C91459A7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C42FC-F5EE-406F-A41A-B11C87ED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1E424-2399-4490-8150-6910CF9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554E-4DB6-4D8F-B256-C5A768A5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56BBF-2D06-498E-831D-B2199AB6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62FC-276E-4978-A684-C3A63F2D84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45B7-62E3-4F03-BC34-F66F8ECBCC3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059-5252-42BF-BA65-7ACFD775E7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5ACD-0F66-437B-B0F9-099F7397AC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7EFC-D7B5-4465-BB01-54719EB5CD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1060-3831-4C85-9910-2100C9FC2E3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EB9-3478-45CD-A849-EBA8AD319A1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CDFF-4A55-4239-9AC3-2E160B48B6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210-21F3-459D-B184-68BB19C5EFA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hyperlink" Target="http://discoveryeducation.typepad.com/pennsylvania/2007/02/a_more_reliable.html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www.classroom20.com/group/distancecollaboration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hyperlink" Target="http://en.wikibooks.org/wiki/Main_Page" TargetMode="External"/><Relationship Id="rId4" Type="http://schemas.openxmlformats.org/officeDocument/2006/relationships/hyperlink" Target="http://en.wikipedia.org/wiki/Wiki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instructech.pbwiki.com/FrontPage" TargetMode="External"/><Relationship Id="rId4" Type="http://schemas.openxmlformats.org/officeDocument/2006/relationships/hyperlink" Target="http://te886.pbwiki.com/" TargetMode="External"/><Relationship Id="rId5" Type="http://schemas.openxmlformats.org/officeDocument/2006/relationships/hyperlink" Target="https://leta-learning.wikispaces.com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www.wikispaces.com/site/for/teachers100K" TargetMode="External"/><Relationship Id="rId4" Type="http://schemas.openxmlformats.org/officeDocument/2006/relationships/hyperlink" Target="http://pbwiki.com/" TargetMode="External"/><Relationship Id="rId5" Type="http://schemas.openxmlformats.org/officeDocument/2006/relationships/hyperlink" Target="http://pbwiki.com/" TargetMode="External"/><Relationship Id="rId6" Type="http://schemas.openxmlformats.org/officeDocument/2006/relationships/hyperlink" Target="http://pbwiki.com/" TargetMode="External"/><Relationship Id="rId7" Type="http://schemas.openxmlformats.org/officeDocument/2006/relationships/hyperlink" Target="http://pbwiki.com/" TargetMode="External"/><Relationship Id="rId8" Type="http://schemas.openxmlformats.org/officeDocument/2006/relationships/hyperlink" Target="http://www.wetpaint.com/" TargetMode="External"/><Relationship Id="rId9" Type="http://schemas.openxmlformats.org/officeDocument/2006/relationships/hyperlink" Target="http://www.wetpaint.com/" TargetMode="External"/><Relationship Id="rId10" Type="http://schemas.openxmlformats.org/officeDocument/2006/relationships/hyperlink" Target="http://www.wetpaint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www.teachersfirst.com/content/wiki/" TargetMode="External"/><Relationship Id="rId4" Type="http://schemas.openxmlformats.org/officeDocument/2006/relationships/hyperlink" Target="http://www.teachersfirst.com/content/wiki/" TargetMode="External"/><Relationship Id="rId5" Type="http://schemas.openxmlformats.org/officeDocument/2006/relationships/hyperlink" Target="http://www.teachersfirst.com/content/wiki/" TargetMode="External"/><Relationship Id="rId6" Type="http://schemas.openxmlformats.org/officeDocument/2006/relationships/hyperlink" Target="http://ikiw.org/" TargetMode="External"/><Relationship Id="rId7" Type="http://schemas.openxmlformats.org/officeDocument/2006/relationships/hyperlink" Target="http://ikiw.org/" TargetMode="External"/><Relationship Id="rId8" Type="http://schemas.openxmlformats.org/officeDocument/2006/relationships/hyperlink" Target="http://ikiw.org/" TargetMode="External"/><Relationship Id="rId9" Type="http://schemas.openxmlformats.org/officeDocument/2006/relationships/hyperlink" Target="http://www.teachinghacks.com/wiki/index.php?title=Wikis" TargetMode="External"/><Relationship Id="rId10" Type="http://schemas.openxmlformats.org/officeDocument/2006/relationships/hyperlink" Target="http://www.teachinghacks.com/wiki/index.php?title=Wikis" TargetMode="External"/><Relationship Id="rId11" Type="http://schemas.openxmlformats.org/officeDocument/2006/relationships/hyperlink" Target="http://www.teachinghacks.com/wiki/index.php?title=Wikis" TargetMode="External"/><Relationship Id="rId12" Type="http://schemas.openxmlformats.org/officeDocument/2006/relationships/hyperlink" Target="http://www.teachinghacks.com/wiki/index.php?title=Wikis" TargetMode="External"/><Relationship Id="rId13" Type="http://schemas.openxmlformats.org/officeDocument/2006/relationships/hyperlink" Target="http://dorman-data-digest.wikispaces.com/" TargetMode="External"/><Relationship Id="rId14" Type="http://schemas.openxmlformats.org/officeDocument/2006/relationships/hyperlink" Target="http://dorman-data-digest.wikispaces.com/" TargetMode="External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hyperlink" Target="http://jdorman.wikispaces.com/+Wikis" TargetMode="External"/><Relationship Id="rId4" Type="http://schemas.openxmlformats.org/officeDocument/2006/relationships/hyperlink" Target="http://jdorman.wikispaces.com/+Wikis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2"/>
          <a:stretch/>
        </p:blipFill>
        <p:spPr>
          <a:xfrm>
            <a:off x="-6480" y="804960"/>
            <a:ext cx="9156960" cy="2797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Ken Messersmith – Tommy Hanse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43329"/>
                </a:solidFill>
                <a:latin typeface="Franklin Gothic Book"/>
              </a:rPr>
              <a:t>University of Nebraska @ Kearne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sy to correct mistakes, rather than making it difficult to make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3124080" y="3962520"/>
            <a:ext cx="2438640" cy="74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23201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ile wikis are very open, they provide a means to verify the validity of recent additions to the body of pag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 a "Recent Changes" page—a specific list numbering recent edits, or a list of all the edits made within a given timeframe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85560" y="1676520"/>
            <a:ext cx="852948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pedia is as reliable as other external sources we rely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perly written articles cite the sources, and a reader should rely on the Wikipedia article as much, but no more, than the sources the article relies on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 article doesn't cite its sources, it may or may not be reliable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More Reliable Wikipedia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discoveryeducation.typepad.com/pennsylvania/2007/02/a_more_reliable.html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udent projects involving students who contribute at different times and from geographically diverse location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llaborating on ideas and organizing documents and resources from individuals and groups of students. 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(</a:t>
            </a:r>
            <a:r>
              <a:rPr b="0" lang="en-US" sz="1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link to people who want to collaborate</a:t>
            </a:r>
            <a:r>
              <a:rPr b="0" lang="en-US" sz="1800" spc="-1" strike="noStrike" u="sng">
                <a:solidFill>
                  <a:srgbClr val="4e3b30"/>
                </a:solidFill>
                <a:uFillTx/>
                <a:latin typeface="Franklin Gothic Book"/>
              </a:rPr>
              <a:t>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valuation tool where students critically analyze a partner student’s work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oup research project for a specific id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school and classroom documents.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some features of Blackboard, Angel, etc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ollaborative worksheet for student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ing: student created books and journaling. (i.e.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ikibook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and maintain a classroom FAQ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classroom discussion and debate area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 a topic on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ikipedia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have students verify the facts using their information literacy skills, and make changes accordingly (Citing sources)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ttp://www.teachinghacks.com/wiki/index.php?title=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Instructech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on student motiv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Teaching tool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LETA-Learning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site for this confer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ikispaces -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www.wikispaces.com/site/for/teachers100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bwiki –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http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pbwiki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tpaint -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www.wetpaint.com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/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2"/>
          <a:stretch/>
        </p:blipFill>
        <p:spPr>
          <a:xfrm>
            <a:off x="396720" y="469800"/>
            <a:ext cx="8114040" cy="5168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914400" y="54100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5644e"/>
                </a:solidFill>
                <a:latin typeface="Franklin Gothic Book"/>
              </a:rPr>
              <a:t>Alvin Toffle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iki Walk-Through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www.teachersfirst.com/content/wiki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5"/>
              </a:rPr>
              <a:t>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’s a wiki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uses wiki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kis or blogs?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to use wikis with students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deas for activities, projects, collaborations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ing wikis in Education (blog) 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7"/>
              </a:rPr>
              <a:t>ikiw.org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8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ssroom use of wiki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9"/>
              </a:rPr>
              <a:t>http://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0"/>
              </a:rPr>
              <a:t>www.teachinghacks.com/wiki/index.php?title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1"/>
              </a:rPr>
              <a:t>=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2"/>
              </a:rPr>
              <a:t>Wiki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3"/>
              </a:rPr>
              <a:t>http://dorman-data-digest.wikispaces.com</a:t>
            </a:r>
            <a:r>
              <a:rPr b="0" lang="en-US" sz="2400" spc="-1" strike="noStrike" u="sng">
                <a:solidFill>
                  <a:srgbClr val="ad1f1f"/>
                </a:solidFill>
                <a:uFillTx/>
                <a:latin typeface="Franklin Gothic Book"/>
                <a:hlinkClick r:id="rId14"/>
              </a:rPr>
              <a:t>/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2"/>
          <a:stretch/>
        </p:blipFill>
        <p:spPr>
          <a:xfrm>
            <a:off x="334800" y="1047600"/>
            <a:ext cx="8358480" cy="40672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43329"/>
                </a:solidFill>
                <a:latin typeface="Franklin Gothic Book"/>
              </a:rPr>
              <a:t>Eric Hoff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e borrowed heavily from Jennifer Dorman’s extensive presentation on the Participatory Culture. Her materials are available at: 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ad1f1f"/>
                </a:solidFill>
                <a:uFillTx/>
                <a:latin typeface="Franklin Gothic Book"/>
                <a:hlinkClick r:id="rId4"/>
              </a:rPr>
              <a:t>jdorman.wikispaces.com/+Wik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is presentation available at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he LETA-Learning Wiki at: </a:t>
            </a: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http://leta-learning.wikispaces.com/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ct informa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n Messersmith – messersmithk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mmy Hansen – hansent@unk.ed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4e3b30"/>
                </a:solidFill>
                <a:latin typeface="Franklin Gothic Book"/>
              </a:rPr>
              <a:t>Questions?</a:t>
            </a:r>
            <a:endParaRPr b="0" lang="en-US" sz="11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6" name="Picture 9" descr="MCj01345670000[1]"/>
          <p:cNvPicPr/>
          <p:nvPr/>
        </p:nvPicPr>
        <p:blipFill>
          <a:blip r:embed="rId2"/>
          <a:stretch/>
        </p:blipFill>
        <p:spPr>
          <a:xfrm rot="21005400">
            <a:off x="6361200" y="1941120"/>
            <a:ext cx="2495520" cy="355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e are preparing our students for a future we cannot describe.”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lan November – NETA keynote 2007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762120" y="3962520"/>
            <a:ext cx="769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What are the 21st century skills our students need to survive and thr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ording to a recent study from the Pew Internet &amp; American Life project (Lenhardt &amp; Madden, 2005), more than one-half of all teens have created media content, and roughly one-third of teens who use the Internet have shared content they produc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"this may be the birth of a new era, perhaps even a golden one, on par with the Italian renaissance, or the rise of Athenian democracy“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  <a:ea typeface="Times New Roman"/>
              </a:rPr>
              <a:t>Don Tapscott . Wikinomics: How Mass Collaboration Changes Everything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-360" y="1554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dividual expression → community involv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new literacies almost all involve social skills developed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rough collaboration and networking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uilt on traditional literacy, research skills, technical skills, and critical analysis skills taught in the classroo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-43920" y="6553080"/>
            <a:ext cx="93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nfronting the Challenges of Participatory Culture: Media Education for the 21st Century - Henry Jenkins 10/19/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e3b30"/>
                </a:solidFill>
                <a:latin typeface="Franklin Gothic Book"/>
              </a:rPr>
              <a:t>This presentation is about a Web 2.0 tool designed to facilitate collaborative work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85920" y="1676520"/>
            <a:ext cx="837216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iki means "quick" in Hawaiia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ll about quickly linking your information together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free on-line writing space that allows users to add, modify and update its page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something is missing or incorrect, you can easily add your thoughts or make changes to the wik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t is essentially a fully editable web site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" descr="p9254B"/>
          <p:cNvPicPr/>
          <p:nvPr/>
        </p:nvPicPr>
        <p:blipFill>
          <a:blip r:embed="rId3"/>
          <a:stretch/>
        </p:blipFill>
        <p:spPr>
          <a:xfrm>
            <a:off x="685800" y="1828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4502"/>
          <p:cNvPicPr/>
          <p:nvPr/>
        </p:nvPicPr>
        <p:blipFill>
          <a:blip r:embed="rId4"/>
          <a:stretch/>
        </p:blipFill>
        <p:spPr>
          <a:xfrm>
            <a:off x="5257800" y="1828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13:25:27Z</dcterms:created>
  <dc:creator>JDORMAN</dc:creator>
  <dc:description/>
  <dc:language>en-US</dc:language>
  <cp:lastModifiedBy>Ken Messersmithk</cp:lastModifiedBy>
  <dcterms:modified xsi:type="dcterms:W3CDTF">2007-10-29T03:01:44Z</dcterms:modified>
  <cp:revision>92</cp:revision>
  <dc:subject/>
  <dc:title>Teaching for Rigor and Relev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33</vt:lpwstr>
  </property>
</Properties>
</file>