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5F0D-3C80-488F-A7AB-9D95067E7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uly_25" TargetMode="External"/><Relationship Id="rId2" Type="http://schemas.openxmlformats.org/officeDocument/2006/relationships/hyperlink" Target="http://en.wikipedia.org/wiki/1902" TargetMode="External"/><Relationship Id="rId3" Type="http://schemas.openxmlformats.org/officeDocument/2006/relationships/hyperlink" Target="http://en.wikipedia.org/wiki/May_21" TargetMode="External"/><Relationship Id="rId4" Type="http://schemas.openxmlformats.org/officeDocument/2006/relationships/hyperlink" Target="http://en.wikipedia.org/wiki/1983" TargetMode="External"/><Relationship Id="rId5" Type="http://schemas.openxmlformats.org/officeDocument/2006/relationships/hyperlink" Target="http://en.wikipedia.org/wiki/Writer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7CE3-F233-426B-BA87-DE235F07C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FE11-99EC-4945-9038-532884C1C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10F4-7DAB-44B2-A425-CDBE8691F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40C8-9B46-4D53-A986-BEEFF7745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4005-707F-48B5-8E29-32DB5DFB5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wikis into the classroom provides a perfect vehicle for reinforcing or teaching students the importance of wide and reliable research, checking authors and sources, etc.  Just as podcasting and blogging provides a vehicle for instructing students in copyright and fair use guidel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7F14-CC12-4D22-BDF5-9E72083C5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3739-AFEB-411A-8C79-47A4D634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1DAD-076F-4309-881B-69FE04112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F59A-441C-4268-8BD7-DFE8B0AE4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spaces.com/site/for/teachers10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BF62-20A2-417E-A384-C6DCEE8F4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D86C-32BD-43F9-8042-499B41F2B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90DA-83BF-40AA-9D72-69C2FBACC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ic Hoff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uly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May 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198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was an American social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ri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He produced ten books and was awarded the Presidential Medal of Freedom in February 1983 by President of the United States Ronald Reagan. His first book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True Believ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ublished in 1951, was widely recognized as a classic, receiving critical acclaim from both scholars and laymen.  This book, which he considered his best, established his reputation. He remained a successful writer for most of his remaining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2346-B6BD-4275-8006-21A6623B4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5E96-E49F-44BE-AEFF-B89002A2C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4F62-B5E8-4453-B0E8-20553B55E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578B-A971-465C-941D-702477EB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Not every member must contribute, but all must believe they are free to contribute when ready and that what they contribute will be appropriately val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In such a world, many will only dabble, some will dig deeper, and still others will master the skills that are most valued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the commun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The community itself, however, provides strong incentives for creative expression and active particip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istorically, we have valued creative writing or art classes because they help to identify and train future writers and artists, but also because the creative process is valuable on its own; every child deserves the chance to express him- or herself through words, sounds, and images, even if most will never write, perform, or draw professional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aving these experiences, we believe, changes the way youth think about themselves and alters the way they look at work created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4592-3620-43F9-9C96-1258BAD6F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A6BA-3117-4C37-8D64-356EB8E3C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37B1-FBE8-43B7-9FF7-77D5B0CC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3D53-3D4F-48F8-8174-A8BCDD62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Wiki-wiki" means "hurry quick" in Hawai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D4B-9D63-4736-9D9E-A663E84B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09F-CFB9-4F71-B4A4-0EEC5581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966-97BC-4D1A-ABCF-F5673D30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5B1D2-FA24-4AFE-9619-4D598C3F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2C875-D504-4C9A-8CF5-E5EA6F8C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DA198-0100-40AA-9120-41BDEEDE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4AB8A-6259-48B0-90DF-37A972CA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FB4B1-1B7C-48B5-9F5B-A31495B6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9542E-6CA1-4E9F-8170-E5A4D1E4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FB4D4-A462-422F-9EF7-9514C9F6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907CB-EF75-41CC-AC0A-7EDA3A57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C9F3A-2D5D-4945-B3C3-6F39BF18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44F-BED9-4AF2-A699-5CDB0D3D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B6B-149E-4E93-B1A3-AA8322F2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2786-D9F0-4262-B28D-DCF77B13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7DCA-0D99-4A03-82C1-67774ECA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D243-CEC9-41AE-B915-6ED9336F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FF03-3B86-41E9-8A19-E9B11BE8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13E0-529D-4534-B5BE-D04D025F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C268-32A9-41D1-BD2A-92D6C391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6605-1407-4CA1-A05E-AF811E2B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F53-178F-4842-ADC7-FE7EE2C4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C22D-39F4-4DB3-8D8F-71B95125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F99E-A28E-4151-ACEA-1F7448F3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678C-D334-450F-B41C-17DC6BFE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356E-BC04-4CA8-ADAC-94885A6F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4A87-CF18-4C3C-8101-51122BA6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CFFD-CD1A-4F45-8EC5-A5A6D9CF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995E-5E84-453D-A7A5-9E139F83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FE29-8FFC-451C-A844-C7D85CF6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7956-73A1-49DA-B856-7ED93A63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D2ED-0575-46CE-BBD4-42E487DF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045-6E60-49B4-8845-1188F59C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39C2-D248-4F6C-9198-80291712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7628-D04D-43F1-B9B9-1C13D9A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9273-7163-44A9-AAD8-2EFD62F6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2CB8-32CF-4478-85F4-D170C00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559E-40DF-48DE-BBFE-D0223760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D261-19DB-4F4A-89EE-397136B0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E459F-5DA8-48AD-A457-EA07B62D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7ED8-4FB0-499D-9DD6-C3872F73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5FF7-B24C-4462-95E4-A005DC7B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BD94-BD35-49AE-BA69-34BA34C0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49C-5AC6-43D1-AE53-94366F21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5690-801D-4C1A-B1E0-7AC93992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67E6-C55F-4D92-A488-E03D78B6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35D9-F661-4B11-81D1-6E9A94A1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34CDB-EC6B-48D3-B9FA-0F3CBB1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A20C-E6C0-4102-BACB-5EF3911B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E7AA-D431-4D83-AE42-80143B6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2E40-FFC0-4CBC-B404-4BB98552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869A-049D-4775-A6F7-C5F6404B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DD240-2617-4FCA-9410-495EBBF1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D16E-06E8-4466-9DA3-139286A1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36A-96E7-4F37-83E7-CAD80655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8CEEE-4FB1-4C3A-B78D-87F28445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24D2-0B4F-473A-9FFA-9DFCF71B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04A1-1BD7-4650-9AB4-6A43E93E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AE765-CCCF-4118-B514-72402625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455E-F59B-4FC0-9279-12CE9182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6A7E-5D13-4AB6-B4A0-E97261B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8DB8-F581-4FB7-A1EA-967B97D6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57517-E20C-4E33-B6E3-7D2E16AC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3E63-08E8-41EE-A523-E975BB7C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53458-430A-4C15-8354-7D8BEAFB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CB1-D8F2-4DE9-94B6-10E236CF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ED26-325D-4B5B-B1AF-0FED4362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214AC-0B47-4BE3-8188-6CD48C13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03D9-4139-4992-B96B-995091FC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4ECBA-21AD-44C6-9ED4-6DAEB1E6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6B1D-7225-4201-9C0A-86EEBF90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734E5-0FF0-450F-88E2-F301BDF8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183D-6A8D-4E25-8393-A6D9A020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B0A6-6D74-4457-B80B-75AFBC62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F6F7-3CA3-40BF-BD82-5662BE82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F5BC6-D03E-4AEA-9DC6-17CC0028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9CB-43E5-4489-A041-374BEB8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22DB2-8DDA-4383-A762-4F811F5C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48BF-9D3C-48BF-B41B-5909C0A7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7C38C-3C29-4D88-AA97-85CA29A9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46A86-8ACD-4079-9389-79CB4F39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0E9C4-C11F-44CD-B41E-4FABA1FC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8C0E7-1D5F-4723-AE19-E67BB791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9E72A-3924-435F-87E3-C3BA0C69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75186-A843-4088-BB3F-BBEF228A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8F1FE-7E87-4F56-B476-9849432F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FB7C6-67E9-4A12-AC26-100BE5CB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29C-7847-4387-B7C5-9095BDF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B2B43-A8A1-4A71-9218-4351A4E9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916F8-0F27-456A-883A-BFABBA64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523F9-BDDE-4AB1-B59B-881A8933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5AE45-21C0-4456-9D60-A423DEB4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5B425-10CC-4EC0-86D1-49259EA4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D360-0A59-407F-BAC7-2ABF15C1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6490F-7552-49CE-B659-23FA1F27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6AA7C-1E1E-4BEF-A613-E818302A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C60CD-987F-4C90-8F45-68FF6C37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E73DB-3EBE-4B43-BE57-FE851F72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5C3-F3A4-4CE9-87C5-7EE17E47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408E5-A697-4023-8687-71C158B4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AD650-41ED-4796-8CBE-87DB6DC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6339D-165B-4E35-8F13-7E2D0669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60F85-5C5B-4417-A3D2-9C63431F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906E5-63EF-4C93-A981-768E510A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D1FED-11E0-4314-8EC4-B0924104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9209E-908E-4BD3-B33C-1143EAA6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BD5A5-BAD6-4DAF-9106-7F2F9F0C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92F7C-6809-472C-B7C3-D642F507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9D430-C10B-4936-9ECE-D43BB8B0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AB6D-5F00-430F-9ED3-A07AA11D9E0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4081-8B83-40F7-BF45-D48AEFEDBEB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C7C8-E17D-4302-98C8-9DAE7B57BB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8AF4-60ED-42D4-AEAB-E1EC268C2E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0E88-6F79-4F1A-A03F-A9997383315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8D70-FB6F-439C-896E-72D550FFBF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4945-DCA3-441D-8C99-4F78F40385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E49B-38B9-42EB-A751-9D9F963799C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77F3-869C-4690-A758-19CC5FE858F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http://discoveryeducation.typepad.com/pennsylvania/2007/02/a_more_reliable.html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www.classroom20.com/group/distancecollaboration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en.wikibooks.org/wiki/Main_Page" TargetMode="External"/><Relationship Id="rId4" Type="http://schemas.openxmlformats.org/officeDocument/2006/relationships/hyperlink" Target="http://en.wikipedia.org/wiki/Wiki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instructech.pbwiki.com/FrontPage" TargetMode="External"/><Relationship Id="rId4" Type="http://schemas.openxmlformats.org/officeDocument/2006/relationships/hyperlink" Target="http://te886.pbwiki.com/" TargetMode="External"/><Relationship Id="rId5" Type="http://schemas.openxmlformats.org/officeDocument/2006/relationships/hyperlink" Target="https://leta-learning.wikispaces.com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www.wikispaces.com/site/for/teachers100K" TargetMode="External"/><Relationship Id="rId4" Type="http://schemas.openxmlformats.org/officeDocument/2006/relationships/hyperlink" Target="http://pbwiki.com/" TargetMode="External"/><Relationship Id="rId5" Type="http://schemas.openxmlformats.org/officeDocument/2006/relationships/hyperlink" Target="http://pbwiki.com/" TargetMode="External"/><Relationship Id="rId6" Type="http://schemas.openxmlformats.org/officeDocument/2006/relationships/hyperlink" Target="http://pbwiki.com/" TargetMode="External"/><Relationship Id="rId7" Type="http://schemas.openxmlformats.org/officeDocument/2006/relationships/hyperlink" Target="http://pbwiki.com/" TargetMode="External"/><Relationship Id="rId8" Type="http://schemas.openxmlformats.org/officeDocument/2006/relationships/hyperlink" Target="http://www.wetpaint.com/" TargetMode="External"/><Relationship Id="rId9" Type="http://schemas.openxmlformats.org/officeDocument/2006/relationships/hyperlink" Target="http://www.wetpaint.com/" TargetMode="External"/><Relationship Id="rId10" Type="http://schemas.openxmlformats.org/officeDocument/2006/relationships/hyperlink" Target="http://www.wetpaint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www.teachersfirst.com/content/wiki/" TargetMode="External"/><Relationship Id="rId4" Type="http://schemas.openxmlformats.org/officeDocument/2006/relationships/hyperlink" Target="http://www.teachersfirst.com/content/wiki/" TargetMode="External"/><Relationship Id="rId5" Type="http://schemas.openxmlformats.org/officeDocument/2006/relationships/hyperlink" Target="http://www.teachersfirst.com/content/wiki/" TargetMode="External"/><Relationship Id="rId6" Type="http://schemas.openxmlformats.org/officeDocument/2006/relationships/hyperlink" Target="http://ikiw.org/" TargetMode="External"/><Relationship Id="rId7" Type="http://schemas.openxmlformats.org/officeDocument/2006/relationships/hyperlink" Target="http://ikiw.org/" TargetMode="External"/><Relationship Id="rId8" Type="http://schemas.openxmlformats.org/officeDocument/2006/relationships/hyperlink" Target="http://ikiw.org/" TargetMode="External"/><Relationship Id="rId9" Type="http://schemas.openxmlformats.org/officeDocument/2006/relationships/hyperlink" Target="http://www.teachinghacks.com/wiki/index.php?title=Wikis" TargetMode="External"/><Relationship Id="rId10" Type="http://schemas.openxmlformats.org/officeDocument/2006/relationships/hyperlink" Target="http://www.teachinghacks.com/wiki/index.php?title=Wikis" TargetMode="External"/><Relationship Id="rId11" Type="http://schemas.openxmlformats.org/officeDocument/2006/relationships/hyperlink" Target="http://www.teachinghacks.com/wiki/index.php?title=Wikis" TargetMode="External"/><Relationship Id="rId12" Type="http://schemas.openxmlformats.org/officeDocument/2006/relationships/hyperlink" Target="http://www.teachinghacks.com/wiki/index.php?title=Wikis" TargetMode="External"/><Relationship Id="rId13" Type="http://schemas.openxmlformats.org/officeDocument/2006/relationships/hyperlink" Target="http://dorman-data-digest.wikispaces.com/" TargetMode="External"/><Relationship Id="rId14" Type="http://schemas.openxmlformats.org/officeDocument/2006/relationships/hyperlink" Target="http://dorman-data-digest.wikispaces.com/" TargetMode="External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hyperlink" Target="http://jdorman.wikispaces.com/+Wikis" TargetMode="External"/><Relationship Id="rId4" Type="http://schemas.openxmlformats.org/officeDocument/2006/relationships/hyperlink" Target="http://jdorman.wikispaces.com/+Wikis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2"/>
          <a:stretch/>
        </p:blipFill>
        <p:spPr>
          <a:xfrm>
            <a:off x="-6480" y="804960"/>
            <a:ext cx="9156960" cy="2797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Ken Messersmith – Tommy Hans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University of Nebraska @ Kearne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asy to correct mistakes, rather than making it difficult to make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3124080" y="3962520"/>
            <a:ext cx="2438640" cy="74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3201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le wikis are very open, they provide a means to verify the validity of recent additions to the body of pag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clude a "Recent Changes" page—a specific list numbering recent edits, or a list of all the edits made within a given timeframe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85560" y="1676520"/>
            <a:ext cx="8529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pedia is as reliable as other external sources we rely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perly written articles cite the sources, and a reader should rely on the Wikipedia article as much, but no more, than the sources the article relies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n article doesn't cite its sources, it may or may not be reliable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More Reliable Wikipedia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discoveryeducation.typepad.com/pennsylvania/2007/02/a_more_reliable.html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tudent projects involving students who contribute at different times and from geographically diverse location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llaborating on ideas and organizing documents and resources from individuals and groups of students.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link to people who want to collaborate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valuation tool where students critically analyze a partner student’s work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roup research project for a specific id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nage school and classroom documents.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some features of Blackboard, Angel, etc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ollaborative worksheet for student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riting: student created books and journaling. (i.e.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ikibook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and maintain a classroom FAQ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lassroom discussion and debate ar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d a topic on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ikipedia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have students verify the facts using their information literacy skills, and make changes accordingly (Citing sources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Instructech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on student motiv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Teaching tool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LETA-Learning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for this confere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ikispaces -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www.wikispaces.com/site/for/teachers100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bwiki –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pbwiki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tpaint -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www.wetpaint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2"/>
          <a:stretch/>
        </p:blipFill>
        <p:spPr>
          <a:xfrm>
            <a:off x="396720" y="469800"/>
            <a:ext cx="8114040" cy="5168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1440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644e"/>
                </a:solidFill>
                <a:latin typeface="Franklin Gothic Book"/>
              </a:rPr>
              <a:t>Alvin Toffl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 Walk-Through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ww.teachersfirst.com/content/wiki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/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at’s a wiki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o uses wiki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ikis or blog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ow to use wikis with student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deas for activities, projects, collaborations, etc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ing wikis in Education (blog)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ikiw.org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assroom use of wiki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www.teachinghacks.com/wiki/index.php?title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1"/>
              </a:rPr>
              <a:t>=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2"/>
              </a:rPr>
              <a:t>Wikis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3"/>
              </a:rPr>
              <a:t>http://dorman-data-digest.wikispaces.com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4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2"/>
          <a:stretch/>
        </p:blipFill>
        <p:spPr>
          <a:xfrm>
            <a:off x="334800" y="1047600"/>
            <a:ext cx="8358480" cy="40672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43329"/>
                </a:solidFill>
                <a:latin typeface="Franklin Gothic Book"/>
              </a:rPr>
              <a:t>Eric Hoff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borrowed heavily from Jennifer Dorman’s extensive presentation on the Participatory Culture. Her materials are available at: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jdorman.wikispaces.com/+Wiki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This presentation available at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The LETA-Learning Wiki at: </a:t>
            </a: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http://leta-learning.wikispaces.com/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act informa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en Messersmith – messersmithk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mmy Hansen – hansent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4e3b30"/>
                </a:solidFill>
                <a:latin typeface="Franklin Gothic Book"/>
              </a:rPr>
              <a:t>Questions?</a:t>
            </a:r>
            <a:endParaRPr b="0" lang="en-US" sz="11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9" descr="MCj01345670000[1]"/>
          <p:cNvPicPr/>
          <p:nvPr/>
        </p:nvPicPr>
        <p:blipFill>
          <a:blip r:embed="rId2"/>
          <a:stretch/>
        </p:blipFill>
        <p:spPr>
          <a:xfrm rot="21005400">
            <a:off x="6361200" y="1941120"/>
            <a:ext cx="2495520" cy="355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e are preparing our students for a future we cannot describe.”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lan November – NETA keynote 2007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762120" y="39625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hat are the 21st century skills our students need to survive and thr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ccording to a recent study from the Pew Internet &amp; American Life project (Lenhardt &amp; Madden, 2005), more than one-half of all teens have created media content, and roughly one-third of teens who use the Internet have shared content they produc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"this may be the birth of a new era, perhaps even a golden one, on par with the Italian renaissance, or the rise of Athenian democracy“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Don Tapscott . Wikinomics: How Mass Collaboration Changes Everything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-360" y="1554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dividual expression → community involv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new literacies almost all involve social skills developed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rough collaboration and network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uilt on traditional literacy, research skills, technical skills, and critical analysis skills taught in the classroo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This presentation is about a Web 2.0 tool designed to facilitate collaborative work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iki means "quick" in Hawaiia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ll about quickly linking your information together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 free on-line writing space that allows users to add, modify and update its page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something is missing or incorrect, you can easily add your thoughts or make changes to the wik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t is essentially a fully editable web sit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p9254B"/>
          <p:cNvPicPr/>
          <p:nvPr/>
        </p:nvPicPr>
        <p:blipFill>
          <a:blip r:embed="rId3"/>
          <a:stretch/>
        </p:blipFill>
        <p:spPr>
          <a:xfrm>
            <a:off x="685800" y="1828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4502"/>
          <p:cNvPicPr/>
          <p:nvPr/>
        </p:nvPicPr>
        <p:blipFill>
          <a:blip r:embed="rId4"/>
          <a:stretch/>
        </p:blipFill>
        <p:spPr>
          <a:xfrm>
            <a:off x="52578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3:25:27Z</dcterms:created>
  <dc:creator>JDORMAN</dc:creator>
  <dc:description/>
  <dc:language>en-US</dc:language>
  <cp:lastModifiedBy>Ken Messersmithk</cp:lastModifiedBy>
  <dcterms:modified xsi:type="dcterms:W3CDTF">2007-10-29T03:01:44Z</dcterms:modified>
  <cp:revision>92</cp:revision>
  <dc:subject/>
  <dc:title>Teaching for Rigor and Relev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