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482AA-9671-4615-B747-EA6E7CEE3D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1089C-0D2A-4B3B-B49D-7818AEFDA2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991C9-755C-49E2-B1C5-973472A49B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B7D81-DECA-42E8-BF8B-DB323DDF16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B3DD1-3BAA-429A-9D13-223F0A093B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E4811-69CE-4B20-84A8-052737D253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9110C-2028-4124-87A4-B57C844456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313A4-3E2D-415D-9466-15FE69195D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E5184-CCBC-4E32-86D1-DA02CF5ED5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59F9-C453-427C-B70A-9E93FFF81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2770-7613-4F38-A9E1-7D93FDC62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4687-7C51-4C52-B170-5DBE4C99C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A1D2-AE7B-453D-8ED5-BB2E5D9AC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B394A-0F78-446B-9040-9ABE272B0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90A64-1144-4F4A-ACFB-39FC90227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47D7E-AE46-4B10-BEB8-6DC512573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D7601-B649-47DB-B675-D1CDE96AE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1FD8B-D62E-488D-BE3E-B4F3FA1C7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57E9B-5BF2-4808-9016-0BDD497A0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053FA-C61D-493C-BF9A-052778F5A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F398-83E0-44EF-8A01-349352340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28C2B-7389-4CFB-A842-597DF5B17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D2F96-4C8E-4856-BFF4-7263CCFA6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C9785-BB57-412B-A4DB-17538C4EB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79631-FE0B-4588-82C7-C0045756A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0BA47-8856-444C-8E1F-39876A869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31069B-D82E-4AB3-9C27-9AA843F27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FE5C0A-21E7-4ECF-932B-7F63C2A0E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998F33-AA9E-4EA9-9FAC-804864CE7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0A9C1A-7573-49EE-975E-CAB19E1A4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CDED36-4D97-43FB-B49E-7F485EE97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C98C-3A11-4DC0-9127-E19F9835C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2B7AF4-5609-4950-9959-526393E39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0C6F2E-1768-438A-9425-6E5DB75F2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28CE2E-4150-4AED-AC41-4265F9B34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F6ABC2-61E9-4D50-A035-7D7FD3EB8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E1A781-58BA-4D5E-AA28-5260A2674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F65B0A-CFED-4430-8DEB-D1114D436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E69BA5-0431-4B28-A6AC-E999C82AC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C1B7DC9-C2B9-4D1F-BAD7-DFA6BD03F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9C68801-BB00-4CBF-A395-7DD191553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CA22BF8-76BC-4157-9E8A-9868499B6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DF2E-7357-45B5-984C-7DF5C6913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32082FF-3E05-4F2D-A686-66F71A23A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84A6190-2EB2-40E5-AFF2-4A8EB5DE9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30F09D7-015D-4F8B-A6E6-2F627D6F3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544758B-8DF5-461D-BFAE-5AE64B71D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12BE5F2-C779-42A4-AB05-CB64F13B4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5A20316-C2C9-48A0-9054-11BB8DA79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58CDA15-9629-4A06-80B2-93822D936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077AA09-618F-4A19-B6A4-A3342A794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814E582-DF74-4773-80F3-443CF980C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C9832C-6FD7-42E5-AB53-661B78A43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C9BF-E936-4D75-AF19-2D91DC41C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B72295-B274-4B88-9257-09C39BFF1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1E6BF0-085A-46FF-A094-EDBEC5F07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DD1150-1501-4F53-B805-8D7F04300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7782DD-BEFB-4948-A276-FA7DD129B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616C16E-4622-4A47-9BA9-AB0CACF99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4ADBFF-5CE3-4886-8981-D9416D028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CE4C29-AE05-43F4-9933-61B0C56BD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2E4EF0-75FB-4489-A047-5091BDE0D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58DCA7D-347F-4506-94FB-2292AF6FD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2DC498-0413-4B94-B72E-23B15E2CB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BAE8-EB7C-442C-86F4-9E3184884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63E22A-C6AF-4E5E-82CF-8FD7CF69D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9568C5-8BFA-4792-8DD5-016DDAAD2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530476-493F-4DFE-AE92-F5A512932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A89FF1-3419-450D-B048-ED14C9018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559C96-343F-4965-9C48-E8B613BC4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EDFC52-1D34-47D2-A24F-6A565D7CB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4D918C-7F79-45B2-BFDF-FC275F70B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265DCE-2D35-4100-A25D-FF297D209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8061AB-0B81-4549-8A13-B66BF0419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DCFD9F-6622-4A53-9724-AC3FAC4C3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2EB6-7225-4D10-9796-3561F3232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622DC2-DE3A-4582-A8E8-E80420E8D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7EF73B-6D33-4051-AA77-1496F1BCD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B9477B-8C2B-4134-8E32-28CCBA0C7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4A27D40-8E49-406B-A186-5E493B881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6C3A15D-F90C-4B00-AF8A-5ECD91482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55E4650-12A4-49B4-A234-1495192C6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9983C33-229B-4C44-9CB1-A2CF07B6C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A9C368B-3881-49CB-B71D-4AB455093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907FCBE-4706-4491-8245-AA9CA4F2E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0BD84A1-FFA0-46A6-8022-D0A79E29C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AEFD-9D5B-4142-A86F-0B844DC14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DD3A22F-262F-4D56-A829-A5A9353BF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BE205BB-16DC-480F-8DB5-A667A66F1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2F2E468-B2FA-4C88-9BD2-5D7058A1F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9307D82-920D-4829-B20C-E734FE890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E9EDC77-97D8-452A-968A-A56DCDB76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A3B3A2-7EFE-42B1-B56E-D9B1204AA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9323AC-13FB-4D75-A26C-05F58A241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10F5B3-122C-4960-A183-4FADAA546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92DF77-4A63-4488-BD0A-FDE491F80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15A9A8-AD64-4A97-AE2F-B51BE9D21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457A-7E4B-44DD-AB96-FB3F3FA8B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28E405-57A5-4F66-8547-6A3AB0D9A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B395C6-E806-44F1-B4C6-BE5B79A60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A4317D-B37A-444E-AE42-DDFF3A873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CD0A06-1C42-4447-B7D3-3E9037169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66EE01-A381-4129-BD0F-EE7C9C7AA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1C71A9-FD31-4343-AA7E-3513A3BC1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352D19-3D0B-4AF6-8B57-FECBE507F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6FC66-235F-4BC1-8895-AA06CA18C9DD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FC41A-1852-4280-9812-F09BF2DC6E62}" type="slidenum">
              <a:rPr b="1" lang="en-US" sz="1400" spc="-1" strike="noStrike">
                <a:solidFill>
                  <a:srgbClr val="ebddc3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02FA6-5AED-46E1-98E6-6EBF18B43DB8}" type="slidenum">
              <a:rPr b="1" lang="en-US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AE6E2-5326-4BE1-9831-58A064B35F73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D5012-8FFE-4315-8A39-9ACCD79A1912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9EF23-50B9-4283-8692-0F08106FC3E6}" type="slidenum">
              <a:rPr b="1" lang="en-US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F8D9D-0209-4953-B1B2-039FBC33B048}" type="slidenum">
              <a:rPr b="1" lang="en-US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78BD9-6DF8-4D4F-9C2A-92D00E07FF0F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pandia.com/goalgetter/2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learnwebskills.com/search/prepare.html" TargetMode="External"/><Relationship Id="rId2" Type="http://schemas.openxmlformats.org/officeDocument/2006/relationships/hyperlink" Target="http://www.learnwebskills.com/search/prepare.html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google.com/advanced_search?hl=en" TargetMode="Externa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80520" y="1523880"/>
            <a:ext cx="853452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bddc3"/>
                </a:solidFill>
                <a:latin typeface="Tw Cen MT"/>
              </a:rPr>
              <a:t>GETTING WHAT YOU WANT</a:t>
            </a:r>
            <a:br>
              <a:rPr sz="5400"/>
            </a:br>
            <a:r>
              <a:rPr b="0" lang="en-US" sz="5400" spc="-1" strike="noStrike">
                <a:solidFill>
                  <a:srgbClr val="ebddc3"/>
                </a:solidFill>
                <a:latin typeface="Tw Cen MT"/>
              </a:rPr>
              <a:t> FROM THE WEB</a:t>
            </a:r>
            <a:endParaRPr b="0" lang="en-US" sz="5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Ken Messersmith – Tommy Hansen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University of Nebraska @ Kearney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earching is easy but…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90160" indent="-2901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w Cen MT"/>
              </a:rPr>
              <a:t>HOW DO WE teach our students to determine the validity of information?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w Cen MT"/>
              </a:rPr>
              <a:t>Is the information reliable?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w Cen MT"/>
              </a:rPr>
              <a:t>Check the author's credentials and affiliation. Is the author an expert in the field?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w Cen MT"/>
              </a:rPr>
              <a:t>Does the resource have a reputable organization or expert behind it?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w Cen MT"/>
              </a:rPr>
              <a:t>Are the sources of information stated? Can you verify the information?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w Cen MT"/>
              </a:rPr>
              <a:t>Can the author be contacted for clarification?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w Cen MT"/>
              </a:rPr>
              <a:t>Is the information factual or opinion?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w Cen MT"/>
              </a:rPr>
              <a:t>Does the site contain original information or simply links?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w Cen MT"/>
              </a:rPr>
              <a:t>How frequently is the resource updated?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w Cen MT"/>
              </a:rPr>
              <a:t>Does the site have clear and obvious pointers to new content?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Excellent resources 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e Center for Media Literacy - Medialit.org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Kathy Schrock’s Web site –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http://school.discoveryeducation.com/schrockguide/eval.htm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This presentation available at: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w Cen MT"/>
              </a:rPr>
              <a:t>The LETA-Learning Wiki at: http://leta-learning.wikispaces.com/</a:t>
            </a:r>
            <a:endParaRPr b="0" lang="en-US" sz="41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ontact information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Ken Messersmith – messersmithk@unk.edu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Tommy Hansen – hansent@unk.edu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4920" y="2133360"/>
            <a:ext cx="8153280" cy="29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800" spc="-1" strike="noStrike">
                <a:solidFill>
                  <a:srgbClr val="000000"/>
                </a:solidFill>
                <a:latin typeface="Tw Cen MT"/>
              </a:rPr>
              <a:t>Questions?</a:t>
            </a:r>
            <a:endParaRPr b="0" lang="en-US" sz="11800" spc="-1" strike="noStrike">
              <a:solidFill>
                <a:srgbClr val="000000"/>
              </a:solidFill>
              <a:latin typeface="Tw Cen MT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5867280" y="2334960"/>
            <a:ext cx="2440080" cy="3510000"/>
            <a:chOff x="5867280" y="2334960"/>
            <a:chExt cx="2440080" cy="3510000"/>
          </a:xfrm>
        </p:grpSpPr>
        <p:sp>
          <p:nvSpPr>
            <p:cNvPr id="386" name=""/>
            <p:cNvSpPr/>
            <p:nvPr/>
          </p:nvSpPr>
          <p:spPr>
            <a:xfrm>
              <a:off x="5867280" y="2334960"/>
              <a:ext cx="2440080" cy="3510000"/>
            </a:xfrm>
            <a:custGeom>
              <a:avLst/>
              <a:gdLst/>
              <a:ahLst/>
              <a:rect l="l" t="t" r="r" b="b"/>
              <a:pathLst>
                <a:path w="3081" h="4427">
                  <a:moveTo>
                    <a:pt x="2657" y="40"/>
                  </a:moveTo>
                  <a:lnTo>
                    <a:pt x="2659" y="77"/>
                  </a:lnTo>
                  <a:lnTo>
                    <a:pt x="2660" y="114"/>
                  </a:lnTo>
                  <a:lnTo>
                    <a:pt x="2658" y="151"/>
                  </a:lnTo>
                  <a:lnTo>
                    <a:pt x="2657" y="190"/>
                  </a:lnTo>
                  <a:lnTo>
                    <a:pt x="2654" y="227"/>
                  </a:lnTo>
                  <a:lnTo>
                    <a:pt x="2651" y="264"/>
                  </a:lnTo>
                  <a:lnTo>
                    <a:pt x="2648" y="302"/>
                  </a:lnTo>
                  <a:lnTo>
                    <a:pt x="2647" y="339"/>
                  </a:lnTo>
                  <a:lnTo>
                    <a:pt x="2646" y="347"/>
                  </a:lnTo>
                  <a:lnTo>
                    <a:pt x="2644" y="356"/>
                  </a:lnTo>
                  <a:lnTo>
                    <a:pt x="2642" y="364"/>
                  </a:lnTo>
                  <a:lnTo>
                    <a:pt x="2641" y="373"/>
                  </a:lnTo>
                  <a:lnTo>
                    <a:pt x="2639" y="381"/>
                  </a:lnTo>
                  <a:lnTo>
                    <a:pt x="2639" y="391"/>
                  </a:lnTo>
                  <a:lnTo>
                    <a:pt x="2638" y="399"/>
                  </a:lnTo>
                  <a:lnTo>
                    <a:pt x="2640" y="407"/>
                  </a:lnTo>
                  <a:lnTo>
                    <a:pt x="2664" y="372"/>
                  </a:lnTo>
                  <a:lnTo>
                    <a:pt x="2687" y="337"/>
                  </a:lnTo>
                  <a:lnTo>
                    <a:pt x="2708" y="300"/>
                  </a:lnTo>
                  <a:lnTo>
                    <a:pt x="2730" y="263"/>
                  </a:lnTo>
                  <a:lnTo>
                    <a:pt x="2754" y="227"/>
                  </a:lnTo>
                  <a:lnTo>
                    <a:pt x="2781" y="195"/>
                  </a:lnTo>
                  <a:lnTo>
                    <a:pt x="2812" y="165"/>
                  </a:lnTo>
                  <a:lnTo>
                    <a:pt x="2849" y="139"/>
                  </a:lnTo>
                  <a:lnTo>
                    <a:pt x="2857" y="138"/>
                  </a:lnTo>
                  <a:lnTo>
                    <a:pt x="2865" y="139"/>
                  </a:lnTo>
                  <a:lnTo>
                    <a:pt x="2872" y="141"/>
                  </a:lnTo>
                  <a:lnTo>
                    <a:pt x="2881" y="144"/>
                  </a:lnTo>
                  <a:lnTo>
                    <a:pt x="2887" y="147"/>
                  </a:lnTo>
                  <a:lnTo>
                    <a:pt x="2893" y="153"/>
                  </a:lnTo>
                  <a:lnTo>
                    <a:pt x="2898" y="160"/>
                  </a:lnTo>
                  <a:lnTo>
                    <a:pt x="2902" y="168"/>
                  </a:lnTo>
                  <a:lnTo>
                    <a:pt x="2906" y="175"/>
                  </a:lnTo>
                  <a:lnTo>
                    <a:pt x="2909" y="184"/>
                  </a:lnTo>
                  <a:lnTo>
                    <a:pt x="2912" y="191"/>
                  </a:lnTo>
                  <a:lnTo>
                    <a:pt x="2915" y="200"/>
                  </a:lnTo>
                  <a:lnTo>
                    <a:pt x="2916" y="207"/>
                  </a:lnTo>
                  <a:lnTo>
                    <a:pt x="2916" y="216"/>
                  </a:lnTo>
                  <a:lnTo>
                    <a:pt x="2914" y="224"/>
                  </a:lnTo>
                  <a:lnTo>
                    <a:pt x="2911" y="233"/>
                  </a:lnTo>
                  <a:lnTo>
                    <a:pt x="2903" y="274"/>
                  </a:lnTo>
                  <a:lnTo>
                    <a:pt x="2895" y="314"/>
                  </a:lnTo>
                  <a:lnTo>
                    <a:pt x="2885" y="352"/>
                  </a:lnTo>
                  <a:lnTo>
                    <a:pt x="2874" y="392"/>
                  </a:lnTo>
                  <a:lnTo>
                    <a:pt x="2862" y="430"/>
                  </a:lnTo>
                  <a:lnTo>
                    <a:pt x="2851" y="468"/>
                  </a:lnTo>
                  <a:lnTo>
                    <a:pt x="2838" y="506"/>
                  </a:lnTo>
                  <a:lnTo>
                    <a:pt x="2828" y="545"/>
                  </a:lnTo>
                  <a:lnTo>
                    <a:pt x="2834" y="543"/>
                  </a:lnTo>
                  <a:lnTo>
                    <a:pt x="2854" y="518"/>
                  </a:lnTo>
                  <a:lnTo>
                    <a:pt x="2873" y="494"/>
                  </a:lnTo>
                  <a:lnTo>
                    <a:pt x="2892" y="471"/>
                  </a:lnTo>
                  <a:lnTo>
                    <a:pt x="2914" y="447"/>
                  </a:lnTo>
                  <a:lnTo>
                    <a:pt x="2935" y="424"/>
                  </a:lnTo>
                  <a:lnTo>
                    <a:pt x="2958" y="403"/>
                  </a:lnTo>
                  <a:lnTo>
                    <a:pt x="2984" y="386"/>
                  </a:lnTo>
                  <a:lnTo>
                    <a:pt x="3013" y="372"/>
                  </a:lnTo>
                  <a:lnTo>
                    <a:pt x="3023" y="369"/>
                  </a:lnTo>
                  <a:lnTo>
                    <a:pt x="3032" y="369"/>
                  </a:lnTo>
                  <a:lnTo>
                    <a:pt x="3040" y="370"/>
                  </a:lnTo>
                  <a:lnTo>
                    <a:pt x="3048" y="373"/>
                  </a:lnTo>
                  <a:lnTo>
                    <a:pt x="3055" y="377"/>
                  </a:lnTo>
                  <a:lnTo>
                    <a:pt x="3062" y="383"/>
                  </a:lnTo>
                  <a:lnTo>
                    <a:pt x="3068" y="390"/>
                  </a:lnTo>
                  <a:lnTo>
                    <a:pt x="3075" y="399"/>
                  </a:lnTo>
                  <a:lnTo>
                    <a:pt x="3081" y="431"/>
                  </a:lnTo>
                  <a:lnTo>
                    <a:pt x="3081" y="462"/>
                  </a:lnTo>
                  <a:lnTo>
                    <a:pt x="3075" y="492"/>
                  </a:lnTo>
                  <a:lnTo>
                    <a:pt x="3068" y="522"/>
                  </a:lnTo>
                  <a:lnTo>
                    <a:pt x="3057" y="550"/>
                  </a:lnTo>
                  <a:lnTo>
                    <a:pt x="3046" y="579"/>
                  </a:lnTo>
                  <a:lnTo>
                    <a:pt x="3034" y="607"/>
                  </a:lnTo>
                  <a:lnTo>
                    <a:pt x="3026" y="636"/>
                  </a:lnTo>
                  <a:lnTo>
                    <a:pt x="2988" y="699"/>
                  </a:lnTo>
                  <a:lnTo>
                    <a:pt x="2961" y="767"/>
                  </a:lnTo>
                  <a:lnTo>
                    <a:pt x="2938" y="836"/>
                  </a:lnTo>
                  <a:lnTo>
                    <a:pt x="2917" y="907"/>
                  </a:lnTo>
                  <a:lnTo>
                    <a:pt x="2892" y="974"/>
                  </a:lnTo>
                  <a:lnTo>
                    <a:pt x="2863" y="1040"/>
                  </a:lnTo>
                  <a:lnTo>
                    <a:pt x="2824" y="1103"/>
                  </a:lnTo>
                  <a:lnTo>
                    <a:pt x="2774" y="1158"/>
                  </a:lnTo>
                  <a:lnTo>
                    <a:pt x="2767" y="1167"/>
                  </a:lnTo>
                  <a:lnTo>
                    <a:pt x="2758" y="1176"/>
                  </a:lnTo>
                  <a:lnTo>
                    <a:pt x="2749" y="1183"/>
                  </a:lnTo>
                  <a:lnTo>
                    <a:pt x="2740" y="1191"/>
                  </a:lnTo>
                  <a:lnTo>
                    <a:pt x="2729" y="1197"/>
                  </a:lnTo>
                  <a:lnTo>
                    <a:pt x="2721" y="1205"/>
                  </a:lnTo>
                  <a:lnTo>
                    <a:pt x="2713" y="1212"/>
                  </a:lnTo>
                  <a:lnTo>
                    <a:pt x="2709" y="1223"/>
                  </a:lnTo>
                  <a:lnTo>
                    <a:pt x="2709" y="1236"/>
                  </a:lnTo>
                  <a:lnTo>
                    <a:pt x="2708" y="1252"/>
                  </a:lnTo>
                  <a:lnTo>
                    <a:pt x="2707" y="1267"/>
                  </a:lnTo>
                  <a:lnTo>
                    <a:pt x="2707" y="1283"/>
                  </a:lnTo>
                  <a:lnTo>
                    <a:pt x="2706" y="1296"/>
                  </a:lnTo>
                  <a:lnTo>
                    <a:pt x="2709" y="1310"/>
                  </a:lnTo>
                  <a:lnTo>
                    <a:pt x="2714" y="1321"/>
                  </a:lnTo>
                  <a:lnTo>
                    <a:pt x="2724" y="1331"/>
                  </a:lnTo>
                  <a:lnTo>
                    <a:pt x="2729" y="1330"/>
                  </a:lnTo>
                  <a:lnTo>
                    <a:pt x="2736" y="1334"/>
                  </a:lnTo>
                  <a:lnTo>
                    <a:pt x="2740" y="1337"/>
                  </a:lnTo>
                  <a:lnTo>
                    <a:pt x="2745" y="1342"/>
                  </a:lnTo>
                  <a:lnTo>
                    <a:pt x="2748" y="1346"/>
                  </a:lnTo>
                  <a:lnTo>
                    <a:pt x="2752" y="1351"/>
                  </a:lnTo>
                  <a:lnTo>
                    <a:pt x="2755" y="1356"/>
                  </a:lnTo>
                  <a:lnTo>
                    <a:pt x="2759" y="1360"/>
                  </a:lnTo>
                  <a:lnTo>
                    <a:pt x="2762" y="1382"/>
                  </a:lnTo>
                  <a:lnTo>
                    <a:pt x="2767" y="1406"/>
                  </a:lnTo>
                  <a:lnTo>
                    <a:pt x="2773" y="1429"/>
                  </a:lnTo>
                  <a:lnTo>
                    <a:pt x="2779" y="1453"/>
                  </a:lnTo>
                  <a:lnTo>
                    <a:pt x="2781" y="1475"/>
                  </a:lnTo>
                  <a:lnTo>
                    <a:pt x="2781" y="1498"/>
                  </a:lnTo>
                  <a:lnTo>
                    <a:pt x="2774" y="1520"/>
                  </a:lnTo>
                  <a:lnTo>
                    <a:pt x="2762" y="1542"/>
                  </a:lnTo>
                  <a:lnTo>
                    <a:pt x="2768" y="1571"/>
                  </a:lnTo>
                  <a:lnTo>
                    <a:pt x="2775" y="1601"/>
                  </a:lnTo>
                  <a:lnTo>
                    <a:pt x="2780" y="1632"/>
                  </a:lnTo>
                  <a:lnTo>
                    <a:pt x="2785" y="1664"/>
                  </a:lnTo>
                  <a:lnTo>
                    <a:pt x="2788" y="1695"/>
                  </a:lnTo>
                  <a:lnTo>
                    <a:pt x="2792" y="1727"/>
                  </a:lnTo>
                  <a:lnTo>
                    <a:pt x="2794" y="1759"/>
                  </a:lnTo>
                  <a:lnTo>
                    <a:pt x="2797" y="1794"/>
                  </a:lnTo>
                  <a:lnTo>
                    <a:pt x="2801" y="1796"/>
                  </a:lnTo>
                  <a:lnTo>
                    <a:pt x="2798" y="1819"/>
                  </a:lnTo>
                  <a:lnTo>
                    <a:pt x="2798" y="1843"/>
                  </a:lnTo>
                  <a:lnTo>
                    <a:pt x="2799" y="1868"/>
                  </a:lnTo>
                  <a:lnTo>
                    <a:pt x="2801" y="1893"/>
                  </a:lnTo>
                  <a:lnTo>
                    <a:pt x="2802" y="1918"/>
                  </a:lnTo>
                  <a:lnTo>
                    <a:pt x="2804" y="1944"/>
                  </a:lnTo>
                  <a:lnTo>
                    <a:pt x="2805" y="1970"/>
                  </a:lnTo>
                  <a:lnTo>
                    <a:pt x="2805" y="1997"/>
                  </a:lnTo>
                  <a:lnTo>
                    <a:pt x="2809" y="2001"/>
                  </a:lnTo>
                  <a:lnTo>
                    <a:pt x="2811" y="2054"/>
                  </a:lnTo>
                  <a:lnTo>
                    <a:pt x="2812" y="2106"/>
                  </a:lnTo>
                  <a:lnTo>
                    <a:pt x="2811" y="2159"/>
                  </a:lnTo>
                  <a:lnTo>
                    <a:pt x="2809" y="2213"/>
                  </a:lnTo>
                  <a:lnTo>
                    <a:pt x="2805" y="2266"/>
                  </a:lnTo>
                  <a:lnTo>
                    <a:pt x="2802" y="2319"/>
                  </a:lnTo>
                  <a:lnTo>
                    <a:pt x="2798" y="2372"/>
                  </a:lnTo>
                  <a:lnTo>
                    <a:pt x="2795" y="2426"/>
                  </a:lnTo>
                  <a:lnTo>
                    <a:pt x="2787" y="2472"/>
                  </a:lnTo>
                  <a:lnTo>
                    <a:pt x="2781" y="2520"/>
                  </a:lnTo>
                  <a:lnTo>
                    <a:pt x="2773" y="2566"/>
                  </a:lnTo>
                  <a:lnTo>
                    <a:pt x="2766" y="2614"/>
                  </a:lnTo>
                  <a:lnTo>
                    <a:pt x="2756" y="2660"/>
                  </a:lnTo>
                  <a:lnTo>
                    <a:pt x="2747" y="2706"/>
                  </a:lnTo>
                  <a:lnTo>
                    <a:pt x="2737" y="2752"/>
                  </a:lnTo>
                  <a:lnTo>
                    <a:pt x="2726" y="2797"/>
                  </a:lnTo>
                  <a:lnTo>
                    <a:pt x="2736" y="2793"/>
                  </a:lnTo>
                  <a:lnTo>
                    <a:pt x="2746" y="2790"/>
                  </a:lnTo>
                  <a:lnTo>
                    <a:pt x="2755" y="2786"/>
                  </a:lnTo>
                  <a:lnTo>
                    <a:pt x="2766" y="2783"/>
                  </a:lnTo>
                  <a:lnTo>
                    <a:pt x="2775" y="2780"/>
                  </a:lnTo>
                  <a:lnTo>
                    <a:pt x="2785" y="2779"/>
                  </a:lnTo>
                  <a:lnTo>
                    <a:pt x="2796" y="2780"/>
                  </a:lnTo>
                  <a:lnTo>
                    <a:pt x="2807" y="2785"/>
                  </a:lnTo>
                  <a:lnTo>
                    <a:pt x="2816" y="2790"/>
                  </a:lnTo>
                  <a:lnTo>
                    <a:pt x="2826" y="2797"/>
                  </a:lnTo>
                  <a:lnTo>
                    <a:pt x="2832" y="2806"/>
                  </a:lnTo>
                  <a:lnTo>
                    <a:pt x="2839" y="2816"/>
                  </a:lnTo>
                  <a:lnTo>
                    <a:pt x="2843" y="2825"/>
                  </a:lnTo>
                  <a:lnTo>
                    <a:pt x="2848" y="2837"/>
                  </a:lnTo>
                  <a:lnTo>
                    <a:pt x="2850" y="2848"/>
                  </a:lnTo>
                  <a:lnTo>
                    <a:pt x="2851" y="2861"/>
                  </a:lnTo>
                  <a:lnTo>
                    <a:pt x="2851" y="2881"/>
                  </a:lnTo>
                  <a:lnTo>
                    <a:pt x="2849" y="2902"/>
                  </a:lnTo>
                  <a:lnTo>
                    <a:pt x="2844" y="2922"/>
                  </a:lnTo>
                  <a:lnTo>
                    <a:pt x="2839" y="2941"/>
                  </a:lnTo>
                  <a:lnTo>
                    <a:pt x="2832" y="2960"/>
                  </a:lnTo>
                  <a:lnTo>
                    <a:pt x="2826" y="2979"/>
                  </a:lnTo>
                  <a:lnTo>
                    <a:pt x="2817" y="2997"/>
                  </a:lnTo>
                  <a:lnTo>
                    <a:pt x="2809" y="3016"/>
                  </a:lnTo>
                  <a:lnTo>
                    <a:pt x="2811" y="3038"/>
                  </a:lnTo>
                  <a:lnTo>
                    <a:pt x="2814" y="3061"/>
                  </a:lnTo>
                  <a:lnTo>
                    <a:pt x="2817" y="3084"/>
                  </a:lnTo>
                  <a:lnTo>
                    <a:pt x="2821" y="3109"/>
                  </a:lnTo>
                  <a:lnTo>
                    <a:pt x="2821" y="3132"/>
                  </a:lnTo>
                  <a:lnTo>
                    <a:pt x="2819" y="3156"/>
                  </a:lnTo>
                  <a:lnTo>
                    <a:pt x="2812" y="3178"/>
                  </a:lnTo>
                  <a:lnTo>
                    <a:pt x="2803" y="3199"/>
                  </a:lnTo>
                  <a:lnTo>
                    <a:pt x="2780" y="3248"/>
                  </a:lnTo>
                  <a:lnTo>
                    <a:pt x="2764" y="3300"/>
                  </a:lnTo>
                  <a:lnTo>
                    <a:pt x="2748" y="3353"/>
                  </a:lnTo>
                  <a:lnTo>
                    <a:pt x="2731" y="3406"/>
                  </a:lnTo>
                  <a:lnTo>
                    <a:pt x="2710" y="3454"/>
                  </a:lnTo>
                  <a:lnTo>
                    <a:pt x="2682" y="3499"/>
                  </a:lnTo>
                  <a:lnTo>
                    <a:pt x="2643" y="3536"/>
                  </a:lnTo>
                  <a:lnTo>
                    <a:pt x="2593" y="3565"/>
                  </a:lnTo>
                  <a:lnTo>
                    <a:pt x="2586" y="3564"/>
                  </a:lnTo>
                  <a:lnTo>
                    <a:pt x="2580" y="3564"/>
                  </a:lnTo>
                  <a:lnTo>
                    <a:pt x="2574" y="3564"/>
                  </a:lnTo>
                  <a:lnTo>
                    <a:pt x="2568" y="3565"/>
                  </a:lnTo>
                  <a:lnTo>
                    <a:pt x="2549" y="3590"/>
                  </a:lnTo>
                  <a:lnTo>
                    <a:pt x="2534" y="3617"/>
                  </a:lnTo>
                  <a:lnTo>
                    <a:pt x="2518" y="3645"/>
                  </a:lnTo>
                  <a:lnTo>
                    <a:pt x="2504" y="3674"/>
                  </a:lnTo>
                  <a:lnTo>
                    <a:pt x="2489" y="3702"/>
                  </a:lnTo>
                  <a:lnTo>
                    <a:pt x="2476" y="3732"/>
                  </a:lnTo>
                  <a:lnTo>
                    <a:pt x="2461" y="3761"/>
                  </a:lnTo>
                  <a:lnTo>
                    <a:pt x="2447" y="3790"/>
                  </a:lnTo>
                  <a:lnTo>
                    <a:pt x="2424" y="3858"/>
                  </a:lnTo>
                  <a:lnTo>
                    <a:pt x="2430" y="3873"/>
                  </a:lnTo>
                  <a:lnTo>
                    <a:pt x="2437" y="3887"/>
                  </a:lnTo>
                  <a:lnTo>
                    <a:pt x="2446" y="3902"/>
                  </a:lnTo>
                  <a:lnTo>
                    <a:pt x="2455" y="3916"/>
                  </a:lnTo>
                  <a:lnTo>
                    <a:pt x="2463" y="3930"/>
                  </a:lnTo>
                  <a:lnTo>
                    <a:pt x="2473" y="3944"/>
                  </a:lnTo>
                  <a:lnTo>
                    <a:pt x="2482" y="3958"/>
                  </a:lnTo>
                  <a:lnTo>
                    <a:pt x="2491" y="3971"/>
                  </a:lnTo>
                  <a:lnTo>
                    <a:pt x="2507" y="4003"/>
                  </a:lnTo>
                  <a:lnTo>
                    <a:pt x="2522" y="4037"/>
                  </a:lnTo>
                  <a:lnTo>
                    <a:pt x="2538" y="4069"/>
                  </a:lnTo>
                  <a:lnTo>
                    <a:pt x="2553" y="4102"/>
                  </a:lnTo>
                  <a:lnTo>
                    <a:pt x="2568" y="4134"/>
                  </a:lnTo>
                  <a:lnTo>
                    <a:pt x="2583" y="4167"/>
                  </a:lnTo>
                  <a:lnTo>
                    <a:pt x="2597" y="4200"/>
                  </a:lnTo>
                  <a:lnTo>
                    <a:pt x="2611" y="4233"/>
                  </a:lnTo>
                  <a:lnTo>
                    <a:pt x="2617" y="4237"/>
                  </a:lnTo>
                  <a:lnTo>
                    <a:pt x="2621" y="4243"/>
                  </a:lnTo>
                  <a:lnTo>
                    <a:pt x="2624" y="4249"/>
                  </a:lnTo>
                  <a:lnTo>
                    <a:pt x="2627" y="4255"/>
                  </a:lnTo>
                  <a:lnTo>
                    <a:pt x="2629" y="4260"/>
                  </a:lnTo>
                  <a:lnTo>
                    <a:pt x="2632" y="4266"/>
                  </a:lnTo>
                  <a:lnTo>
                    <a:pt x="2635" y="4270"/>
                  </a:lnTo>
                  <a:lnTo>
                    <a:pt x="2640" y="4273"/>
                  </a:lnTo>
                  <a:lnTo>
                    <a:pt x="2641" y="4282"/>
                  </a:lnTo>
                  <a:lnTo>
                    <a:pt x="2647" y="4290"/>
                  </a:lnTo>
                  <a:lnTo>
                    <a:pt x="2653" y="4298"/>
                  </a:lnTo>
                  <a:lnTo>
                    <a:pt x="2659" y="4308"/>
                  </a:lnTo>
                  <a:lnTo>
                    <a:pt x="2650" y="4308"/>
                  </a:lnTo>
                  <a:lnTo>
                    <a:pt x="2642" y="4305"/>
                  </a:lnTo>
                  <a:lnTo>
                    <a:pt x="2636" y="4300"/>
                  </a:lnTo>
                  <a:lnTo>
                    <a:pt x="2630" y="4296"/>
                  </a:lnTo>
                  <a:lnTo>
                    <a:pt x="2630" y="4301"/>
                  </a:lnTo>
                  <a:lnTo>
                    <a:pt x="2631" y="4308"/>
                  </a:lnTo>
                  <a:lnTo>
                    <a:pt x="2631" y="4314"/>
                  </a:lnTo>
                  <a:lnTo>
                    <a:pt x="2632" y="4323"/>
                  </a:lnTo>
                  <a:lnTo>
                    <a:pt x="2633" y="4329"/>
                  </a:lnTo>
                  <a:lnTo>
                    <a:pt x="2636" y="4335"/>
                  </a:lnTo>
                  <a:lnTo>
                    <a:pt x="2639" y="4340"/>
                  </a:lnTo>
                  <a:lnTo>
                    <a:pt x="2644" y="4345"/>
                  </a:lnTo>
                  <a:lnTo>
                    <a:pt x="2663" y="4345"/>
                  </a:lnTo>
                  <a:lnTo>
                    <a:pt x="2682" y="4345"/>
                  </a:lnTo>
                  <a:lnTo>
                    <a:pt x="2699" y="4344"/>
                  </a:lnTo>
                  <a:lnTo>
                    <a:pt x="2718" y="4343"/>
                  </a:lnTo>
                  <a:lnTo>
                    <a:pt x="2736" y="4342"/>
                  </a:lnTo>
                  <a:lnTo>
                    <a:pt x="2753" y="4342"/>
                  </a:lnTo>
                  <a:lnTo>
                    <a:pt x="2771" y="4343"/>
                  </a:lnTo>
                  <a:lnTo>
                    <a:pt x="2788" y="4347"/>
                  </a:lnTo>
                  <a:lnTo>
                    <a:pt x="2816" y="4343"/>
                  </a:lnTo>
                  <a:lnTo>
                    <a:pt x="2846" y="4343"/>
                  </a:lnTo>
                  <a:lnTo>
                    <a:pt x="2878" y="4343"/>
                  </a:lnTo>
                  <a:lnTo>
                    <a:pt x="2909" y="4345"/>
                  </a:lnTo>
                  <a:lnTo>
                    <a:pt x="2939" y="4346"/>
                  </a:lnTo>
                  <a:lnTo>
                    <a:pt x="2970" y="4347"/>
                  </a:lnTo>
                  <a:lnTo>
                    <a:pt x="3000" y="4346"/>
                  </a:lnTo>
                  <a:lnTo>
                    <a:pt x="3030" y="4345"/>
                  </a:lnTo>
                  <a:lnTo>
                    <a:pt x="3032" y="4355"/>
                  </a:lnTo>
                  <a:lnTo>
                    <a:pt x="3029" y="4364"/>
                  </a:lnTo>
                  <a:lnTo>
                    <a:pt x="3022" y="4368"/>
                  </a:lnTo>
                  <a:lnTo>
                    <a:pt x="3013" y="4370"/>
                  </a:lnTo>
                  <a:lnTo>
                    <a:pt x="2992" y="4367"/>
                  </a:lnTo>
                  <a:lnTo>
                    <a:pt x="2971" y="4367"/>
                  </a:lnTo>
                  <a:lnTo>
                    <a:pt x="2949" y="4367"/>
                  </a:lnTo>
                  <a:lnTo>
                    <a:pt x="2928" y="4367"/>
                  </a:lnTo>
                  <a:lnTo>
                    <a:pt x="2907" y="4367"/>
                  </a:lnTo>
                  <a:lnTo>
                    <a:pt x="2885" y="4368"/>
                  </a:lnTo>
                  <a:lnTo>
                    <a:pt x="2864" y="4369"/>
                  </a:lnTo>
                  <a:lnTo>
                    <a:pt x="2844" y="4370"/>
                  </a:lnTo>
                  <a:lnTo>
                    <a:pt x="2849" y="4366"/>
                  </a:lnTo>
                  <a:lnTo>
                    <a:pt x="2844" y="4364"/>
                  </a:lnTo>
                  <a:lnTo>
                    <a:pt x="2841" y="4365"/>
                  </a:lnTo>
                  <a:lnTo>
                    <a:pt x="2838" y="4368"/>
                  </a:lnTo>
                  <a:lnTo>
                    <a:pt x="2836" y="4370"/>
                  </a:lnTo>
                  <a:lnTo>
                    <a:pt x="2364" y="4368"/>
                  </a:lnTo>
                  <a:lnTo>
                    <a:pt x="2330" y="4368"/>
                  </a:lnTo>
                  <a:lnTo>
                    <a:pt x="2295" y="4368"/>
                  </a:lnTo>
                  <a:lnTo>
                    <a:pt x="2260" y="4368"/>
                  </a:lnTo>
                  <a:lnTo>
                    <a:pt x="2226" y="4368"/>
                  </a:lnTo>
                  <a:lnTo>
                    <a:pt x="2191" y="4368"/>
                  </a:lnTo>
                  <a:lnTo>
                    <a:pt x="2157" y="4368"/>
                  </a:lnTo>
                  <a:lnTo>
                    <a:pt x="2122" y="4368"/>
                  </a:lnTo>
                  <a:lnTo>
                    <a:pt x="2089" y="4370"/>
                  </a:lnTo>
                  <a:lnTo>
                    <a:pt x="2066" y="4380"/>
                  </a:lnTo>
                  <a:lnTo>
                    <a:pt x="2045" y="4386"/>
                  </a:lnTo>
                  <a:lnTo>
                    <a:pt x="2022" y="4389"/>
                  </a:lnTo>
                  <a:lnTo>
                    <a:pt x="2000" y="4391"/>
                  </a:lnTo>
                  <a:lnTo>
                    <a:pt x="1976" y="4391"/>
                  </a:lnTo>
                  <a:lnTo>
                    <a:pt x="1954" y="4391"/>
                  </a:lnTo>
                  <a:lnTo>
                    <a:pt x="1931" y="4392"/>
                  </a:lnTo>
                  <a:lnTo>
                    <a:pt x="1908" y="4395"/>
                  </a:lnTo>
                  <a:lnTo>
                    <a:pt x="1888" y="4397"/>
                  </a:lnTo>
                  <a:lnTo>
                    <a:pt x="1870" y="4401"/>
                  </a:lnTo>
                  <a:lnTo>
                    <a:pt x="1851" y="4405"/>
                  </a:lnTo>
                  <a:lnTo>
                    <a:pt x="1832" y="4411"/>
                  </a:lnTo>
                  <a:lnTo>
                    <a:pt x="1813" y="4414"/>
                  </a:lnTo>
                  <a:lnTo>
                    <a:pt x="1794" y="4418"/>
                  </a:lnTo>
                  <a:lnTo>
                    <a:pt x="1774" y="4420"/>
                  </a:lnTo>
                  <a:lnTo>
                    <a:pt x="1755" y="4422"/>
                  </a:lnTo>
                  <a:lnTo>
                    <a:pt x="1709" y="4424"/>
                  </a:lnTo>
                  <a:lnTo>
                    <a:pt x="1664" y="4426"/>
                  </a:lnTo>
                  <a:lnTo>
                    <a:pt x="1619" y="4426"/>
                  </a:lnTo>
                  <a:lnTo>
                    <a:pt x="1573" y="4427"/>
                  </a:lnTo>
                  <a:lnTo>
                    <a:pt x="1527" y="4426"/>
                  </a:lnTo>
                  <a:lnTo>
                    <a:pt x="1480" y="4426"/>
                  </a:lnTo>
                  <a:lnTo>
                    <a:pt x="1432" y="4426"/>
                  </a:lnTo>
                  <a:lnTo>
                    <a:pt x="1386" y="4426"/>
                  </a:lnTo>
                  <a:lnTo>
                    <a:pt x="1367" y="4422"/>
                  </a:lnTo>
                  <a:lnTo>
                    <a:pt x="1349" y="4419"/>
                  </a:lnTo>
                  <a:lnTo>
                    <a:pt x="1330" y="4415"/>
                  </a:lnTo>
                  <a:lnTo>
                    <a:pt x="1311" y="4412"/>
                  </a:lnTo>
                  <a:lnTo>
                    <a:pt x="1293" y="4406"/>
                  </a:lnTo>
                  <a:lnTo>
                    <a:pt x="1276" y="4401"/>
                  </a:lnTo>
                  <a:lnTo>
                    <a:pt x="1258" y="4393"/>
                  </a:lnTo>
                  <a:lnTo>
                    <a:pt x="1243" y="4385"/>
                  </a:lnTo>
                  <a:lnTo>
                    <a:pt x="1237" y="4386"/>
                  </a:lnTo>
                  <a:lnTo>
                    <a:pt x="1230" y="4388"/>
                  </a:lnTo>
                  <a:lnTo>
                    <a:pt x="1225" y="4386"/>
                  </a:lnTo>
                  <a:lnTo>
                    <a:pt x="1222" y="4381"/>
                  </a:lnTo>
                  <a:lnTo>
                    <a:pt x="1195" y="4371"/>
                  </a:lnTo>
                  <a:lnTo>
                    <a:pt x="1169" y="4367"/>
                  </a:lnTo>
                  <a:lnTo>
                    <a:pt x="1143" y="4364"/>
                  </a:lnTo>
                  <a:lnTo>
                    <a:pt x="1118" y="4364"/>
                  </a:lnTo>
                  <a:lnTo>
                    <a:pt x="1090" y="4364"/>
                  </a:lnTo>
                  <a:lnTo>
                    <a:pt x="1064" y="4366"/>
                  </a:lnTo>
                  <a:lnTo>
                    <a:pt x="1036" y="4366"/>
                  </a:lnTo>
                  <a:lnTo>
                    <a:pt x="1010" y="4366"/>
                  </a:lnTo>
                  <a:lnTo>
                    <a:pt x="883" y="4363"/>
                  </a:lnTo>
                  <a:lnTo>
                    <a:pt x="758" y="4363"/>
                  </a:lnTo>
                  <a:lnTo>
                    <a:pt x="632" y="4363"/>
                  </a:lnTo>
                  <a:lnTo>
                    <a:pt x="505" y="4365"/>
                  </a:lnTo>
                  <a:lnTo>
                    <a:pt x="379" y="4365"/>
                  </a:lnTo>
                  <a:lnTo>
                    <a:pt x="254" y="4366"/>
                  </a:lnTo>
                  <a:lnTo>
                    <a:pt x="128" y="4365"/>
                  </a:lnTo>
                  <a:lnTo>
                    <a:pt x="5" y="4364"/>
                  </a:lnTo>
                  <a:lnTo>
                    <a:pt x="0" y="4359"/>
                  </a:lnTo>
                  <a:lnTo>
                    <a:pt x="2" y="4355"/>
                  </a:lnTo>
                  <a:lnTo>
                    <a:pt x="5" y="4349"/>
                  </a:lnTo>
                  <a:lnTo>
                    <a:pt x="7" y="4345"/>
                  </a:lnTo>
                  <a:lnTo>
                    <a:pt x="50" y="4343"/>
                  </a:lnTo>
                  <a:lnTo>
                    <a:pt x="91" y="4342"/>
                  </a:lnTo>
                  <a:lnTo>
                    <a:pt x="131" y="4342"/>
                  </a:lnTo>
                  <a:lnTo>
                    <a:pt x="172" y="4343"/>
                  </a:lnTo>
                  <a:lnTo>
                    <a:pt x="211" y="4343"/>
                  </a:lnTo>
                  <a:lnTo>
                    <a:pt x="253" y="4344"/>
                  </a:lnTo>
                  <a:lnTo>
                    <a:pt x="293" y="4345"/>
                  </a:lnTo>
                  <a:lnTo>
                    <a:pt x="336" y="4347"/>
                  </a:lnTo>
                  <a:lnTo>
                    <a:pt x="344" y="4343"/>
                  </a:lnTo>
                  <a:lnTo>
                    <a:pt x="353" y="4344"/>
                  </a:lnTo>
                  <a:lnTo>
                    <a:pt x="362" y="4345"/>
                  </a:lnTo>
                  <a:lnTo>
                    <a:pt x="372" y="4347"/>
                  </a:lnTo>
                  <a:lnTo>
                    <a:pt x="406" y="4347"/>
                  </a:lnTo>
                  <a:lnTo>
                    <a:pt x="442" y="4347"/>
                  </a:lnTo>
                  <a:lnTo>
                    <a:pt x="477" y="4347"/>
                  </a:lnTo>
                  <a:lnTo>
                    <a:pt x="515" y="4347"/>
                  </a:lnTo>
                  <a:lnTo>
                    <a:pt x="551" y="4346"/>
                  </a:lnTo>
                  <a:lnTo>
                    <a:pt x="587" y="4346"/>
                  </a:lnTo>
                  <a:lnTo>
                    <a:pt x="623" y="4346"/>
                  </a:lnTo>
                  <a:lnTo>
                    <a:pt x="661" y="4347"/>
                  </a:lnTo>
                  <a:lnTo>
                    <a:pt x="669" y="4345"/>
                  </a:lnTo>
                  <a:lnTo>
                    <a:pt x="677" y="4347"/>
                  </a:lnTo>
                  <a:lnTo>
                    <a:pt x="686" y="4348"/>
                  </a:lnTo>
                  <a:lnTo>
                    <a:pt x="694" y="4347"/>
                  </a:lnTo>
                  <a:lnTo>
                    <a:pt x="703" y="4349"/>
                  </a:lnTo>
                  <a:lnTo>
                    <a:pt x="712" y="4352"/>
                  </a:lnTo>
                  <a:lnTo>
                    <a:pt x="722" y="4353"/>
                  </a:lnTo>
                  <a:lnTo>
                    <a:pt x="731" y="4352"/>
                  </a:lnTo>
                  <a:lnTo>
                    <a:pt x="732" y="4345"/>
                  </a:lnTo>
                  <a:lnTo>
                    <a:pt x="731" y="4340"/>
                  </a:lnTo>
                  <a:lnTo>
                    <a:pt x="728" y="4335"/>
                  </a:lnTo>
                  <a:lnTo>
                    <a:pt x="725" y="4331"/>
                  </a:lnTo>
                  <a:lnTo>
                    <a:pt x="697" y="4320"/>
                  </a:lnTo>
                  <a:lnTo>
                    <a:pt x="671" y="4306"/>
                  </a:lnTo>
                  <a:lnTo>
                    <a:pt x="646" y="4286"/>
                  </a:lnTo>
                  <a:lnTo>
                    <a:pt x="624" y="4263"/>
                  </a:lnTo>
                  <a:lnTo>
                    <a:pt x="604" y="4238"/>
                  </a:lnTo>
                  <a:lnTo>
                    <a:pt x="585" y="4212"/>
                  </a:lnTo>
                  <a:lnTo>
                    <a:pt x="569" y="4185"/>
                  </a:lnTo>
                  <a:lnTo>
                    <a:pt x="556" y="4160"/>
                  </a:lnTo>
                  <a:lnTo>
                    <a:pt x="539" y="4107"/>
                  </a:lnTo>
                  <a:lnTo>
                    <a:pt x="530" y="4053"/>
                  </a:lnTo>
                  <a:lnTo>
                    <a:pt x="529" y="3999"/>
                  </a:lnTo>
                  <a:lnTo>
                    <a:pt x="536" y="3947"/>
                  </a:lnTo>
                  <a:lnTo>
                    <a:pt x="549" y="3896"/>
                  </a:lnTo>
                  <a:lnTo>
                    <a:pt x="571" y="3847"/>
                  </a:lnTo>
                  <a:lnTo>
                    <a:pt x="599" y="3801"/>
                  </a:lnTo>
                  <a:lnTo>
                    <a:pt x="636" y="3761"/>
                  </a:lnTo>
                  <a:lnTo>
                    <a:pt x="654" y="3744"/>
                  </a:lnTo>
                  <a:lnTo>
                    <a:pt x="674" y="3729"/>
                  </a:lnTo>
                  <a:lnTo>
                    <a:pt x="694" y="3712"/>
                  </a:lnTo>
                  <a:lnTo>
                    <a:pt x="714" y="3697"/>
                  </a:lnTo>
                  <a:lnTo>
                    <a:pt x="732" y="3681"/>
                  </a:lnTo>
                  <a:lnTo>
                    <a:pt x="754" y="3670"/>
                  </a:lnTo>
                  <a:lnTo>
                    <a:pt x="776" y="3658"/>
                  </a:lnTo>
                  <a:lnTo>
                    <a:pt x="800" y="3651"/>
                  </a:lnTo>
                  <a:lnTo>
                    <a:pt x="809" y="3644"/>
                  </a:lnTo>
                  <a:lnTo>
                    <a:pt x="819" y="3640"/>
                  </a:lnTo>
                  <a:lnTo>
                    <a:pt x="827" y="3635"/>
                  </a:lnTo>
                  <a:lnTo>
                    <a:pt x="835" y="3627"/>
                  </a:lnTo>
                  <a:lnTo>
                    <a:pt x="798" y="3607"/>
                  </a:lnTo>
                  <a:lnTo>
                    <a:pt x="763" y="3585"/>
                  </a:lnTo>
                  <a:lnTo>
                    <a:pt x="728" y="3560"/>
                  </a:lnTo>
                  <a:lnTo>
                    <a:pt x="696" y="3533"/>
                  </a:lnTo>
                  <a:lnTo>
                    <a:pt x="665" y="3503"/>
                  </a:lnTo>
                  <a:lnTo>
                    <a:pt x="638" y="3471"/>
                  </a:lnTo>
                  <a:lnTo>
                    <a:pt x="614" y="3437"/>
                  </a:lnTo>
                  <a:lnTo>
                    <a:pt x="594" y="3399"/>
                  </a:lnTo>
                  <a:lnTo>
                    <a:pt x="582" y="3400"/>
                  </a:lnTo>
                  <a:lnTo>
                    <a:pt x="571" y="3404"/>
                  </a:lnTo>
                  <a:lnTo>
                    <a:pt x="558" y="3407"/>
                  </a:lnTo>
                  <a:lnTo>
                    <a:pt x="547" y="3411"/>
                  </a:lnTo>
                  <a:lnTo>
                    <a:pt x="534" y="3412"/>
                  </a:lnTo>
                  <a:lnTo>
                    <a:pt x="522" y="3413"/>
                  </a:lnTo>
                  <a:lnTo>
                    <a:pt x="509" y="3413"/>
                  </a:lnTo>
                  <a:lnTo>
                    <a:pt x="498" y="3410"/>
                  </a:lnTo>
                  <a:lnTo>
                    <a:pt x="474" y="3400"/>
                  </a:lnTo>
                  <a:lnTo>
                    <a:pt x="456" y="3389"/>
                  </a:lnTo>
                  <a:lnTo>
                    <a:pt x="440" y="3374"/>
                  </a:lnTo>
                  <a:lnTo>
                    <a:pt x="429" y="3356"/>
                  </a:lnTo>
                  <a:lnTo>
                    <a:pt x="417" y="3335"/>
                  </a:lnTo>
                  <a:lnTo>
                    <a:pt x="408" y="3314"/>
                  </a:lnTo>
                  <a:lnTo>
                    <a:pt x="399" y="3294"/>
                  </a:lnTo>
                  <a:lnTo>
                    <a:pt x="390" y="3274"/>
                  </a:lnTo>
                  <a:lnTo>
                    <a:pt x="386" y="3254"/>
                  </a:lnTo>
                  <a:lnTo>
                    <a:pt x="383" y="3236"/>
                  </a:lnTo>
                  <a:lnTo>
                    <a:pt x="380" y="3216"/>
                  </a:lnTo>
                  <a:lnTo>
                    <a:pt x="380" y="3197"/>
                  </a:lnTo>
                  <a:lnTo>
                    <a:pt x="380" y="3178"/>
                  </a:lnTo>
                  <a:lnTo>
                    <a:pt x="384" y="3158"/>
                  </a:lnTo>
                  <a:lnTo>
                    <a:pt x="389" y="3139"/>
                  </a:lnTo>
                  <a:lnTo>
                    <a:pt x="399" y="3123"/>
                  </a:lnTo>
                  <a:lnTo>
                    <a:pt x="389" y="3100"/>
                  </a:lnTo>
                  <a:lnTo>
                    <a:pt x="384" y="3079"/>
                  </a:lnTo>
                  <a:lnTo>
                    <a:pt x="381" y="3059"/>
                  </a:lnTo>
                  <a:lnTo>
                    <a:pt x="381" y="3039"/>
                  </a:lnTo>
                  <a:lnTo>
                    <a:pt x="380" y="3017"/>
                  </a:lnTo>
                  <a:lnTo>
                    <a:pt x="381" y="2996"/>
                  </a:lnTo>
                  <a:lnTo>
                    <a:pt x="381" y="2974"/>
                  </a:lnTo>
                  <a:lnTo>
                    <a:pt x="382" y="2950"/>
                  </a:lnTo>
                  <a:lnTo>
                    <a:pt x="366" y="2981"/>
                  </a:lnTo>
                  <a:lnTo>
                    <a:pt x="354" y="3014"/>
                  </a:lnTo>
                  <a:lnTo>
                    <a:pt x="342" y="3048"/>
                  </a:lnTo>
                  <a:lnTo>
                    <a:pt x="332" y="3083"/>
                  </a:lnTo>
                  <a:lnTo>
                    <a:pt x="323" y="3118"/>
                  </a:lnTo>
                  <a:lnTo>
                    <a:pt x="314" y="3152"/>
                  </a:lnTo>
                  <a:lnTo>
                    <a:pt x="303" y="3186"/>
                  </a:lnTo>
                  <a:lnTo>
                    <a:pt x="294" y="3220"/>
                  </a:lnTo>
                  <a:lnTo>
                    <a:pt x="270" y="3162"/>
                  </a:lnTo>
                  <a:lnTo>
                    <a:pt x="254" y="3101"/>
                  </a:lnTo>
                  <a:lnTo>
                    <a:pt x="244" y="3036"/>
                  </a:lnTo>
                  <a:lnTo>
                    <a:pt x="242" y="2972"/>
                  </a:lnTo>
                  <a:lnTo>
                    <a:pt x="244" y="2904"/>
                  </a:lnTo>
                  <a:lnTo>
                    <a:pt x="254" y="2839"/>
                  </a:lnTo>
                  <a:lnTo>
                    <a:pt x="267" y="2776"/>
                  </a:lnTo>
                  <a:lnTo>
                    <a:pt x="286" y="2717"/>
                  </a:lnTo>
                  <a:lnTo>
                    <a:pt x="296" y="2680"/>
                  </a:lnTo>
                  <a:lnTo>
                    <a:pt x="310" y="2645"/>
                  </a:lnTo>
                  <a:lnTo>
                    <a:pt x="324" y="2611"/>
                  </a:lnTo>
                  <a:lnTo>
                    <a:pt x="342" y="2578"/>
                  </a:lnTo>
                  <a:lnTo>
                    <a:pt x="357" y="2544"/>
                  </a:lnTo>
                  <a:lnTo>
                    <a:pt x="375" y="2509"/>
                  </a:lnTo>
                  <a:lnTo>
                    <a:pt x="392" y="2475"/>
                  </a:lnTo>
                  <a:lnTo>
                    <a:pt x="409" y="2442"/>
                  </a:lnTo>
                  <a:lnTo>
                    <a:pt x="405" y="2440"/>
                  </a:lnTo>
                  <a:lnTo>
                    <a:pt x="363" y="2485"/>
                  </a:lnTo>
                  <a:lnTo>
                    <a:pt x="326" y="2532"/>
                  </a:lnTo>
                  <a:lnTo>
                    <a:pt x="292" y="2582"/>
                  </a:lnTo>
                  <a:lnTo>
                    <a:pt x="262" y="2634"/>
                  </a:lnTo>
                  <a:lnTo>
                    <a:pt x="233" y="2685"/>
                  </a:lnTo>
                  <a:lnTo>
                    <a:pt x="207" y="2737"/>
                  </a:lnTo>
                  <a:lnTo>
                    <a:pt x="182" y="2790"/>
                  </a:lnTo>
                  <a:lnTo>
                    <a:pt x="159" y="2843"/>
                  </a:lnTo>
                  <a:lnTo>
                    <a:pt x="155" y="2843"/>
                  </a:lnTo>
                  <a:lnTo>
                    <a:pt x="151" y="2843"/>
                  </a:lnTo>
                  <a:lnTo>
                    <a:pt x="146" y="2734"/>
                  </a:lnTo>
                  <a:lnTo>
                    <a:pt x="157" y="2631"/>
                  </a:lnTo>
                  <a:lnTo>
                    <a:pt x="183" y="2530"/>
                  </a:lnTo>
                  <a:lnTo>
                    <a:pt x="224" y="2437"/>
                  </a:lnTo>
                  <a:lnTo>
                    <a:pt x="275" y="2348"/>
                  </a:lnTo>
                  <a:lnTo>
                    <a:pt x="340" y="2266"/>
                  </a:lnTo>
                  <a:lnTo>
                    <a:pt x="413" y="2191"/>
                  </a:lnTo>
                  <a:lnTo>
                    <a:pt x="496" y="2126"/>
                  </a:lnTo>
                  <a:lnTo>
                    <a:pt x="512" y="2116"/>
                  </a:lnTo>
                  <a:lnTo>
                    <a:pt x="527" y="2105"/>
                  </a:lnTo>
                  <a:lnTo>
                    <a:pt x="543" y="2094"/>
                  </a:lnTo>
                  <a:lnTo>
                    <a:pt x="559" y="2083"/>
                  </a:lnTo>
                  <a:lnTo>
                    <a:pt x="575" y="2070"/>
                  </a:lnTo>
                  <a:lnTo>
                    <a:pt x="590" y="2060"/>
                  </a:lnTo>
                  <a:lnTo>
                    <a:pt x="606" y="2048"/>
                  </a:lnTo>
                  <a:lnTo>
                    <a:pt x="623" y="2040"/>
                  </a:lnTo>
                  <a:lnTo>
                    <a:pt x="662" y="2017"/>
                  </a:lnTo>
                  <a:lnTo>
                    <a:pt x="702" y="1998"/>
                  </a:lnTo>
                  <a:lnTo>
                    <a:pt x="743" y="1982"/>
                  </a:lnTo>
                  <a:lnTo>
                    <a:pt x="786" y="1970"/>
                  </a:lnTo>
                  <a:lnTo>
                    <a:pt x="830" y="1960"/>
                  </a:lnTo>
                  <a:lnTo>
                    <a:pt x="875" y="1955"/>
                  </a:lnTo>
                  <a:lnTo>
                    <a:pt x="921" y="1954"/>
                  </a:lnTo>
                  <a:lnTo>
                    <a:pt x="968" y="1957"/>
                  </a:lnTo>
                  <a:lnTo>
                    <a:pt x="974" y="1958"/>
                  </a:lnTo>
                  <a:lnTo>
                    <a:pt x="979" y="1957"/>
                  </a:lnTo>
                  <a:lnTo>
                    <a:pt x="983" y="1954"/>
                  </a:lnTo>
                  <a:lnTo>
                    <a:pt x="989" y="1953"/>
                  </a:lnTo>
                  <a:lnTo>
                    <a:pt x="1048" y="1888"/>
                  </a:lnTo>
                  <a:lnTo>
                    <a:pt x="1114" y="1833"/>
                  </a:lnTo>
                  <a:lnTo>
                    <a:pt x="1185" y="1786"/>
                  </a:lnTo>
                  <a:lnTo>
                    <a:pt x="1260" y="1749"/>
                  </a:lnTo>
                  <a:lnTo>
                    <a:pt x="1338" y="1719"/>
                  </a:lnTo>
                  <a:lnTo>
                    <a:pt x="1420" y="1698"/>
                  </a:lnTo>
                  <a:lnTo>
                    <a:pt x="1504" y="1686"/>
                  </a:lnTo>
                  <a:lnTo>
                    <a:pt x="1592" y="1683"/>
                  </a:lnTo>
                  <a:lnTo>
                    <a:pt x="1625" y="1685"/>
                  </a:lnTo>
                  <a:lnTo>
                    <a:pt x="1659" y="1691"/>
                  </a:lnTo>
                  <a:lnTo>
                    <a:pt x="1691" y="1698"/>
                  </a:lnTo>
                  <a:lnTo>
                    <a:pt x="1724" y="1710"/>
                  </a:lnTo>
                  <a:lnTo>
                    <a:pt x="1754" y="1722"/>
                  </a:lnTo>
                  <a:lnTo>
                    <a:pt x="1783" y="1738"/>
                  </a:lnTo>
                  <a:lnTo>
                    <a:pt x="1811" y="1755"/>
                  </a:lnTo>
                  <a:lnTo>
                    <a:pt x="1837" y="1776"/>
                  </a:lnTo>
                  <a:lnTo>
                    <a:pt x="1861" y="1796"/>
                  </a:lnTo>
                  <a:lnTo>
                    <a:pt x="1884" y="1817"/>
                  </a:lnTo>
                  <a:lnTo>
                    <a:pt x="1906" y="1839"/>
                  </a:lnTo>
                  <a:lnTo>
                    <a:pt x="1929" y="1861"/>
                  </a:lnTo>
                  <a:lnTo>
                    <a:pt x="1950" y="1883"/>
                  </a:lnTo>
                  <a:lnTo>
                    <a:pt x="1972" y="1904"/>
                  </a:lnTo>
                  <a:lnTo>
                    <a:pt x="1994" y="1925"/>
                  </a:lnTo>
                  <a:lnTo>
                    <a:pt x="2019" y="1947"/>
                  </a:lnTo>
                  <a:lnTo>
                    <a:pt x="2012" y="1952"/>
                  </a:lnTo>
                  <a:lnTo>
                    <a:pt x="2005" y="1951"/>
                  </a:lnTo>
                  <a:lnTo>
                    <a:pt x="1998" y="1947"/>
                  </a:lnTo>
                  <a:lnTo>
                    <a:pt x="1990" y="1945"/>
                  </a:lnTo>
                  <a:lnTo>
                    <a:pt x="1963" y="1927"/>
                  </a:lnTo>
                  <a:lnTo>
                    <a:pt x="1936" y="1913"/>
                  </a:lnTo>
                  <a:lnTo>
                    <a:pt x="1907" y="1901"/>
                  </a:lnTo>
                  <a:lnTo>
                    <a:pt x="1879" y="1893"/>
                  </a:lnTo>
                  <a:lnTo>
                    <a:pt x="1848" y="1886"/>
                  </a:lnTo>
                  <a:lnTo>
                    <a:pt x="1817" y="1882"/>
                  </a:lnTo>
                  <a:lnTo>
                    <a:pt x="1786" y="1880"/>
                  </a:lnTo>
                  <a:lnTo>
                    <a:pt x="1755" y="1881"/>
                  </a:lnTo>
                  <a:lnTo>
                    <a:pt x="1750" y="1885"/>
                  </a:lnTo>
                  <a:lnTo>
                    <a:pt x="1815" y="1922"/>
                  </a:lnTo>
                  <a:lnTo>
                    <a:pt x="1878" y="1970"/>
                  </a:lnTo>
                  <a:lnTo>
                    <a:pt x="1935" y="2024"/>
                  </a:lnTo>
                  <a:lnTo>
                    <a:pt x="1986" y="2085"/>
                  </a:lnTo>
                  <a:lnTo>
                    <a:pt x="2026" y="2150"/>
                  </a:lnTo>
                  <a:lnTo>
                    <a:pt x="2056" y="2222"/>
                  </a:lnTo>
                  <a:lnTo>
                    <a:pt x="2072" y="2298"/>
                  </a:lnTo>
                  <a:lnTo>
                    <a:pt x="2073" y="2378"/>
                  </a:lnTo>
                  <a:lnTo>
                    <a:pt x="2072" y="2393"/>
                  </a:lnTo>
                  <a:lnTo>
                    <a:pt x="2071" y="2410"/>
                  </a:lnTo>
                  <a:lnTo>
                    <a:pt x="2070" y="2427"/>
                  </a:lnTo>
                  <a:lnTo>
                    <a:pt x="2069" y="2444"/>
                  </a:lnTo>
                  <a:lnTo>
                    <a:pt x="2067" y="2461"/>
                  </a:lnTo>
                  <a:lnTo>
                    <a:pt x="2066" y="2478"/>
                  </a:lnTo>
                  <a:lnTo>
                    <a:pt x="2065" y="2495"/>
                  </a:lnTo>
                  <a:lnTo>
                    <a:pt x="2064" y="2513"/>
                  </a:lnTo>
                  <a:lnTo>
                    <a:pt x="2071" y="2515"/>
                  </a:lnTo>
                  <a:lnTo>
                    <a:pt x="2078" y="2514"/>
                  </a:lnTo>
                  <a:lnTo>
                    <a:pt x="2085" y="2513"/>
                  </a:lnTo>
                  <a:lnTo>
                    <a:pt x="2093" y="2515"/>
                  </a:lnTo>
                  <a:lnTo>
                    <a:pt x="2108" y="2521"/>
                  </a:lnTo>
                  <a:lnTo>
                    <a:pt x="2124" y="2528"/>
                  </a:lnTo>
                  <a:lnTo>
                    <a:pt x="2141" y="2535"/>
                  </a:lnTo>
                  <a:lnTo>
                    <a:pt x="2158" y="2546"/>
                  </a:lnTo>
                  <a:lnTo>
                    <a:pt x="2171" y="2556"/>
                  </a:lnTo>
                  <a:lnTo>
                    <a:pt x="2182" y="2570"/>
                  </a:lnTo>
                  <a:lnTo>
                    <a:pt x="2190" y="2586"/>
                  </a:lnTo>
                  <a:lnTo>
                    <a:pt x="2192" y="2607"/>
                  </a:lnTo>
                  <a:lnTo>
                    <a:pt x="2194" y="2609"/>
                  </a:lnTo>
                  <a:lnTo>
                    <a:pt x="2208" y="2579"/>
                  </a:lnTo>
                  <a:lnTo>
                    <a:pt x="2215" y="2542"/>
                  </a:lnTo>
                  <a:lnTo>
                    <a:pt x="2225" y="2506"/>
                  </a:lnTo>
                  <a:lnTo>
                    <a:pt x="2235" y="2471"/>
                  </a:lnTo>
                  <a:lnTo>
                    <a:pt x="2248" y="2436"/>
                  </a:lnTo>
                  <a:lnTo>
                    <a:pt x="2257" y="2400"/>
                  </a:lnTo>
                  <a:lnTo>
                    <a:pt x="2266" y="2364"/>
                  </a:lnTo>
                  <a:lnTo>
                    <a:pt x="2272" y="2326"/>
                  </a:lnTo>
                  <a:lnTo>
                    <a:pt x="2275" y="2288"/>
                  </a:lnTo>
                  <a:lnTo>
                    <a:pt x="2274" y="2199"/>
                  </a:lnTo>
                  <a:lnTo>
                    <a:pt x="2274" y="2113"/>
                  </a:lnTo>
                  <a:lnTo>
                    <a:pt x="2272" y="2027"/>
                  </a:lnTo>
                  <a:lnTo>
                    <a:pt x="2269" y="1943"/>
                  </a:lnTo>
                  <a:lnTo>
                    <a:pt x="2265" y="1858"/>
                  </a:lnTo>
                  <a:lnTo>
                    <a:pt x="2261" y="1774"/>
                  </a:lnTo>
                  <a:lnTo>
                    <a:pt x="2254" y="1688"/>
                  </a:lnTo>
                  <a:lnTo>
                    <a:pt x="2248" y="1602"/>
                  </a:lnTo>
                  <a:lnTo>
                    <a:pt x="2232" y="1588"/>
                  </a:lnTo>
                  <a:lnTo>
                    <a:pt x="2222" y="1573"/>
                  </a:lnTo>
                  <a:lnTo>
                    <a:pt x="2215" y="1555"/>
                  </a:lnTo>
                  <a:lnTo>
                    <a:pt x="2210" y="1538"/>
                  </a:lnTo>
                  <a:lnTo>
                    <a:pt x="2206" y="1517"/>
                  </a:lnTo>
                  <a:lnTo>
                    <a:pt x="2204" y="1498"/>
                  </a:lnTo>
                  <a:lnTo>
                    <a:pt x="2201" y="1479"/>
                  </a:lnTo>
                  <a:lnTo>
                    <a:pt x="2198" y="1460"/>
                  </a:lnTo>
                  <a:lnTo>
                    <a:pt x="2195" y="1451"/>
                  </a:lnTo>
                  <a:lnTo>
                    <a:pt x="2194" y="1441"/>
                  </a:lnTo>
                  <a:lnTo>
                    <a:pt x="2193" y="1431"/>
                  </a:lnTo>
                  <a:lnTo>
                    <a:pt x="2193" y="1421"/>
                  </a:lnTo>
                  <a:lnTo>
                    <a:pt x="2193" y="1410"/>
                  </a:lnTo>
                  <a:lnTo>
                    <a:pt x="2195" y="1400"/>
                  </a:lnTo>
                  <a:lnTo>
                    <a:pt x="2197" y="1391"/>
                  </a:lnTo>
                  <a:lnTo>
                    <a:pt x="2200" y="1381"/>
                  </a:lnTo>
                  <a:lnTo>
                    <a:pt x="2215" y="1371"/>
                  </a:lnTo>
                  <a:lnTo>
                    <a:pt x="2223" y="1358"/>
                  </a:lnTo>
                  <a:lnTo>
                    <a:pt x="2227" y="1343"/>
                  </a:lnTo>
                  <a:lnTo>
                    <a:pt x="2228" y="1325"/>
                  </a:lnTo>
                  <a:lnTo>
                    <a:pt x="2227" y="1306"/>
                  </a:lnTo>
                  <a:lnTo>
                    <a:pt x="2226" y="1287"/>
                  </a:lnTo>
                  <a:lnTo>
                    <a:pt x="2227" y="1268"/>
                  </a:lnTo>
                  <a:lnTo>
                    <a:pt x="2231" y="1253"/>
                  </a:lnTo>
                  <a:lnTo>
                    <a:pt x="2224" y="1244"/>
                  </a:lnTo>
                  <a:lnTo>
                    <a:pt x="2216" y="1239"/>
                  </a:lnTo>
                  <a:lnTo>
                    <a:pt x="2207" y="1236"/>
                  </a:lnTo>
                  <a:lnTo>
                    <a:pt x="2200" y="1233"/>
                  </a:lnTo>
                  <a:lnTo>
                    <a:pt x="2129" y="1181"/>
                  </a:lnTo>
                  <a:lnTo>
                    <a:pt x="2106" y="1152"/>
                  </a:lnTo>
                  <a:lnTo>
                    <a:pt x="2088" y="1121"/>
                  </a:lnTo>
                  <a:lnTo>
                    <a:pt x="2074" y="1088"/>
                  </a:lnTo>
                  <a:lnTo>
                    <a:pt x="2061" y="1056"/>
                  </a:lnTo>
                  <a:lnTo>
                    <a:pt x="2047" y="1023"/>
                  </a:lnTo>
                  <a:lnTo>
                    <a:pt x="2030" y="992"/>
                  </a:lnTo>
                  <a:lnTo>
                    <a:pt x="2009" y="962"/>
                  </a:lnTo>
                  <a:lnTo>
                    <a:pt x="1984" y="936"/>
                  </a:lnTo>
                  <a:lnTo>
                    <a:pt x="1850" y="867"/>
                  </a:lnTo>
                  <a:lnTo>
                    <a:pt x="1839" y="853"/>
                  </a:lnTo>
                  <a:lnTo>
                    <a:pt x="1829" y="838"/>
                  </a:lnTo>
                  <a:lnTo>
                    <a:pt x="1822" y="823"/>
                  </a:lnTo>
                  <a:lnTo>
                    <a:pt x="1817" y="807"/>
                  </a:lnTo>
                  <a:lnTo>
                    <a:pt x="1813" y="791"/>
                  </a:lnTo>
                  <a:lnTo>
                    <a:pt x="1812" y="774"/>
                  </a:lnTo>
                  <a:lnTo>
                    <a:pt x="1813" y="758"/>
                  </a:lnTo>
                  <a:lnTo>
                    <a:pt x="1817" y="741"/>
                  </a:lnTo>
                  <a:lnTo>
                    <a:pt x="1825" y="724"/>
                  </a:lnTo>
                  <a:lnTo>
                    <a:pt x="1837" y="712"/>
                  </a:lnTo>
                  <a:lnTo>
                    <a:pt x="1850" y="703"/>
                  </a:lnTo>
                  <a:lnTo>
                    <a:pt x="1865" y="696"/>
                  </a:lnTo>
                  <a:lnTo>
                    <a:pt x="1881" y="689"/>
                  </a:lnTo>
                  <a:lnTo>
                    <a:pt x="1897" y="684"/>
                  </a:lnTo>
                  <a:lnTo>
                    <a:pt x="1912" y="678"/>
                  </a:lnTo>
                  <a:lnTo>
                    <a:pt x="1928" y="672"/>
                  </a:lnTo>
                  <a:lnTo>
                    <a:pt x="1960" y="670"/>
                  </a:lnTo>
                  <a:lnTo>
                    <a:pt x="1992" y="677"/>
                  </a:lnTo>
                  <a:lnTo>
                    <a:pt x="2021" y="687"/>
                  </a:lnTo>
                  <a:lnTo>
                    <a:pt x="2050" y="702"/>
                  </a:lnTo>
                  <a:lnTo>
                    <a:pt x="2077" y="717"/>
                  </a:lnTo>
                  <a:lnTo>
                    <a:pt x="2104" y="737"/>
                  </a:lnTo>
                  <a:lnTo>
                    <a:pt x="2131" y="755"/>
                  </a:lnTo>
                  <a:lnTo>
                    <a:pt x="2158" y="776"/>
                  </a:lnTo>
                  <a:lnTo>
                    <a:pt x="2164" y="768"/>
                  </a:lnTo>
                  <a:lnTo>
                    <a:pt x="2168" y="760"/>
                  </a:lnTo>
                  <a:lnTo>
                    <a:pt x="2170" y="750"/>
                  </a:lnTo>
                  <a:lnTo>
                    <a:pt x="2172" y="741"/>
                  </a:lnTo>
                  <a:lnTo>
                    <a:pt x="2175" y="675"/>
                  </a:lnTo>
                  <a:lnTo>
                    <a:pt x="2176" y="609"/>
                  </a:lnTo>
                  <a:lnTo>
                    <a:pt x="2174" y="544"/>
                  </a:lnTo>
                  <a:lnTo>
                    <a:pt x="2173" y="480"/>
                  </a:lnTo>
                  <a:lnTo>
                    <a:pt x="2170" y="415"/>
                  </a:lnTo>
                  <a:lnTo>
                    <a:pt x="2171" y="350"/>
                  </a:lnTo>
                  <a:lnTo>
                    <a:pt x="2175" y="285"/>
                  </a:lnTo>
                  <a:lnTo>
                    <a:pt x="2185" y="221"/>
                  </a:lnTo>
                  <a:lnTo>
                    <a:pt x="2187" y="201"/>
                  </a:lnTo>
                  <a:lnTo>
                    <a:pt x="2190" y="183"/>
                  </a:lnTo>
                  <a:lnTo>
                    <a:pt x="2194" y="165"/>
                  </a:lnTo>
                  <a:lnTo>
                    <a:pt x="2200" y="148"/>
                  </a:lnTo>
                  <a:lnTo>
                    <a:pt x="2206" y="132"/>
                  </a:lnTo>
                  <a:lnTo>
                    <a:pt x="2212" y="115"/>
                  </a:lnTo>
                  <a:lnTo>
                    <a:pt x="2220" y="99"/>
                  </a:lnTo>
                  <a:lnTo>
                    <a:pt x="2227" y="83"/>
                  </a:lnTo>
                  <a:lnTo>
                    <a:pt x="2233" y="76"/>
                  </a:lnTo>
                  <a:lnTo>
                    <a:pt x="2240" y="70"/>
                  </a:lnTo>
                  <a:lnTo>
                    <a:pt x="2248" y="64"/>
                  </a:lnTo>
                  <a:lnTo>
                    <a:pt x="2256" y="61"/>
                  </a:lnTo>
                  <a:lnTo>
                    <a:pt x="2264" y="58"/>
                  </a:lnTo>
                  <a:lnTo>
                    <a:pt x="2273" y="57"/>
                  </a:lnTo>
                  <a:lnTo>
                    <a:pt x="2282" y="57"/>
                  </a:lnTo>
                  <a:lnTo>
                    <a:pt x="2291" y="60"/>
                  </a:lnTo>
                  <a:lnTo>
                    <a:pt x="2304" y="66"/>
                  </a:lnTo>
                  <a:lnTo>
                    <a:pt x="2314" y="76"/>
                  </a:lnTo>
                  <a:lnTo>
                    <a:pt x="2321" y="87"/>
                  </a:lnTo>
                  <a:lnTo>
                    <a:pt x="2329" y="101"/>
                  </a:lnTo>
                  <a:lnTo>
                    <a:pt x="2333" y="113"/>
                  </a:lnTo>
                  <a:lnTo>
                    <a:pt x="2338" y="128"/>
                  </a:lnTo>
                  <a:lnTo>
                    <a:pt x="2344" y="140"/>
                  </a:lnTo>
                  <a:lnTo>
                    <a:pt x="2351" y="153"/>
                  </a:lnTo>
                  <a:lnTo>
                    <a:pt x="2353" y="169"/>
                  </a:lnTo>
                  <a:lnTo>
                    <a:pt x="2356" y="186"/>
                  </a:lnTo>
                  <a:lnTo>
                    <a:pt x="2361" y="201"/>
                  </a:lnTo>
                  <a:lnTo>
                    <a:pt x="2365" y="218"/>
                  </a:lnTo>
                  <a:lnTo>
                    <a:pt x="2368" y="233"/>
                  </a:lnTo>
                  <a:lnTo>
                    <a:pt x="2372" y="249"/>
                  </a:lnTo>
                  <a:lnTo>
                    <a:pt x="2376" y="264"/>
                  </a:lnTo>
                  <a:lnTo>
                    <a:pt x="2380" y="281"/>
                  </a:lnTo>
                  <a:lnTo>
                    <a:pt x="2382" y="302"/>
                  </a:lnTo>
                  <a:lnTo>
                    <a:pt x="2385" y="322"/>
                  </a:lnTo>
                  <a:lnTo>
                    <a:pt x="2389" y="343"/>
                  </a:lnTo>
                  <a:lnTo>
                    <a:pt x="2392" y="365"/>
                  </a:lnTo>
                  <a:lnTo>
                    <a:pt x="2395" y="385"/>
                  </a:lnTo>
                  <a:lnTo>
                    <a:pt x="2400" y="405"/>
                  </a:lnTo>
                  <a:lnTo>
                    <a:pt x="2404" y="425"/>
                  </a:lnTo>
                  <a:lnTo>
                    <a:pt x="2409" y="445"/>
                  </a:lnTo>
                  <a:lnTo>
                    <a:pt x="2413" y="440"/>
                  </a:lnTo>
                  <a:lnTo>
                    <a:pt x="2416" y="434"/>
                  </a:lnTo>
                  <a:lnTo>
                    <a:pt x="2417" y="427"/>
                  </a:lnTo>
                  <a:lnTo>
                    <a:pt x="2420" y="422"/>
                  </a:lnTo>
                  <a:lnTo>
                    <a:pt x="2429" y="387"/>
                  </a:lnTo>
                  <a:lnTo>
                    <a:pt x="2438" y="352"/>
                  </a:lnTo>
                  <a:lnTo>
                    <a:pt x="2448" y="317"/>
                  </a:lnTo>
                  <a:lnTo>
                    <a:pt x="2458" y="282"/>
                  </a:lnTo>
                  <a:lnTo>
                    <a:pt x="2467" y="246"/>
                  </a:lnTo>
                  <a:lnTo>
                    <a:pt x="2477" y="212"/>
                  </a:lnTo>
                  <a:lnTo>
                    <a:pt x="2487" y="175"/>
                  </a:lnTo>
                  <a:lnTo>
                    <a:pt x="2497" y="141"/>
                  </a:lnTo>
                  <a:lnTo>
                    <a:pt x="2504" y="119"/>
                  </a:lnTo>
                  <a:lnTo>
                    <a:pt x="2512" y="99"/>
                  </a:lnTo>
                  <a:lnTo>
                    <a:pt x="2521" y="78"/>
                  </a:lnTo>
                  <a:lnTo>
                    <a:pt x="2534" y="59"/>
                  </a:lnTo>
                  <a:lnTo>
                    <a:pt x="2547" y="41"/>
                  </a:lnTo>
                  <a:lnTo>
                    <a:pt x="2563" y="26"/>
                  </a:lnTo>
                  <a:lnTo>
                    <a:pt x="2580" y="12"/>
                  </a:lnTo>
                  <a:lnTo>
                    <a:pt x="2601" y="0"/>
                  </a:lnTo>
                  <a:lnTo>
                    <a:pt x="2608" y="0"/>
                  </a:lnTo>
                  <a:lnTo>
                    <a:pt x="2617" y="3"/>
                  </a:lnTo>
                  <a:lnTo>
                    <a:pt x="2624" y="6"/>
                  </a:lnTo>
                  <a:lnTo>
                    <a:pt x="2632" y="12"/>
                  </a:lnTo>
                  <a:lnTo>
                    <a:pt x="2638" y="17"/>
                  </a:lnTo>
                  <a:lnTo>
                    <a:pt x="2646" y="24"/>
                  </a:lnTo>
                  <a:lnTo>
                    <a:pt x="2652" y="30"/>
                  </a:lnTo>
                  <a:lnTo>
                    <a:pt x="2657" y="40"/>
                  </a:lnTo>
                  <a:close/>
                  <a:moveTo>
                    <a:pt x="2025" y="2523"/>
                  </a:moveTo>
                  <a:lnTo>
                    <a:pt x="2025" y="2523"/>
                  </a:lnTo>
                  <a:lnTo>
                    <a:pt x="2010" y="2504"/>
                  </a:lnTo>
                  <a:lnTo>
                    <a:pt x="1996" y="2488"/>
                  </a:lnTo>
                  <a:lnTo>
                    <a:pt x="1981" y="2472"/>
                  </a:lnTo>
                  <a:lnTo>
                    <a:pt x="1968" y="2457"/>
                  </a:lnTo>
                  <a:lnTo>
                    <a:pt x="1952" y="2441"/>
                  </a:lnTo>
                  <a:lnTo>
                    <a:pt x="1938" y="2426"/>
                  </a:lnTo>
                  <a:lnTo>
                    <a:pt x="1922" y="2409"/>
                  </a:lnTo>
                  <a:lnTo>
                    <a:pt x="1908" y="2392"/>
                  </a:lnTo>
                  <a:lnTo>
                    <a:pt x="1910" y="2418"/>
                  </a:lnTo>
                  <a:lnTo>
                    <a:pt x="1916" y="2444"/>
                  </a:lnTo>
                  <a:lnTo>
                    <a:pt x="1923" y="2469"/>
                  </a:lnTo>
                  <a:lnTo>
                    <a:pt x="1935" y="2494"/>
                  </a:lnTo>
                  <a:lnTo>
                    <a:pt x="1946" y="2517"/>
                  </a:lnTo>
                  <a:lnTo>
                    <a:pt x="1960" y="2541"/>
                  </a:lnTo>
                  <a:lnTo>
                    <a:pt x="1974" y="2563"/>
                  </a:lnTo>
                  <a:lnTo>
                    <a:pt x="1990" y="2586"/>
                  </a:lnTo>
                  <a:lnTo>
                    <a:pt x="1991" y="2578"/>
                  </a:lnTo>
                  <a:lnTo>
                    <a:pt x="1992" y="2572"/>
                  </a:lnTo>
                  <a:lnTo>
                    <a:pt x="1994" y="2565"/>
                  </a:lnTo>
                  <a:lnTo>
                    <a:pt x="1998" y="2560"/>
                  </a:lnTo>
                  <a:lnTo>
                    <a:pt x="1997" y="2553"/>
                  </a:lnTo>
                  <a:lnTo>
                    <a:pt x="1999" y="2548"/>
                  </a:lnTo>
                  <a:lnTo>
                    <a:pt x="2001" y="2543"/>
                  </a:lnTo>
                  <a:lnTo>
                    <a:pt x="2005" y="2538"/>
                  </a:lnTo>
                  <a:lnTo>
                    <a:pt x="2015" y="2530"/>
                  </a:lnTo>
                  <a:lnTo>
                    <a:pt x="2025" y="25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328160" y="2363400"/>
              <a:ext cx="950760" cy="1046160"/>
            </a:xfrm>
            <a:custGeom>
              <a:avLst/>
              <a:gdLst/>
              <a:ahLst/>
              <a:rect l="l" t="t" r="r" b="b"/>
              <a:pathLst>
                <a:path w="1199" h="1320">
                  <a:moveTo>
                    <a:pt x="778" y="14"/>
                  </a:moveTo>
                  <a:lnTo>
                    <a:pt x="780" y="41"/>
                  </a:lnTo>
                  <a:lnTo>
                    <a:pt x="782" y="69"/>
                  </a:lnTo>
                  <a:lnTo>
                    <a:pt x="782" y="98"/>
                  </a:lnTo>
                  <a:lnTo>
                    <a:pt x="782" y="128"/>
                  </a:lnTo>
                  <a:lnTo>
                    <a:pt x="780" y="157"/>
                  </a:lnTo>
                  <a:lnTo>
                    <a:pt x="779" y="187"/>
                  </a:lnTo>
                  <a:lnTo>
                    <a:pt x="777" y="216"/>
                  </a:lnTo>
                  <a:lnTo>
                    <a:pt x="776" y="245"/>
                  </a:lnTo>
                  <a:lnTo>
                    <a:pt x="769" y="275"/>
                  </a:lnTo>
                  <a:lnTo>
                    <a:pt x="764" y="306"/>
                  </a:lnTo>
                  <a:lnTo>
                    <a:pt x="760" y="337"/>
                  </a:lnTo>
                  <a:lnTo>
                    <a:pt x="757" y="368"/>
                  </a:lnTo>
                  <a:lnTo>
                    <a:pt x="752" y="399"/>
                  </a:lnTo>
                  <a:lnTo>
                    <a:pt x="748" y="430"/>
                  </a:lnTo>
                  <a:lnTo>
                    <a:pt x="742" y="461"/>
                  </a:lnTo>
                  <a:lnTo>
                    <a:pt x="736" y="493"/>
                  </a:lnTo>
                  <a:lnTo>
                    <a:pt x="737" y="498"/>
                  </a:lnTo>
                  <a:lnTo>
                    <a:pt x="742" y="500"/>
                  </a:lnTo>
                  <a:lnTo>
                    <a:pt x="748" y="501"/>
                  </a:lnTo>
                  <a:lnTo>
                    <a:pt x="753" y="505"/>
                  </a:lnTo>
                  <a:lnTo>
                    <a:pt x="764" y="500"/>
                  </a:lnTo>
                  <a:lnTo>
                    <a:pt x="774" y="494"/>
                  </a:lnTo>
                  <a:lnTo>
                    <a:pt x="782" y="484"/>
                  </a:lnTo>
                  <a:lnTo>
                    <a:pt x="789" y="474"/>
                  </a:lnTo>
                  <a:lnTo>
                    <a:pt x="794" y="463"/>
                  </a:lnTo>
                  <a:lnTo>
                    <a:pt x="800" y="451"/>
                  </a:lnTo>
                  <a:lnTo>
                    <a:pt x="807" y="440"/>
                  </a:lnTo>
                  <a:lnTo>
                    <a:pt x="813" y="430"/>
                  </a:lnTo>
                  <a:lnTo>
                    <a:pt x="825" y="406"/>
                  </a:lnTo>
                  <a:lnTo>
                    <a:pt x="839" y="382"/>
                  </a:lnTo>
                  <a:lnTo>
                    <a:pt x="852" y="358"/>
                  </a:lnTo>
                  <a:lnTo>
                    <a:pt x="867" y="335"/>
                  </a:lnTo>
                  <a:lnTo>
                    <a:pt x="880" y="311"/>
                  </a:lnTo>
                  <a:lnTo>
                    <a:pt x="894" y="287"/>
                  </a:lnTo>
                  <a:lnTo>
                    <a:pt x="906" y="264"/>
                  </a:lnTo>
                  <a:lnTo>
                    <a:pt x="920" y="241"/>
                  </a:lnTo>
                  <a:lnTo>
                    <a:pt x="929" y="226"/>
                  </a:lnTo>
                  <a:lnTo>
                    <a:pt x="939" y="213"/>
                  </a:lnTo>
                  <a:lnTo>
                    <a:pt x="950" y="198"/>
                  </a:lnTo>
                  <a:lnTo>
                    <a:pt x="962" y="186"/>
                  </a:lnTo>
                  <a:lnTo>
                    <a:pt x="975" y="171"/>
                  </a:lnTo>
                  <a:lnTo>
                    <a:pt x="988" y="159"/>
                  </a:lnTo>
                  <a:lnTo>
                    <a:pt x="1001" y="148"/>
                  </a:lnTo>
                  <a:lnTo>
                    <a:pt x="1017" y="138"/>
                  </a:lnTo>
                  <a:lnTo>
                    <a:pt x="1024" y="143"/>
                  </a:lnTo>
                  <a:lnTo>
                    <a:pt x="1029" y="153"/>
                  </a:lnTo>
                  <a:lnTo>
                    <a:pt x="1033" y="162"/>
                  </a:lnTo>
                  <a:lnTo>
                    <a:pt x="1034" y="173"/>
                  </a:lnTo>
                  <a:lnTo>
                    <a:pt x="1033" y="184"/>
                  </a:lnTo>
                  <a:lnTo>
                    <a:pt x="1031" y="195"/>
                  </a:lnTo>
                  <a:lnTo>
                    <a:pt x="1029" y="207"/>
                  </a:lnTo>
                  <a:lnTo>
                    <a:pt x="1029" y="218"/>
                  </a:lnTo>
                  <a:lnTo>
                    <a:pt x="1020" y="259"/>
                  </a:lnTo>
                  <a:lnTo>
                    <a:pt x="1011" y="302"/>
                  </a:lnTo>
                  <a:lnTo>
                    <a:pt x="1000" y="343"/>
                  </a:lnTo>
                  <a:lnTo>
                    <a:pt x="990" y="386"/>
                  </a:lnTo>
                  <a:lnTo>
                    <a:pt x="978" y="427"/>
                  </a:lnTo>
                  <a:lnTo>
                    <a:pt x="965" y="469"/>
                  </a:lnTo>
                  <a:lnTo>
                    <a:pt x="952" y="509"/>
                  </a:lnTo>
                  <a:lnTo>
                    <a:pt x="938" y="551"/>
                  </a:lnTo>
                  <a:lnTo>
                    <a:pt x="939" y="557"/>
                  </a:lnTo>
                  <a:lnTo>
                    <a:pt x="944" y="559"/>
                  </a:lnTo>
                  <a:lnTo>
                    <a:pt x="952" y="559"/>
                  </a:lnTo>
                  <a:lnTo>
                    <a:pt x="959" y="561"/>
                  </a:lnTo>
                  <a:lnTo>
                    <a:pt x="961" y="556"/>
                  </a:lnTo>
                  <a:lnTo>
                    <a:pt x="965" y="557"/>
                  </a:lnTo>
                  <a:lnTo>
                    <a:pt x="969" y="559"/>
                  </a:lnTo>
                  <a:lnTo>
                    <a:pt x="973" y="559"/>
                  </a:lnTo>
                  <a:lnTo>
                    <a:pt x="989" y="552"/>
                  </a:lnTo>
                  <a:lnTo>
                    <a:pt x="1006" y="541"/>
                  </a:lnTo>
                  <a:lnTo>
                    <a:pt x="1019" y="529"/>
                  </a:lnTo>
                  <a:lnTo>
                    <a:pt x="1033" y="515"/>
                  </a:lnTo>
                  <a:lnTo>
                    <a:pt x="1044" y="500"/>
                  </a:lnTo>
                  <a:lnTo>
                    <a:pt x="1055" y="484"/>
                  </a:lnTo>
                  <a:lnTo>
                    <a:pt x="1067" y="470"/>
                  </a:lnTo>
                  <a:lnTo>
                    <a:pt x="1079" y="457"/>
                  </a:lnTo>
                  <a:lnTo>
                    <a:pt x="1089" y="442"/>
                  </a:lnTo>
                  <a:lnTo>
                    <a:pt x="1101" y="427"/>
                  </a:lnTo>
                  <a:lnTo>
                    <a:pt x="1113" y="413"/>
                  </a:lnTo>
                  <a:lnTo>
                    <a:pt x="1127" y="400"/>
                  </a:lnTo>
                  <a:lnTo>
                    <a:pt x="1139" y="387"/>
                  </a:lnTo>
                  <a:lnTo>
                    <a:pt x="1155" y="375"/>
                  </a:lnTo>
                  <a:lnTo>
                    <a:pt x="1169" y="365"/>
                  </a:lnTo>
                  <a:lnTo>
                    <a:pt x="1186" y="357"/>
                  </a:lnTo>
                  <a:lnTo>
                    <a:pt x="1193" y="365"/>
                  </a:lnTo>
                  <a:lnTo>
                    <a:pt x="1197" y="375"/>
                  </a:lnTo>
                  <a:lnTo>
                    <a:pt x="1198" y="387"/>
                  </a:lnTo>
                  <a:lnTo>
                    <a:pt x="1199" y="400"/>
                  </a:lnTo>
                  <a:lnTo>
                    <a:pt x="1197" y="413"/>
                  </a:lnTo>
                  <a:lnTo>
                    <a:pt x="1195" y="426"/>
                  </a:lnTo>
                  <a:lnTo>
                    <a:pt x="1193" y="439"/>
                  </a:lnTo>
                  <a:lnTo>
                    <a:pt x="1194" y="453"/>
                  </a:lnTo>
                  <a:lnTo>
                    <a:pt x="1180" y="498"/>
                  </a:lnTo>
                  <a:lnTo>
                    <a:pt x="1162" y="542"/>
                  </a:lnTo>
                  <a:lnTo>
                    <a:pt x="1141" y="585"/>
                  </a:lnTo>
                  <a:lnTo>
                    <a:pt x="1122" y="627"/>
                  </a:lnTo>
                  <a:lnTo>
                    <a:pt x="1100" y="669"/>
                  </a:lnTo>
                  <a:lnTo>
                    <a:pt x="1081" y="712"/>
                  </a:lnTo>
                  <a:lnTo>
                    <a:pt x="1065" y="757"/>
                  </a:lnTo>
                  <a:lnTo>
                    <a:pt x="1054" y="804"/>
                  </a:lnTo>
                  <a:lnTo>
                    <a:pt x="1041" y="846"/>
                  </a:lnTo>
                  <a:lnTo>
                    <a:pt x="1027" y="888"/>
                  </a:lnTo>
                  <a:lnTo>
                    <a:pt x="1012" y="929"/>
                  </a:lnTo>
                  <a:lnTo>
                    <a:pt x="994" y="969"/>
                  </a:lnTo>
                  <a:lnTo>
                    <a:pt x="972" y="1007"/>
                  </a:lnTo>
                  <a:lnTo>
                    <a:pt x="949" y="1045"/>
                  </a:lnTo>
                  <a:lnTo>
                    <a:pt x="920" y="1079"/>
                  </a:lnTo>
                  <a:lnTo>
                    <a:pt x="889" y="1112"/>
                  </a:lnTo>
                  <a:lnTo>
                    <a:pt x="880" y="1117"/>
                  </a:lnTo>
                  <a:lnTo>
                    <a:pt x="873" y="1123"/>
                  </a:lnTo>
                  <a:lnTo>
                    <a:pt x="865" y="1129"/>
                  </a:lnTo>
                  <a:lnTo>
                    <a:pt x="857" y="1134"/>
                  </a:lnTo>
                  <a:lnTo>
                    <a:pt x="849" y="1138"/>
                  </a:lnTo>
                  <a:lnTo>
                    <a:pt x="841" y="1142"/>
                  </a:lnTo>
                  <a:lnTo>
                    <a:pt x="833" y="1146"/>
                  </a:lnTo>
                  <a:lnTo>
                    <a:pt x="825" y="1151"/>
                  </a:lnTo>
                  <a:lnTo>
                    <a:pt x="819" y="1160"/>
                  </a:lnTo>
                  <a:lnTo>
                    <a:pt x="817" y="1169"/>
                  </a:lnTo>
                  <a:lnTo>
                    <a:pt x="817" y="1178"/>
                  </a:lnTo>
                  <a:lnTo>
                    <a:pt x="819" y="1188"/>
                  </a:lnTo>
                  <a:lnTo>
                    <a:pt x="821" y="1197"/>
                  </a:lnTo>
                  <a:lnTo>
                    <a:pt x="823" y="1206"/>
                  </a:lnTo>
                  <a:lnTo>
                    <a:pt x="823" y="1217"/>
                  </a:lnTo>
                  <a:lnTo>
                    <a:pt x="823" y="1227"/>
                  </a:lnTo>
                  <a:lnTo>
                    <a:pt x="819" y="1237"/>
                  </a:lnTo>
                  <a:lnTo>
                    <a:pt x="819" y="1250"/>
                  </a:lnTo>
                  <a:lnTo>
                    <a:pt x="821" y="1263"/>
                  </a:lnTo>
                  <a:lnTo>
                    <a:pt x="823" y="1277"/>
                  </a:lnTo>
                  <a:lnTo>
                    <a:pt x="823" y="1288"/>
                  </a:lnTo>
                  <a:lnTo>
                    <a:pt x="820" y="1298"/>
                  </a:lnTo>
                  <a:lnTo>
                    <a:pt x="812" y="1303"/>
                  </a:lnTo>
                  <a:lnTo>
                    <a:pt x="798" y="1304"/>
                  </a:lnTo>
                  <a:lnTo>
                    <a:pt x="767" y="1304"/>
                  </a:lnTo>
                  <a:lnTo>
                    <a:pt x="738" y="1303"/>
                  </a:lnTo>
                  <a:lnTo>
                    <a:pt x="709" y="1299"/>
                  </a:lnTo>
                  <a:lnTo>
                    <a:pt x="681" y="1295"/>
                  </a:lnTo>
                  <a:lnTo>
                    <a:pt x="651" y="1292"/>
                  </a:lnTo>
                  <a:lnTo>
                    <a:pt x="622" y="1290"/>
                  </a:lnTo>
                  <a:lnTo>
                    <a:pt x="591" y="1290"/>
                  </a:lnTo>
                  <a:lnTo>
                    <a:pt x="561" y="1293"/>
                  </a:lnTo>
                  <a:lnTo>
                    <a:pt x="546" y="1300"/>
                  </a:lnTo>
                  <a:lnTo>
                    <a:pt x="530" y="1304"/>
                  </a:lnTo>
                  <a:lnTo>
                    <a:pt x="512" y="1307"/>
                  </a:lnTo>
                  <a:lnTo>
                    <a:pt x="496" y="1310"/>
                  </a:lnTo>
                  <a:lnTo>
                    <a:pt x="478" y="1311"/>
                  </a:lnTo>
                  <a:lnTo>
                    <a:pt x="461" y="1313"/>
                  </a:lnTo>
                  <a:lnTo>
                    <a:pt x="444" y="1316"/>
                  </a:lnTo>
                  <a:lnTo>
                    <a:pt x="429" y="1320"/>
                  </a:lnTo>
                  <a:lnTo>
                    <a:pt x="422" y="1312"/>
                  </a:lnTo>
                  <a:lnTo>
                    <a:pt x="419" y="1292"/>
                  </a:lnTo>
                  <a:lnTo>
                    <a:pt x="420" y="1272"/>
                  </a:lnTo>
                  <a:lnTo>
                    <a:pt x="423" y="1249"/>
                  </a:lnTo>
                  <a:lnTo>
                    <a:pt x="427" y="1228"/>
                  </a:lnTo>
                  <a:lnTo>
                    <a:pt x="425" y="1208"/>
                  </a:lnTo>
                  <a:lnTo>
                    <a:pt x="421" y="1192"/>
                  </a:lnTo>
                  <a:lnTo>
                    <a:pt x="410" y="1179"/>
                  </a:lnTo>
                  <a:lnTo>
                    <a:pt x="389" y="1172"/>
                  </a:lnTo>
                  <a:lnTo>
                    <a:pt x="376" y="1164"/>
                  </a:lnTo>
                  <a:lnTo>
                    <a:pt x="363" y="1157"/>
                  </a:lnTo>
                  <a:lnTo>
                    <a:pt x="349" y="1149"/>
                  </a:lnTo>
                  <a:lnTo>
                    <a:pt x="336" y="1142"/>
                  </a:lnTo>
                  <a:lnTo>
                    <a:pt x="323" y="1133"/>
                  </a:lnTo>
                  <a:lnTo>
                    <a:pt x="310" y="1123"/>
                  </a:lnTo>
                  <a:lnTo>
                    <a:pt x="299" y="1111"/>
                  </a:lnTo>
                  <a:lnTo>
                    <a:pt x="291" y="1098"/>
                  </a:lnTo>
                  <a:lnTo>
                    <a:pt x="272" y="1067"/>
                  </a:lnTo>
                  <a:lnTo>
                    <a:pt x="258" y="1033"/>
                  </a:lnTo>
                  <a:lnTo>
                    <a:pt x="243" y="1000"/>
                  </a:lnTo>
                  <a:lnTo>
                    <a:pt x="229" y="967"/>
                  </a:lnTo>
                  <a:lnTo>
                    <a:pt x="211" y="935"/>
                  </a:lnTo>
                  <a:lnTo>
                    <a:pt x="191" y="906"/>
                  </a:lnTo>
                  <a:lnTo>
                    <a:pt x="166" y="880"/>
                  </a:lnTo>
                  <a:lnTo>
                    <a:pt x="135" y="860"/>
                  </a:lnTo>
                  <a:lnTo>
                    <a:pt x="113" y="847"/>
                  </a:lnTo>
                  <a:lnTo>
                    <a:pt x="89" y="835"/>
                  </a:lnTo>
                  <a:lnTo>
                    <a:pt x="64" y="822"/>
                  </a:lnTo>
                  <a:lnTo>
                    <a:pt x="41" y="809"/>
                  </a:lnTo>
                  <a:lnTo>
                    <a:pt x="20" y="792"/>
                  </a:lnTo>
                  <a:lnTo>
                    <a:pt x="7" y="772"/>
                  </a:lnTo>
                  <a:lnTo>
                    <a:pt x="0" y="748"/>
                  </a:lnTo>
                  <a:lnTo>
                    <a:pt x="2" y="719"/>
                  </a:lnTo>
                  <a:lnTo>
                    <a:pt x="8" y="710"/>
                  </a:lnTo>
                  <a:lnTo>
                    <a:pt x="16" y="704"/>
                  </a:lnTo>
                  <a:lnTo>
                    <a:pt x="25" y="697"/>
                  </a:lnTo>
                  <a:lnTo>
                    <a:pt x="34" y="691"/>
                  </a:lnTo>
                  <a:lnTo>
                    <a:pt x="43" y="685"/>
                  </a:lnTo>
                  <a:lnTo>
                    <a:pt x="54" y="680"/>
                  </a:lnTo>
                  <a:lnTo>
                    <a:pt x="63" y="675"/>
                  </a:lnTo>
                  <a:lnTo>
                    <a:pt x="74" y="671"/>
                  </a:lnTo>
                  <a:lnTo>
                    <a:pt x="108" y="669"/>
                  </a:lnTo>
                  <a:lnTo>
                    <a:pt x="142" y="674"/>
                  </a:lnTo>
                  <a:lnTo>
                    <a:pt x="173" y="685"/>
                  </a:lnTo>
                  <a:lnTo>
                    <a:pt x="204" y="702"/>
                  </a:lnTo>
                  <a:lnTo>
                    <a:pt x="232" y="719"/>
                  </a:lnTo>
                  <a:lnTo>
                    <a:pt x="261" y="740"/>
                  </a:lnTo>
                  <a:lnTo>
                    <a:pt x="289" y="760"/>
                  </a:lnTo>
                  <a:lnTo>
                    <a:pt x="318" y="780"/>
                  </a:lnTo>
                  <a:lnTo>
                    <a:pt x="323" y="782"/>
                  </a:lnTo>
                  <a:lnTo>
                    <a:pt x="329" y="783"/>
                  </a:lnTo>
                  <a:lnTo>
                    <a:pt x="334" y="782"/>
                  </a:lnTo>
                  <a:lnTo>
                    <a:pt x="341" y="780"/>
                  </a:lnTo>
                  <a:lnTo>
                    <a:pt x="349" y="771"/>
                  </a:lnTo>
                  <a:lnTo>
                    <a:pt x="356" y="763"/>
                  </a:lnTo>
                  <a:lnTo>
                    <a:pt x="361" y="728"/>
                  </a:lnTo>
                  <a:lnTo>
                    <a:pt x="365" y="694"/>
                  </a:lnTo>
                  <a:lnTo>
                    <a:pt x="367" y="659"/>
                  </a:lnTo>
                  <a:lnTo>
                    <a:pt x="370" y="625"/>
                  </a:lnTo>
                  <a:lnTo>
                    <a:pt x="368" y="591"/>
                  </a:lnTo>
                  <a:lnTo>
                    <a:pt x="368" y="557"/>
                  </a:lnTo>
                  <a:lnTo>
                    <a:pt x="367" y="524"/>
                  </a:lnTo>
                  <a:lnTo>
                    <a:pt x="366" y="490"/>
                  </a:lnTo>
                  <a:lnTo>
                    <a:pt x="362" y="438"/>
                  </a:lnTo>
                  <a:lnTo>
                    <a:pt x="361" y="386"/>
                  </a:lnTo>
                  <a:lnTo>
                    <a:pt x="361" y="333"/>
                  </a:lnTo>
                  <a:lnTo>
                    <a:pt x="365" y="280"/>
                  </a:lnTo>
                  <a:lnTo>
                    <a:pt x="370" y="226"/>
                  </a:lnTo>
                  <a:lnTo>
                    <a:pt x="378" y="174"/>
                  </a:lnTo>
                  <a:lnTo>
                    <a:pt x="388" y="124"/>
                  </a:lnTo>
                  <a:lnTo>
                    <a:pt x="402" y="76"/>
                  </a:lnTo>
                  <a:lnTo>
                    <a:pt x="408" y="67"/>
                  </a:lnTo>
                  <a:lnTo>
                    <a:pt x="415" y="58"/>
                  </a:lnTo>
                  <a:lnTo>
                    <a:pt x="421" y="50"/>
                  </a:lnTo>
                  <a:lnTo>
                    <a:pt x="431" y="47"/>
                  </a:lnTo>
                  <a:lnTo>
                    <a:pt x="440" y="52"/>
                  </a:lnTo>
                  <a:lnTo>
                    <a:pt x="448" y="61"/>
                  </a:lnTo>
                  <a:lnTo>
                    <a:pt x="454" y="70"/>
                  </a:lnTo>
                  <a:lnTo>
                    <a:pt x="460" y="80"/>
                  </a:lnTo>
                  <a:lnTo>
                    <a:pt x="474" y="123"/>
                  </a:lnTo>
                  <a:lnTo>
                    <a:pt x="487" y="167"/>
                  </a:lnTo>
                  <a:lnTo>
                    <a:pt x="496" y="213"/>
                  </a:lnTo>
                  <a:lnTo>
                    <a:pt x="506" y="259"/>
                  </a:lnTo>
                  <a:lnTo>
                    <a:pt x="514" y="305"/>
                  </a:lnTo>
                  <a:lnTo>
                    <a:pt x="522" y="352"/>
                  </a:lnTo>
                  <a:lnTo>
                    <a:pt x="530" y="397"/>
                  </a:lnTo>
                  <a:lnTo>
                    <a:pt x="540" y="443"/>
                  </a:lnTo>
                  <a:lnTo>
                    <a:pt x="544" y="448"/>
                  </a:lnTo>
                  <a:lnTo>
                    <a:pt x="549" y="451"/>
                  </a:lnTo>
                  <a:lnTo>
                    <a:pt x="555" y="451"/>
                  </a:lnTo>
                  <a:lnTo>
                    <a:pt x="561" y="450"/>
                  </a:lnTo>
                  <a:lnTo>
                    <a:pt x="567" y="447"/>
                  </a:lnTo>
                  <a:lnTo>
                    <a:pt x="574" y="444"/>
                  </a:lnTo>
                  <a:lnTo>
                    <a:pt x="580" y="441"/>
                  </a:lnTo>
                  <a:lnTo>
                    <a:pt x="586" y="441"/>
                  </a:lnTo>
                  <a:lnTo>
                    <a:pt x="597" y="420"/>
                  </a:lnTo>
                  <a:lnTo>
                    <a:pt x="607" y="400"/>
                  </a:lnTo>
                  <a:lnTo>
                    <a:pt x="613" y="379"/>
                  </a:lnTo>
                  <a:lnTo>
                    <a:pt x="620" y="358"/>
                  </a:lnTo>
                  <a:lnTo>
                    <a:pt x="625" y="336"/>
                  </a:lnTo>
                  <a:lnTo>
                    <a:pt x="632" y="315"/>
                  </a:lnTo>
                  <a:lnTo>
                    <a:pt x="638" y="294"/>
                  </a:lnTo>
                  <a:lnTo>
                    <a:pt x="647" y="274"/>
                  </a:lnTo>
                  <a:lnTo>
                    <a:pt x="658" y="238"/>
                  </a:lnTo>
                  <a:lnTo>
                    <a:pt x="668" y="201"/>
                  </a:lnTo>
                  <a:lnTo>
                    <a:pt x="676" y="165"/>
                  </a:lnTo>
                  <a:lnTo>
                    <a:pt x="687" y="129"/>
                  </a:lnTo>
                  <a:lnTo>
                    <a:pt x="697" y="93"/>
                  </a:lnTo>
                  <a:lnTo>
                    <a:pt x="712" y="59"/>
                  </a:lnTo>
                  <a:lnTo>
                    <a:pt x="732" y="28"/>
                  </a:lnTo>
                  <a:lnTo>
                    <a:pt x="759" y="1"/>
                  </a:lnTo>
                  <a:lnTo>
                    <a:pt x="765" y="0"/>
                  </a:lnTo>
                  <a:lnTo>
                    <a:pt x="771" y="5"/>
                  </a:lnTo>
                  <a:lnTo>
                    <a:pt x="775" y="9"/>
                  </a:lnTo>
                  <a:lnTo>
                    <a:pt x="778" y="14"/>
                  </a:lnTo>
                  <a:close/>
                </a:path>
              </a:pathLst>
            </a:custGeom>
            <a:solidFill>
              <a:srgbClr val="924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7090200" y="2888280"/>
              <a:ext cx="48960" cy="140760"/>
            </a:xfrm>
            <a:custGeom>
              <a:avLst/>
              <a:gdLst/>
              <a:ahLst/>
              <a:rect l="l" t="t" r="r" b="b"/>
              <a:pathLst>
                <a:path w="63" h="178">
                  <a:moveTo>
                    <a:pt x="41" y="15"/>
                  </a:moveTo>
                  <a:lnTo>
                    <a:pt x="41" y="20"/>
                  </a:lnTo>
                  <a:lnTo>
                    <a:pt x="40" y="25"/>
                  </a:lnTo>
                  <a:lnTo>
                    <a:pt x="37" y="29"/>
                  </a:lnTo>
                  <a:lnTo>
                    <a:pt x="33" y="35"/>
                  </a:lnTo>
                  <a:lnTo>
                    <a:pt x="27" y="43"/>
                  </a:lnTo>
                  <a:lnTo>
                    <a:pt x="26" y="53"/>
                  </a:lnTo>
                  <a:lnTo>
                    <a:pt x="26" y="69"/>
                  </a:lnTo>
                  <a:lnTo>
                    <a:pt x="26" y="85"/>
                  </a:lnTo>
                  <a:lnTo>
                    <a:pt x="27" y="101"/>
                  </a:lnTo>
                  <a:lnTo>
                    <a:pt x="31" y="118"/>
                  </a:lnTo>
                  <a:lnTo>
                    <a:pt x="36" y="132"/>
                  </a:lnTo>
                  <a:lnTo>
                    <a:pt x="43" y="147"/>
                  </a:lnTo>
                  <a:lnTo>
                    <a:pt x="51" y="159"/>
                  </a:lnTo>
                  <a:lnTo>
                    <a:pt x="63" y="171"/>
                  </a:lnTo>
                  <a:lnTo>
                    <a:pt x="63" y="178"/>
                  </a:lnTo>
                  <a:lnTo>
                    <a:pt x="54" y="177"/>
                  </a:lnTo>
                  <a:lnTo>
                    <a:pt x="47" y="176"/>
                  </a:lnTo>
                  <a:lnTo>
                    <a:pt x="39" y="171"/>
                  </a:lnTo>
                  <a:lnTo>
                    <a:pt x="30" y="167"/>
                  </a:lnTo>
                  <a:lnTo>
                    <a:pt x="20" y="149"/>
                  </a:lnTo>
                  <a:lnTo>
                    <a:pt x="12" y="130"/>
                  </a:lnTo>
                  <a:lnTo>
                    <a:pt x="5" y="109"/>
                  </a:lnTo>
                  <a:lnTo>
                    <a:pt x="2" y="90"/>
                  </a:lnTo>
                  <a:lnTo>
                    <a:pt x="0" y="68"/>
                  </a:lnTo>
                  <a:lnTo>
                    <a:pt x="2" y="47"/>
                  </a:lnTo>
                  <a:lnTo>
                    <a:pt x="8" y="26"/>
                  </a:lnTo>
                  <a:lnTo>
                    <a:pt x="16" y="9"/>
                  </a:lnTo>
                  <a:lnTo>
                    <a:pt x="19" y="4"/>
                  </a:lnTo>
                  <a:lnTo>
                    <a:pt x="22" y="1"/>
                  </a:lnTo>
                  <a:lnTo>
                    <a:pt x="25" y="0"/>
                  </a:lnTo>
                  <a:lnTo>
                    <a:pt x="29" y="3"/>
                  </a:lnTo>
                  <a:lnTo>
                    <a:pt x="36" y="9"/>
                  </a:lnTo>
                  <a:lnTo>
                    <a:pt x="41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981120" y="3015000"/>
              <a:ext cx="25200" cy="60120"/>
            </a:xfrm>
            <a:custGeom>
              <a:avLst/>
              <a:gdLst/>
              <a:ahLst/>
              <a:rect l="l" t="t" r="r" b="b"/>
              <a:pathLst>
                <a:path w="33" h="76">
                  <a:moveTo>
                    <a:pt x="22" y="40"/>
                  </a:moveTo>
                  <a:lnTo>
                    <a:pt x="33" y="74"/>
                  </a:lnTo>
                  <a:lnTo>
                    <a:pt x="26" y="75"/>
                  </a:lnTo>
                  <a:lnTo>
                    <a:pt x="20" y="76"/>
                  </a:lnTo>
                  <a:lnTo>
                    <a:pt x="14" y="69"/>
                  </a:lnTo>
                  <a:lnTo>
                    <a:pt x="11" y="63"/>
                  </a:lnTo>
                  <a:lnTo>
                    <a:pt x="7" y="57"/>
                  </a:lnTo>
                  <a:lnTo>
                    <a:pt x="5" y="51"/>
                  </a:lnTo>
                  <a:lnTo>
                    <a:pt x="2" y="44"/>
                  </a:lnTo>
                  <a:lnTo>
                    <a:pt x="1" y="37"/>
                  </a:lnTo>
                  <a:lnTo>
                    <a:pt x="0" y="30"/>
                  </a:lnTo>
                  <a:lnTo>
                    <a:pt x="0" y="24"/>
                  </a:lnTo>
                  <a:lnTo>
                    <a:pt x="0" y="19"/>
                  </a:lnTo>
                  <a:lnTo>
                    <a:pt x="0" y="15"/>
                  </a:lnTo>
                  <a:lnTo>
                    <a:pt x="1" y="8"/>
                  </a:lnTo>
                  <a:lnTo>
                    <a:pt x="3" y="5"/>
                  </a:lnTo>
                  <a:lnTo>
                    <a:pt x="9" y="0"/>
                  </a:lnTo>
                  <a:lnTo>
                    <a:pt x="18" y="3"/>
                  </a:lnTo>
                  <a:lnTo>
                    <a:pt x="20" y="11"/>
                  </a:lnTo>
                  <a:lnTo>
                    <a:pt x="20" y="22"/>
                  </a:lnTo>
                  <a:lnTo>
                    <a:pt x="20" y="31"/>
                  </a:lnTo>
                  <a:lnTo>
                    <a:pt x="22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7743240" y="3411360"/>
              <a:ext cx="152280" cy="159840"/>
            </a:xfrm>
            <a:custGeom>
              <a:avLst/>
              <a:gdLst/>
              <a:ahLst/>
              <a:rect l="l" t="t" r="r" b="b"/>
              <a:pathLst>
                <a:path w="192" h="202">
                  <a:moveTo>
                    <a:pt x="173" y="11"/>
                  </a:moveTo>
                  <a:lnTo>
                    <a:pt x="180" y="22"/>
                  </a:lnTo>
                  <a:lnTo>
                    <a:pt x="185" y="36"/>
                  </a:lnTo>
                  <a:lnTo>
                    <a:pt x="187" y="49"/>
                  </a:lnTo>
                  <a:lnTo>
                    <a:pt x="188" y="65"/>
                  </a:lnTo>
                  <a:lnTo>
                    <a:pt x="188" y="79"/>
                  </a:lnTo>
                  <a:lnTo>
                    <a:pt x="188" y="95"/>
                  </a:lnTo>
                  <a:lnTo>
                    <a:pt x="189" y="109"/>
                  </a:lnTo>
                  <a:lnTo>
                    <a:pt x="192" y="123"/>
                  </a:lnTo>
                  <a:lnTo>
                    <a:pt x="189" y="132"/>
                  </a:lnTo>
                  <a:lnTo>
                    <a:pt x="187" y="142"/>
                  </a:lnTo>
                  <a:lnTo>
                    <a:pt x="183" y="152"/>
                  </a:lnTo>
                  <a:lnTo>
                    <a:pt x="179" y="162"/>
                  </a:lnTo>
                  <a:lnTo>
                    <a:pt x="173" y="169"/>
                  </a:lnTo>
                  <a:lnTo>
                    <a:pt x="167" y="178"/>
                  </a:lnTo>
                  <a:lnTo>
                    <a:pt x="159" y="185"/>
                  </a:lnTo>
                  <a:lnTo>
                    <a:pt x="152" y="192"/>
                  </a:lnTo>
                  <a:lnTo>
                    <a:pt x="139" y="190"/>
                  </a:lnTo>
                  <a:lnTo>
                    <a:pt x="125" y="190"/>
                  </a:lnTo>
                  <a:lnTo>
                    <a:pt x="112" y="190"/>
                  </a:lnTo>
                  <a:lnTo>
                    <a:pt x="99" y="192"/>
                  </a:lnTo>
                  <a:lnTo>
                    <a:pt x="86" y="193"/>
                  </a:lnTo>
                  <a:lnTo>
                    <a:pt x="73" y="196"/>
                  </a:lnTo>
                  <a:lnTo>
                    <a:pt x="60" y="199"/>
                  </a:lnTo>
                  <a:lnTo>
                    <a:pt x="48" y="202"/>
                  </a:lnTo>
                  <a:lnTo>
                    <a:pt x="39" y="200"/>
                  </a:lnTo>
                  <a:lnTo>
                    <a:pt x="33" y="197"/>
                  </a:lnTo>
                  <a:lnTo>
                    <a:pt x="29" y="192"/>
                  </a:lnTo>
                  <a:lnTo>
                    <a:pt x="25" y="188"/>
                  </a:lnTo>
                  <a:lnTo>
                    <a:pt x="24" y="181"/>
                  </a:lnTo>
                  <a:lnTo>
                    <a:pt x="20" y="178"/>
                  </a:lnTo>
                  <a:lnTo>
                    <a:pt x="14" y="173"/>
                  </a:lnTo>
                  <a:lnTo>
                    <a:pt x="12" y="169"/>
                  </a:lnTo>
                  <a:lnTo>
                    <a:pt x="5" y="150"/>
                  </a:lnTo>
                  <a:lnTo>
                    <a:pt x="2" y="131"/>
                  </a:lnTo>
                  <a:lnTo>
                    <a:pt x="0" y="111"/>
                  </a:lnTo>
                  <a:lnTo>
                    <a:pt x="1" y="93"/>
                  </a:lnTo>
                  <a:lnTo>
                    <a:pt x="2" y="73"/>
                  </a:lnTo>
                  <a:lnTo>
                    <a:pt x="4" y="53"/>
                  </a:lnTo>
                  <a:lnTo>
                    <a:pt x="7" y="34"/>
                  </a:lnTo>
                  <a:lnTo>
                    <a:pt x="10" y="15"/>
                  </a:lnTo>
                  <a:lnTo>
                    <a:pt x="20" y="11"/>
                  </a:lnTo>
                  <a:lnTo>
                    <a:pt x="29" y="8"/>
                  </a:lnTo>
                  <a:lnTo>
                    <a:pt x="39" y="6"/>
                  </a:lnTo>
                  <a:lnTo>
                    <a:pt x="51" y="5"/>
                  </a:lnTo>
                  <a:lnTo>
                    <a:pt x="61" y="4"/>
                  </a:lnTo>
                  <a:lnTo>
                    <a:pt x="72" y="2"/>
                  </a:lnTo>
                  <a:lnTo>
                    <a:pt x="83" y="1"/>
                  </a:lnTo>
                  <a:lnTo>
                    <a:pt x="94" y="0"/>
                  </a:lnTo>
                  <a:lnTo>
                    <a:pt x="103" y="0"/>
                  </a:lnTo>
                  <a:lnTo>
                    <a:pt x="113" y="0"/>
                  </a:lnTo>
                  <a:lnTo>
                    <a:pt x="123" y="1"/>
                  </a:lnTo>
                  <a:lnTo>
                    <a:pt x="134" y="4"/>
                  </a:lnTo>
                  <a:lnTo>
                    <a:pt x="144" y="5"/>
                  </a:lnTo>
                  <a:lnTo>
                    <a:pt x="154" y="7"/>
                  </a:lnTo>
                  <a:lnTo>
                    <a:pt x="164" y="9"/>
                  </a:lnTo>
                  <a:lnTo>
                    <a:pt x="173" y="11"/>
                  </a:ln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920720" y="3416040"/>
              <a:ext cx="118800" cy="125280"/>
            </a:xfrm>
            <a:custGeom>
              <a:avLst/>
              <a:gdLst/>
              <a:ahLst/>
              <a:rect l="l" t="t" r="r" b="b"/>
              <a:pathLst>
                <a:path w="150" h="156">
                  <a:moveTo>
                    <a:pt x="124" y="0"/>
                  </a:moveTo>
                  <a:lnTo>
                    <a:pt x="126" y="16"/>
                  </a:lnTo>
                  <a:lnTo>
                    <a:pt x="130" y="33"/>
                  </a:lnTo>
                  <a:lnTo>
                    <a:pt x="134" y="49"/>
                  </a:lnTo>
                  <a:lnTo>
                    <a:pt x="140" y="66"/>
                  </a:lnTo>
                  <a:lnTo>
                    <a:pt x="143" y="81"/>
                  </a:lnTo>
                  <a:lnTo>
                    <a:pt x="146" y="99"/>
                  </a:lnTo>
                  <a:lnTo>
                    <a:pt x="148" y="116"/>
                  </a:lnTo>
                  <a:lnTo>
                    <a:pt x="150" y="134"/>
                  </a:lnTo>
                  <a:lnTo>
                    <a:pt x="132" y="136"/>
                  </a:lnTo>
                  <a:lnTo>
                    <a:pt x="115" y="138"/>
                  </a:lnTo>
                  <a:lnTo>
                    <a:pt x="96" y="141"/>
                  </a:lnTo>
                  <a:lnTo>
                    <a:pt x="77" y="143"/>
                  </a:lnTo>
                  <a:lnTo>
                    <a:pt x="59" y="145"/>
                  </a:lnTo>
                  <a:lnTo>
                    <a:pt x="40" y="148"/>
                  </a:lnTo>
                  <a:lnTo>
                    <a:pt x="22" y="151"/>
                  </a:lnTo>
                  <a:lnTo>
                    <a:pt x="8" y="156"/>
                  </a:lnTo>
                  <a:lnTo>
                    <a:pt x="0" y="156"/>
                  </a:lnTo>
                  <a:lnTo>
                    <a:pt x="14" y="149"/>
                  </a:lnTo>
                  <a:lnTo>
                    <a:pt x="29" y="143"/>
                  </a:lnTo>
                  <a:lnTo>
                    <a:pt x="41" y="133"/>
                  </a:lnTo>
                  <a:lnTo>
                    <a:pt x="54" y="124"/>
                  </a:lnTo>
                  <a:lnTo>
                    <a:pt x="63" y="112"/>
                  </a:lnTo>
                  <a:lnTo>
                    <a:pt x="71" y="99"/>
                  </a:lnTo>
                  <a:lnTo>
                    <a:pt x="77" y="84"/>
                  </a:lnTo>
                  <a:lnTo>
                    <a:pt x="83" y="68"/>
                  </a:lnTo>
                  <a:lnTo>
                    <a:pt x="82" y="58"/>
                  </a:lnTo>
                  <a:lnTo>
                    <a:pt x="79" y="48"/>
                  </a:lnTo>
                  <a:lnTo>
                    <a:pt x="76" y="39"/>
                  </a:lnTo>
                  <a:lnTo>
                    <a:pt x="74" y="31"/>
                  </a:lnTo>
                  <a:lnTo>
                    <a:pt x="69" y="21"/>
                  </a:lnTo>
                  <a:lnTo>
                    <a:pt x="64" y="13"/>
                  </a:lnTo>
                  <a:lnTo>
                    <a:pt x="57" y="6"/>
                  </a:lnTo>
                  <a:lnTo>
                    <a:pt x="49" y="0"/>
                  </a:lnTo>
                  <a:lnTo>
                    <a:pt x="59" y="1"/>
                  </a:lnTo>
                  <a:lnTo>
                    <a:pt x="68" y="2"/>
                  </a:lnTo>
                  <a:lnTo>
                    <a:pt x="77" y="2"/>
                  </a:lnTo>
                  <a:lnTo>
                    <a:pt x="87" y="3"/>
                  </a:lnTo>
                  <a:lnTo>
                    <a:pt x="96" y="3"/>
                  </a:lnTo>
                  <a:lnTo>
                    <a:pt x="105" y="3"/>
                  </a:lnTo>
                  <a:lnTo>
                    <a:pt x="115" y="1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638480" y="3422520"/>
              <a:ext cx="102960" cy="153720"/>
            </a:xfrm>
            <a:custGeom>
              <a:avLst/>
              <a:gdLst/>
              <a:ahLst/>
              <a:rect l="l" t="t" r="r" b="b"/>
              <a:pathLst>
                <a:path w="131" h="195">
                  <a:moveTo>
                    <a:pt x="114" y="1"/>
                  </a:moveTo>
                  <a:lnTo>
                    <a:pt x="111" y="20"/>
                  </a:lnTo>
                  <a:lnTo>
                    <a:pt x="110" y="38"/>
                  </a:lnTo>
                  <a:lnTo>
                    <a:pt x="108" y="57"/>
                  </a:lnTo>
                  <a:lnTo>
                    <a:pt x="108" y="77"/>
                  </a:lnTo>
                  <a:lnTo>
                    <a:pt x="108" y="95"/>
                  </a:lnTo>
                  <a:lnTo>
                    <a:pt x="109" y="114"/>
                  </a:lnTo>
                  <a:lnTo>
                    <a:pt x="111" y="132"/>
                  </a:lnTo>
                  <a:lnTo>
                    <a:pt x="114" y="153"/>
                  </a:lnTo>
                  <a:lnTo>
                    <a:pt x="117" y="159"/>
                  </a:lnTo>
                  <a:lnTo>
                    <a:pt x="120" y="168"/>
                  </a:lnTo>
                  <a:lnTo>
                    <a:pt x="124" y="175"/>
                  </a:lnTo>
                  <a:lnTo>
                    <a:pt x="131" y="180"/>
                  </a:lnTo>
                  <a:lnTo>
                    <a:pt x="118" y="181"/>
                  </a:lnTo>
                  <a:lnTo>
                    <a:pt x="106" y="183"/>
                  </a:lnTo>
                  <a:lnTo>
                    <a:pt x="92" y="185"/>
                  </a:lnTo>
                  <a:lnTo>
                    <a:pt x="80" y="187"/>
                  </a:lnTo>
                  <a:lnTo>
                    <a:pt x="66" y="189"/>
                  </a:lnTo>
                  <a:lnTo>
                    <a:pt x="51" y="192"/>
                  </a:lnTo>
                  <a:lnTo>
                    <a:pt x="37" y="193"/>
                  </a:lnTo>
                  <a:lnTo>
                    <a:pt x="23" y="195"/>
                  </a:lnTo>
                  <a:lnTo>
                    <a:pt x="18" y="173"/>
                  </a:lnTo>
                  <a:lnTo>
                    <a:pt x="14" y="153"/>
                  </a:lnTo>
                  <a:lnTo>
                    <a:pt x="8" y="132"/>
                  </a:lnTo>
                  <a:lnTo>
                    <a:pt x="4" y="113"/>
                  </a:lnTo>
                  <a:lnTo>
                    <a:pt x="1" y="92"/>
                  </a:lnTo>
                  <a:lnTo>
                    <a:pt x="0" y="72"/>
                  </a:lnTo>
                  <a:lnTo>
                    <a:pt x="0" y="52"/>
                  </a:lnTo>
                  <a:lnTo>
                    <a:pt x="4" y="32"/>
                  </a:lnTo>
                  <a:lnTo>
                    <a:pt x="15" y="26"/>
                  </a:lnTo>
                  <a:lnTo>
                    <a:pt x="28" y="20"/>
                  </a:lnTo>
                  <a:lnTo>
                    <a:pt x="41" y="13"/>
                  </a:lnTo>
                  <a:lnTo>
                    <a:pt x="56" y="9"/>
                  </a:lnTo>
                  <a:lnTo>
                    <a:pt x="70" y="4"/>
                  </a:lnTo>
                  <a:lnTo>
                    <a:pt x="85" y="2"/>
                  </a:lnTo>
                  <a:lnTo>
                    <a:pt x="100" y="0"/>
                  </a:lnTo>
                  <a:lnTo>
                    <a:pt x="114" y="1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911360" y="3423960"/>
              <a:ext cx="55080" cy="98280"/>
            </a:xfrm>
            <a:custGeom>
              <a:avLst/>
              <a:gdLst/>
              <a:ahLst/>
              <a:rect l="l" t="t" r="r" b="b"/>
              <a:pathLst>
                <a:path w="70" h="122">
                  <a:moveTo>
                    <a:pt x="52" y="12"/>
                  </a:moveTo>
                  <a:lnTo>
                    <a:pt x="58" y="23"/>
                  </a:lnTo>
                  <a:lnTo>
                    <a:pt x="66" y="34"/>
                  </a:lnTo>
                  <a:lnTo>
                    <a:pt x="68" y="40"/>
                  </a:lnTo>
                  <a:lnTo>
                    <a:pt x="70" y="47"/>
                  </a:lnTo>
                  <a:lnTo>
                    <a:pt x="69" y="53"/>
                  </a:lnTo>
                  <a:lnTo>
                    <a:pt x="69" y="60"/>
                  </a:lnTo>
                  <a:lnTo>
                    <a:pt x="66" y="68"/>
                  </a:lnTo>
                  <a:lnTo>
                    <a:pt x="61" y="78"/>
                  </a:lnTo>
                  <a:lnTo>
                    <a:pt x="55" y="86"/>
                  </a:lnTo>
                  <a:lnTo>
                    <a:pt x="49" y="94"/>
                  </a:lnTo>
                  <a:lnTo>
                    <a:pt x="41" y="102"/>
                  </a:lnTo>
                  <a:lnTo>
                    <a:pt x="33" y="109"/>
                  </a:lnTo>
                  <a:lnTo>
                    <a:pt x="25" y="114"/>
                  </a:lnTo>
                  <a:lnTo>
                    <a:pt x="17" y="120"/>
                  </a:lnTo>
                  <a:lnTo>
                    <a:pt x="6" y="122"/>
                  </a:lnTo>
                  <a:lnTo>
                    <a:pt x="0" y="0"/>
                  </a:lnTo>
                  <a:lnTo>
                    <a:pt x="5" y="0"/>
                  </a:lnTo>
                  <a:lnTo>
                    <a:pt x="12" y="1"/>
                  </a:lnTo>
                  <a:lnTo>
                    <a:pt x="18" y="2"/>
                  </a:lnTo>
                  <a:lnTo>
                    <a:pt x="25" y="4"/>
                  </a:lnTo>
                  <a:lnTo>
                    <a:pt x="31" y="5"/>
                  </a:lnTo>
                  <a:lnTo>
                    <a:pt x="39" y="7"/>
                  </a:lnTo>
                  <a:lnTo>
                    <a:pt x="45" y="9"/>
                  </a:lnTo>
                  <a:lnTo>
                    <a:pt x="52" y="12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765560" y="3427200"/>
              <a:ext cx="112320" cy="129960"/>
            </a:xfrm>
            <a:custGeom>
              <a:avLst/>
              <a:gdLst/>
              <a:ahLst/>
              <a:rect l="l" t="t" r="r" b="b"/>
              <a:pathLst>
                <a:path w="142" h="164">
                  <a:moveTo>
                    <a:pt x="120" y="24"/>
                  </a:moveTo>
                  <a:lnTo>
                    <a:pt x="123" y="30"/>
                  </a:lnTo>
                  <a:lnTo>
                    <a:pt x="127" y="36"/>
                  </a:lnTo>
                  <a:lnTo>
                    <a:pt x="130" y="43"/>
                  </a:lnTo>
                  <a:lnTo>
                    <a:pt x="135" y="50"/>
                  </a:lnTo>
                  <a:lnTo>
                    <a:pt x="136" y="56"/>
                  </a:lnTo>
                  <a:lnTo>
                    <a:pt x="137" y="64"/>
                  </a:lnTo>
                  <a:lnTo>
                    <a:pt x="136" y="72"/>
                  </a:lnTo>
                  <a:lnTo>
                    <a:pt x="132" y="80"/>
                  </a:lnTo>
                  <a:lnTo>
                    <a:pt x="136" y="86"/>
                  </a:lnTo>
                  <a:lnTo>
                    <a:pt x="139" y="93"/>
                  </a:lnTo>
                  <a:lnTo>
                    <a:pt x="140" y="101"/>
                  </a:lnTo>
                  <a:lnTo>
                    <a:pt x="142" y="109"/>
                  </a:lnTo>
                  <a:lnTo>
                    <a:pt x="141" y="116"/>
                  </a:lnTo>
                  <a:lnTo>
                    <a:pt x="141" y="123"/>
                  </a:lnTo>
                  <a:lnTo>
                    <a:pt x="140" y="131"/>
                  </a:lnTo>
                  <a:lnTo>
                    <a:pt x="139" y="139"/>
                  </a:lnTo>
                  <a:lnTo>
                    <a:pt x="130" y="146"/>
                  </a:lnTo>
                  <a:lnTo>
                    <a:pt x="121" y="151"/>
                  </a:lnTo>
                  <a:lnTo>
                    <a:pt x="111" y="154"/>
                  </a:lnTo>
                  <a:lnTo>
                    <a:pt x="100" y="158"/>
                  </a:lnTo>
                  <a:lnTo>
                    <a:pt x="89" y="159"/>
                  </a:lnTo>
                  <a:lnTo>
                    <a:pt x="78" y="161"/>
                  </a:lnTo>
                  <a:lnTo>
                    <a:pt x="65" y="161"/>
                  </a:lnTo>
                  <a:lnTo>
                    <a:pt x="55" y="164"/>
                  </a:lnTo>
                  <a:lnTo>
                    <a:pt x="45" y="160"/>
                  </a:lnTo>
                  <a:lnTo>
                    <a:pt x="37" y="161"/>
                  </a:lnTo>
                  <a:lnTo>
                    <a:pt x="28" y="163"/>
                  </a:lnTo>
                  <a:lnTo>
                    <a:pt x="20" y="162"/>
                  </a:lnTo>
                  <a:lnTo>
                    <a:pt x="15" y="142"/>
                  </a:lnTo>
                  <a:lnTo>
                    <a:pt x="11" y="123"/>
                  </a:lnTo>
                  <a:lnTo>
                    <a:pt x="6" y="104"/>
                  </a:lnTo>
                  <a:lnTo>
                    <a:pt x="3" y="85"/>
                  </a:lnTo>
                  <a:lnTo>
                    <a:pt x="0" y="66"/>
                  </a:lnTo>
                  <a:lnTo>
                    <a:pt x="1" y="49"/>
                  </a:lnTo>
                  <a:lnTo>
                    <a:pt x="5" y="31"/>
                  </a:lnTo>
                  <a:lnTo>
                    <a:pt x="15" y="16"/>
                  </a:lnTo>
                  <a:lnTo>
                    <a:pt x="27" y="8"/>
                  </a:lnTo>
                  <a:lnTo>
                    <a:pt x="40" y="3"/>
                  </a:lnTo>
                  <a:lnTo>
                    <a:pt x="55" y="0"/>
                  </a:lnTo>
                  <a:lnTo>
                    <a:pt x="69" y="1"/>
                  </a:lnTo>
                  <a:lnTo>
                    <a:pt x="83" y="2"/>
                  </a:lnTo>
                  <a:lnTo>
                    <a:pt x="97" y="7"/>
                  </a:lnTo>
                  <a:lnTo>
                    <a:pt x="109" y="14"/>
                  </a:lnTo>
                  <a:lnTo>
                    <a:pt x="12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784640" y="3446280"/>
              <a:ext cx="75960" cy="95040"/>
            </a:xfrm>
            <a:custGeom>
              <a:avLst/>
              <a:gdLst/>
              <a:ahLst/>
              <a:rect l="l" t="t" r="r" b="b"/>
              <a:pathLst>
                <a:path w="95" h="118">
                  <a:moveTo>
                    <a:pt x="85" y="22"/>
                  </a:moveTo>
                  <a:lnTo>
                    <a:pt x="85" y="26"/>
                  </a:lnTo>
                  <a:lnTo>
                    <a:pt x="75" y="28"/>
                  </a:lnTo>
                  <a:lnTo>
                    <a:pt x="66" y="29"/>
                  </a:lnTo>
                  <a:lnTo>
                    <a:pt x="57" y="30"/>
                  </a:lnTo>
                  <a:lnTo>
                    <a:pt x="48" y="32"/>
                  </a:lnTo>
                  <a:lnTo>
                    <a:pt x="39" y="34"/>
                  </a:lnTo>
                  <a:lnTo>
                    <a:pt x="34" y="38"/>
                  </a:lnTo>
                  <a:lnTo>
                    <a:pt x="29" y="45"/>
                  </a:lnTo>
                  <a:lnTo>
                    <a:pt x="28" y="55"/>
                  </a:lnTo>
                  <a:lnTo>
                    <a:pt x="29" y="63"/>
                  </a:lnTo>
                  <a:lnTo>
                    <a:pt x="33" y="71"/>
                  </a:lnTo>
                  <a:lnTo>
                    <a:pt x="39" y="78"/>
                  </a:lnTo>
                  <a:lnTo>
                    <a:pt x="47" y="84"/>
                  </a:lnTo>
                  <a:lnTo>
                    <a:pt x="55" y="87"/>
                  </a:lnTo>
                  <a:lnTo>
                    <a:pt x="63" y="87"/>
                  </a:lnTo>
                  <a:lnTo>
                    <a:pt x="71" y="85"/>
                  </a:lnTo>
                  <a:lnTo>
                    <a:pt x="81" y="83"/>
                  </a:lnTo>
                  <a:lnTo>
                    <a:pt x="88" y="82"/>
                  </a:lnTo>
                  <a:lnTo>
                    <a:pt x="93" y="84"/>
                  </a:lnTo>
                  <a:lnTo>
                    <a:pt x="95" y="91"/>
                  </a:lnTo>
                  <a:lnTo>
                    <a:pt x="95" y="105"/>
                  </a:lnTo>
                  <a:lnTo>
                    <a:pt x="86" y="107"/>
                  </a:lnTo>
                  <a:lnTo>
                    <a:pt x="76" y="109"/>
                  </a:lnTo>
                  <a:lnTo>
                    <a:pt x="67" y="111"/>
                  </a:lnTo>
                  <a:lnTo>
                    <a:pt x="59" y="113"/>
                  </a:lnTo>
                  <a:lnTo>
                    <a:pt x="49" y="114"/>
                  </a:lnTo>
                  <a:lnTo>
                    <a:pt x="40" y="115"/>
                  </a:lnTo>
                  <a:lnTo>
                    <a:pt x="32" y="116"/>
                  </a:lnTo>
                  <a:lnTo>
                    <a:pt x="24" y="118"/>
                  </a:lnTo>
                  <a:lnTo>
                    <a:pt x="19" y="118"/>
                  </a:lnTo>
                  <a:lnTo>
                    <a:pt x="15" y="101"/>
                  </a:lnTo>
                  <a:lnTo>
                    <a:pt x="10" y="86"/>
                  </a:lnTo>
                  <a:lnTo>
                    <a:pt x="5" y="70"/>
                  </a:lnTo>
                  <a:lnTo>
                    <a:pt x="2" y="55"/>
                  </a:lnTo>
                  <a:lnTo>
                    <a:pt x="0" y="39"/>
                  </a:lnTo>
                  <a:lnTo>
                    <a:pt x="2" y="25"/>
                  </a:lnTo>
                  <a:lnTo>
                    <a:pt x="8" y="12"/>
                  </a:lnTo>
                  <a:lnTo>
                    <a:pt x="21" y="1"/>
                  </a:lnTo>
                  <a:lnTo>
                    <a:pt x="30" y="0"/>
                  </a:lnTo>
                  <a:lnTo>
                    <a:pt x="39" y="0"/>
                  </a:lnTo>
                  <a:lnTo>
                    <a:pt x="47" y="0"/>
                  </a:lnTo>
                  <a:lnTo>
                    <a:pt x="57" y="3"/>
                  </a:lnTo>
                  <a:lnTo>
                    <a:pt x="64" y="5"/>
                  </a:lnTo>
                  <a:lnTo>
                    <a:pt x="72" y="9"/>
                  </a:lnTo>
                  <a:lnTo>
                    <a:pt x="78" y="14"/>
                  </a:lnTo>
                  <a:lnTo>
                    <a:pt x="85" y="22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828560" y="3489120"/>
              <a:ext cx="29880" cy="6120"/>
            </a:xfrm>
            <a:custGeom>
              <a:avLst/>
              <a:gdLst/>
              <a:ahLst/>
              <a:rect l="l" t="t" r="r" b="b"/>
              <a:pathLst>
                <a:path w="38" h="8">
                  <a:moveTo>
                    <a:pt x="38" y="2"/>
                  </a:moveTo>
                  <a:lnTo>
                    <a:pt x="33" y="5"/>
                  </a:lnTo>
                  <a:lnTo>
                    <a:pt x="26" y="7"/>
                  </a:lnTo>
                  <a:lnTo>
                    <a:pt x="16" y="7"/>
                  </a:lnTo>
                  <a:lnTo>
                    <a:pt x="9" y="8"/>
                  </a:lnTo>
                  <a:lnTo>
                    <a:pt x="2" y="6"/>
                  </a:lnTo>
                  <a:lnTo>
                    <a:pt x="0" y="5"/>
                  </a:lnTo>
                  <a:lnTo>
                    <a:pt x="4" y="2"/>
                  </a:lnTo>
                  <a:lnTo>
                    <a:pt x="15" y="0"/>
                  </a:lnTo>
                  <a:lnTo>
                    <a:pt x="38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69000" y="3554280"/>
              <a:ext cx="491040" cy="1103040"/>
            </a:xfrm>
            <a:custGeom>
              <a:avLst/>
              <a:gdLst/>
              <a:ahLst/>
              <a:rect l="l" t="t" r="r" b="b"/>
              <a:pathLst>
                <a:path w="621" h="1390">
                  <a:moveTo>
                    <a:pt x="588" y="57"/>
                  </a:moveTo>
                  <a:lnTo>
                    <a:pt x="599" y="161"/>
                  </a:lnTo>
                  <a:lnTo>
                    <a:pt x="608" y="268"/>
                  </a:lnTo>
                  <a:lnTo>
                    <a:pt x="615" y="375"/>
                  </a:lnTo>
                  <a:lnTo>
                    <a:pt x="620" y="484"/>
                  </a:lnTo>
                  <a:lnTo>
                    <a:pt x="621" y="591"/>
                  </a:lnTo>
                  <a:lnTo>
                    <a:pt x="619" y="699"/>
                  </a:lnTo>
                  <a:lnTo>
                    <a:pt x="611" y="807"/>
                  </a:lnTo>
                  <a:lnTo>
                    <a:pt x="602" y="916"/>
                  </a:lnTo>
                  <a:lnTo>
                    <a:pt x="595" y="959"/>
                  </a:lnTo>
                  <a:lnTo>
                    <a:pt x="588" y="1003"/>
                  </a:lnTo>
                  <a:lnTo>
                    <a:pt x="579" y="1046"/>
                  </a:lnTo>
                  <a:lnTo>
                    <a:pt x="572" y="1091"/>
                  </a:lnTo>
                  <a:lnTo>
                    <a:pt x="562" y="1133"/>
                  </a:lnTo>
                  <a:lnTo>
                    <a:pt x="552" y="1177"/>
                  </a:lnTo>
                  <a:lnTo>
                    <a:pt x="542" y="1219"/>
                  </a:lnTo>
                  <a:lnTo>
                    <a:pt x="531" y="1263"/>
                  </a:lnTo>
                  <a:lnTo>
                    <a:pt x="521" y="1279"/>
                  </a:lnTo>
                  <a:lnTo>
                    <a:pt x="511" y="1295"/>
                  </a:lnTo>
                  <a:lnTo>
                    <a:pt x="499" y="1308"/>
                  </a:lnTo>
                  <a:lnTo>
                    <a:pt x="485" y="1322"/>
                  </a:lnTo>
                  <a:lnTo>
                    <a:pt x="470" y="1333"/>
                  </a:lnTo>
                  <a:lnTo>
                    <a:pt x="454" y="1343"/>
                  </a:lnTo>
                  <a:lnTo>
                    <a:pt x="438" y="1353"/>
                  </a:lnTo>
                  <a:lnTo>
                    <a:pt x="423" y="1363"/>
                  </a:lnTo>
                  <a:lnTo>
                    <a:pt x="414" y="1357"/>
                  </a:lnTo>
                  <a:lnTo>
                    <a:pt x="408" y="1350"/>
                  </a:lnTo>
                  <a:lnTo>
                    <a:pt x="404" y="1340"/>
                  </a:lnTo>
                  <a:lnTo>
                    <a:pt x="402" y="1332"/>
                  </a:lnTo>
                  <a:lnTo>
                    <a:pt x="400" y="1322"/>
                  </a:lnTo>
                  <a:lnTo>
                    <a:pt x="399" y="1312"/>
                  </a:lnTo>
                  <a:lnTo>
                    <a:pt x="396" y="1303"/>
                  </a:lnTo>
                  <a:lnTo>
                    <a:pt x="394" y="1296"/>
                  </a:lnTo>
                  <a:lnTo>
                    <a:pt x="384" y="1278"/>
                  </a:lnTo>
                  <a:lnTo>
                    <a:pt x="376" y="1261"/>
                  </a:lnTo>
                  <a:lnTo>
                    <a:pt x="368" y="1243"/>
                  </a:lnTo>
                  <a:lnTo>
                    <a:pt x="361" y="1226"/>
                  </a:lnTo>
                  <a:lnTo>
                    <a:pt x="350" y="1209"/>
                  </a:lnTo>
                  <a:lnTo>
                    <a:pt x="340" y="1194"/>
                  </a:lnTo>
                  <a:lnTo>
                    <a:pt x="327" y="1181"/>
                  </a:lnTo>
                  <a:lnTo>
                    <a:pt x="311" y="1171"/>
                  </a:lnTo>
                  <a:lnTo>
                    <a:pt x="262" y="1147"/>
                  </a:lnTo>
                  <a:lnTo>
                    <a:pt x="215" y="1149"/>
                  </a:lnTo>
                  <a:lnTo>
                    <a:pt x="205" y="1153"/>
                  </a:lnTo>
                  <a:lnTo>
                    <a:pt x="197" y="1158"/>
                  </a:lnTo>
                  <a:lnTo>
                    <a:pt x="188" y="1163"/>
                  </a:lnTo>
                  <a:lnTo>
                    <a:pt x="179" y="1169"/>
                  </a:lnTo>
                  <a:lnTo>
                    <a:pt x="171" y="1176"/>
                  </a:lnTo>
                  <a:lnTo>
                    <a:pt x="165" y="1183"/>
                  </a:lnTo>
                  <a:lnTo>
                    <a:pt x="159" y="1192"/>
                  </a:lnTo>
                  <a:lnTo>
                    <a:pt x="155" y="1203"/>
                  </a:lnTo>
                  <a:lnTo>
                    <a:pt x="149" y="1226"/>
                  </a:lnTo>
                  <a:lnTo>
                    <a:pt x="149" y="1250"/>
                  </a:lnTo>
                  <a:lnTo>
                    <a:pt x="154" y="1273"/>
                  </a:lnTo>
                  <a:lnTo>
                    <a:pt x="161" y="1297"/>
                  </a:lnTo>
                  <a:lnTo>
                    <a:pt x="168" y="1319"/>
                  </a:lnTo>
                  <a:lnTo>
                    <a:pt x="176" y="1342"/>
                  </a:lnTo>
                  <a:lnTo>
                    <a:pt x="183" y="1365"/>
                  </a:lnTo>
                  <a:lnTo>
                    <a:pt x="188" y="1390"/>
                  </a:lnTo>
                  <a:lnTo>
                    <a:pt x="162" y="1390"/>
                  </a:lnTo>
                  <a:lnTo>
                    <a:pt x="137" y="1388"/>
                  </a:lnTo>
                  <a:lnTo>
                    <a:pt x="112" y="1384"/>
                  </a:lnTo>
                  <a:lnTo>
                    <a:pt x="87" y="1378"/>
                  </a:lnTo>
                  <a:lnTo>
                    <a:pt x="62" y="1368"/>
                  </a:lnTo>
                  <a:lnTo>
                    <a:pt x="41" y="1357"/>
                  </a:lnTo>
                  <a:lnTo>
                    <a:pt x="19" y="1343"/>
                  </a:lnTo>
                  <a:lnTo>
                    <a:pt x="0" y="1328"/>
                  </a:lnTo>
                  <a:lnTo>
                    <a:pt x="9" y="1299"/>
                  </a:lnTo>
                  <a:lnTo>
                    <a:pt x="18" y="1271"/>
                  </a:lnTo>
                  <a:lnTo>
                    <a:pt x="27" y="1243"/>
                  </a:lnTo>
                  <a:lnTo>
                    <a:pt x="36" y="1215"/>
                  </a:lnTo>
                  <a:lnTo>
                    <a:pt x="45" y="1187"/>
                  </a:lnTo>
                  <a:lnTo>
                    <a:pt x="53" y="1159"/>
                  </a:lnTo>
                  <a:lnTo>
                    <a:pt x="61" y="1131"/>
                  </a:lnTo>
                  <a:lnTo>
                    <a:pt x="70" y="1103"/>
                  </a:lnTo>
                  <a:lnTo>
                    <a:pt x="80" y="1084"/>
                  </a:lnTo>
                  <a:lnTo>
                    <a:pt x="88" y="1067"/>
                  </a:lnTo>
                  <a:lnTo>
                    <a:pt x="95" y="1047"/>
                  </a:lnTo>
                  <a:lnTo>
                    <a:pt x="102" y="1028"/>
                  </a:lnTo>
                  <a:lnTo>
                    <a:pt x="107" y="1008"/>
                  </a:lnTo>
                  <a:lnTo>
                    <a:pt x="113" y="988"/>
                  </a:lnTo>
                  <a:lnTo>
                    <a:pt x="119" y="969"/>
                  </a:lnTo>
                  <a:lnTo>
                    <a:pt x="128" y="951"/>
                  </a:lnTo>
                  <a:lnTo>
                    <a:pt x="133" y="928"/>
                  </a:lnTo>
                  <a:lnTo>
                    <a:pt x="140" y="905"/>
                  </a:lnTo>
                  <a:lnTo>
                    <a:pt x="146" y="881"/>
                  </a:lnTo>
                  <a:lnTo>
                    <a:pt x="154" y="859"/>
                  </a:lnTo>
                  <a:lnTo>
                    <a:pt x="159" y="835"/>
                  </a:lnTo>
                  <a:lnTo>
                    <a:pt x="164" y="811"/>
                  </a:lnTo>
                  <a:lnTo>
                    <a:pt x="167" y="786"/>
                  </a:lnTo>
                  <a:lnTo>
                    <a:pt x="167" y="761"/>
                  </a:lnTo>
                  <a:lnTo>
                    <a:pt x="166" y="672"/>
                  </a:lnTo>
                  <a:lnTo>
                    <a:pt x="165" y="585"/>
                  </a:lnTo>
                  <a:lnTo>
                    <a:pt x="162" y="496"/>
                  </a:lnTo>
                  <a:lnTo>
                    <a:pt x="160" y="409"/>
                  </a:lnTo>
                  <a:lnTo>
                    <a:pt x="155" y="321"/>
                  </a:lnTo>
                  <a:lnTo>
                    <a:pt x="150" y="234"/>
                  </a:lnTo>
                  <a:lnTo>
                    <a:pt x="146" y="147"/>
                  </a:lnTo>
                  <a:lnTo>
                    <a:pt x="142" y="63"/>
                  </a:lnTo>
                  <a:lnTo>
                    <a:pt x="142" y="55"/>
                  </a:lnTo>
                  <a:lnTo>
                    <a:pt x="145" y="50"/>
                  </a:lnTo>
                  <a:lnTo>
                    <a:pt x="148" y="47"/>
                  </a:lnTo>
                  <a:lnTo>
                    <a:pt x="155" y="47"/>
                  </a:lnTo>
                  <a:lnTo>
                    <a:pt x="161" y="47"/>
                  </a:lnTo>
                  <a:lnTo>
                    <a:pt x="167" y="47"/>
                  </a:lnTo>
                  <a:lnTo>
                    <a:pt x="172" y="45"/>
                  </a:lnTo>
                  <a:lnTo>
                    <a:pt x="177" y="44"/>
                  </a:lnTo>
                  <a:lnTo>
                    <a:pt x="193" y="39"/>
                  </a:lnTo>
                  <a:lnTo>
                    <a:pt x="207" y="39"/>
                  </a:lnTo>
                  <a:lnTo>
                    <a:pt x="220" y="41"/>
                  </a:lnTo>
                  <a:lnTo>
                    <a:pt x="233" y="45"/>
                  </a:lnTo>
                  <a:lnTo>
                    <a:pt x="246" y="48"/>
                  </a:lnTo>
                  <a:lnTo>
                    <a:pt x="258" y="51"/>
                  </a:lnTo>
                  <a:lnTo>
                    <a:pt x="273" y="50"/>
                  </a:lnTo>
                  <a:lnTo>
                    <a:pt x="289" y="46"/>
                  </a:lnTo>
                  <a:lnTo>
                    <a:pt x="305" y="42"/>
                  </a:lnTo>
                  <a:lnTo>
                    <a:pt x="322" y="41"/>
                  </a:lnTo>
                  <a:lnTo>
                    <a:pt x="339" y="40"/>
                  </a:lnTo>
                  <a:lnTo>
                    <a:pt x="357" y="39"/>
                  </a:lnTo>
                  <a:lnTo>
                    <a:pt x="373" y="37"/>
                  </a:lnTo>
                  <a:lnTo>
                    <a:pt x="390" y="35"/>
                  </a:lnTo>
                  <a:lnTo>
                    <a:pt x="406" y="30"/>
                  </a:lnTo>
                  <a:lnTo>
                    <a:pt x="423" y="24"/>
                  </a:lnTo>
                  <a:lnTo>
                    <a:pt x="437" y="9"/>
                  </a:lnTo>
                  <a:lnTo>
                    <a:pt x="453" y="7"/>
                  </a:lnTo>
                  <a:lnTo>
                    <a:pt x="470" y="5"/>
                  </a:lnTo>
                  <a:lnTo>
                    <a:pt x="486" y="3"/>
                  </a:lnTo>
                  <a:lnTo>
                    <a:pt x="504" y="2"/>
                  </a:lnTo>
                  <a:lnTo>
                    <a:pt x="519" y="1"/>
                  </a:lnTo>
                  <a:lnTo>
                    <a:pt x="537" y="0"/>
                  </a:lnTo>
                  <a:lnTo>
                    <a:pt x="552" y="0"/>
                  </a:lnTo>
                  <a:lnTo>
                    <a:pt x="570" y="1"/>
                  </a:lnTo>
                  <a:lnTo>
                    <a:pt x="588" y="57"/>
                  </a:lnTo>
                  <a:close/>
                </a:path>
              </a:pathLst>
            </a:custGeom>
            <a:solidFill>
              <a:srgbClr val="924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025680" y="3693600"/>
              <a:ext cx="1464120" cy="1223640"/>
            </a:xfrm>
            <a:custGeom>
              <a:avLst/>
              <a:gdLst/>
              <a:ahLst/>
              <a:rect l="l" t="t" r="r" b="b"/>
              <a:pathLst>
                <a:path w="1847" h="1543">
                  <a:moveTo>
                    <a:pt x="1678" y="142"/>
                  </a:moveTo>
                  <a:lnTo>
                    <a:pt x="1651" y="138"/>
                  </a:lnTo>
                  <a:lnTo>
                    <a:pt x="1623" y="134"/>
                  </a:lnTo>
                  <a:lnTo>
                    <a:pt x="1592" y="131"/>
                  </a:lnTo>
                  <a:lnTo>
                    <a:pt x="1562" y="131"/>
                  </a:lnTo>
                  <a:lnTo>
                    <a:pt x="1531" y="133"/>
                  </a:lnTo>
                  <a:lnTo>
                    <a:pt x="1502" y="141"/>
                  </a:lnTo>
                  <a:lnTo>
                    <a:pt x="1475" y="152"/>
                  </a:lnTo>
                  <a:lnTo>
                    <a:pt x="1451" y="171"/>
                  </a:lnTo>
                  <a:lnTo>
                    <a:pt x="1444" y="173"/>
                  </a:lnTo>
                  <a:lnTo>
                    <a:pt x="1437" y="179"/>
                  </a:lnTo>
                  <a:lnTo>
                    <a:pt x="1440" y="182"/>
                  </a:lnTo>
                  <a:lnTo>
                    <a:pt x="1445" y="185"/>
                  </a:lnTo>
                  <a:lnTo>
                    <a:pt x="1450" y="186"/>
                  </a:lnTo>
                  <a:lnTo>
                    <a:pt x="1456" y="188"/>
                  </a:lnTo>
                  <a:lnTo>
                    <a:pt x="1462" y="188"/>
                  </a:lnTo>
                  <a:lnTo>
                    <a:pt x="1470" y="189"/>
                  </a:lnTo>
                  <a:lnTo>
                    <a:pt x="1476" y="190"/>
                  </a:lnTo>
                  <a:lnTo>
                    <a:pt x="1483" y="194"/>
                  </a:lnTo>
                  <a:lnTo>
                    <a:pt x="1548" y="217"/>
                  </a:lnTo>
                  <a:lnTo>
                    <a:pt x="1613" y="254"/>
                  </a:lnTo>
                  <a:lnTo>
                    <a:pt x="1672" y="298"/>
                  </a:lnTo>
                  <a:lnTo>
                    <a:pt x="1726" y="352"/>
                  </a:lnTo>
                  <a:lnTo>
                    <a:pt x="1771" y="411"/>
                  </a:lnTo>
                  <a:lnTo>
                    <a:pt x="1808" y="476"/>
                  </a:lnTo>
                  <a:lnTo>
                    <a:pt x="1833" y="546"/>
                  </a:lnTo>
                  <a:lnTo>
                    <a:pt x="1847" y="618"/>
                  </a:lnTo>
                  <a:lnTo>
                    <a:pt x="1844" y="638"/>
                  </a:lnTo>
                  <a:lnTo>
                    <a:pt x="1842" y="660"/>
                  </a:lnTo>
                  <a:lnTo>
                    <a:pt x="1841" y="681"/>
                  </a:lnTo>
                  <a:lnTo>
                    <a:pt x="1840" y="704"/>
                  </a:lnTo>
                  <a:lnTo>
                    <a:pt x="1838" y="726"/>
                  </a:lnTo>
                  <a:lnTo>
                    <a:pt x="1837" y="748"/>
                  </a:lnTo>
                  <a:lnTo>
                    <a:pt x="1834" y="769"/>
                  </a:lnTo>
                  <a:lnTo>
                    <a:pt x="1832" y="790"/>
                  </a:lnTo>
                  <a:lnTo>
                    <a:pt x="1775" y="722"/>
                  </a:lnTo>
                  <a:lnTo>
                    <a:pt x="1715" y="657"/>
                  </a:lnTo>
                  <a:lnTo>
                    <a:pt x="1650" y="596"/>
                  </a:lnTo>
                  <a:lnTo>
                    <a:pt x="1583" y="541"/>
                  </a:lnTo>
                  <a:lnTo>
                    <a:pt x="1509" y="491"/>
                  </a:lnTo>
                  <a:lnTo>
                    <a:pt x="1433" y="451"/>
                  </a:lnTo>
                  <a:lnTo>
                    <a:pt x="1354" y="421"/>
                  </a:lnTo>
                  <a:lnTo>
                    <a:pt x="1271" y="404"/>
                  </a:lnTo>
                  <a:lnTo>
                    <a:pt x="1272" y="409"/>
                  </a:lnTo>
                  <a:lnTo>
                    <a:pt x="1277" y="414"/>
                  </a:lnTo>
                  <a:lnTo>
                    <a:pt x="1282" y="418"/>
                  </a:lnTo>
                  <a:lnTo>
                    <a:pt x="1289" y="422"/>
                  </a:lnTo>
                  <a:lnTo>
                    <a:pt x="1296" y="426"/>
                  </a:lnTo>
                  <a:lnTo>
                    <a:pt x="1304" y="430"/>
                  </a:lnTo>
                  <a:lnTo>
                    <a:pt x="1310" y="433"/>
                  </a:lnTo>
                  <a:lnTo>
                    <a:pt x="1316" y="439"/>
                  </a:lnTo>
                  <a:lnTo>
                    <a:pt x="1365" y="466"/>
                  </a:lnTo>
                  <a:lnTo>
                    <a:pt x="1410" y="502"/>
                  </a:lnTo>
                  <a:lnTo>
                    <a:pt x="1448" y="543"/>
                  </a:lnTo>
                  <a:lnTo>
                    <a:pt x="1483" y="589"/>
                  </a:lnTo>
                  <a:lnTo>
                    <a:pt x="1512" y="637"/>
                  </a:lnTo>
                  <a:lnTo>
                    <a:pt x="1540" y="689"/>
                  </a:lnTo>
                  <a:lnTo>
                    <a:pt x="1565" y="740"/>
                  </a:lnTo>
                  <a:lnTo>
                    <a:pt x="1589" y="790"/>
                  </a:lnTo>
                  <a:lnTo>
                    <a:pt x="1589" y="799"/>
                  </a:lnTo>
                  <a:lnTo>
                    <a:pt x="1592" y="807"/>
                  </a:lnTo>
                  <a:lnTo>
                    <a:pt x="1595" y="815"/>
                  </a:lnTo>
                  <a:lnTo>
                    <a:pt x="1599" y="823"/>
                  </a:lnTo>
                  <a:lnTo>
                    <a:pt x="1602" y="831"/>
                  </a:lnTo>
                  <a:lnTo>
                    <a:pt x="1606" y="840"/>
                  </a:lnTo>
                  <a:lnTo>
                    <a:pt x="1609" y="847"/>
                  </a:lnTo>
                  <a:lnTo>
                    <a:pt x="1612" y="857"/>
                  </a:lnTo>
                  <a:lnTo>
                    <a:pt x="1533" y="777"/>
                  </a:lnTo>
                  <a:lnTo>
                    <a:pt x="1452" y="703"/>
                  </a:lnTo>
                  <a:lnTo>
                    <a:pt x="1366" y="633"/>
                  </a:lnTo>
                  <a:lnTo>
                    <a:pt x="1278" y="571"/>
                  </a:lnTo>
                  <a:lnTo>
                    <a:pt x="1185" y="515"/>
                  </a:lnTo>
                  <a:lnTo>
                    <a:pt x="1090" y="468"/>
                  </a:lnTo>
                  <a:lnTo>
                    <a:pt x="989" y="431"/>
                  </a:lnTo>
                  <a:lnTo>
                    <a:pt x="885" y="406"/>
                  </a:lnTo>
                  <a:lnTo>
                    <a:pt x="881" y="401"/>
                  </a:lnTo>
                  <a:lnTo>
                    <a:pt x="877" y="395"/>
                  </a:lnTo>
                  <a:lnTo>
                    <a:pt x="872" y="390"/>
                  </a:lnTo>
                  <a:lnTo>
                    <a:pt x="865" y="393"/>
                  </a:lnTo>
                  <a:lnTo>
                    <a:pt x="860" y="396"/>
                  </a:lnTo>
                  <a:lnTo>
                    <a:pt x="854" y="399"/>
                  </a:lnTo>
                  <a:lnTo>
                    <a:pt x="848" y="401"/>
                  </a:lnTo>
                  <a:lnTo>
                    <a:pt x="844" y="404"/>
                  </a:lnTo>
                  <a:lnTo>
                    <a:pt x="808" y="451"/>
                  </a:lnTo>
                  <a:lnTo>
                    <a:pt x="772" y="500"/>
                  </a:lnTo>
                  <a:lnTo>
                    <a:pt x="733" y="547"/>
                  </a:lnTo>
                  <a:lnTo>
                    <a:pt x="696" y="593"/>
                  </a:lnTo>
                  <a:lnTo>
                    <a:pt x="658" y="640"/>
                  </a:lnTo>
                  <a:lnTo>
                    <a:pt x="623" y="690"/>
                  </a:lnTo>
                  <a:lnTo>
                    <a:pt x="590" y="740"/>
                  </a:lnTo>
                  <a:lnTo>
                    <a:pt x="563" y="792"/>
                  </a:lnTo>
                  <a:lnTo>
                    <a:pt x="548" y="821"/>
                  </a:lnTo>
                  <a:lnTo>
                    <a:pt x="532" y="851"/>
                  </a:lnTo>
                  <a:lnTo>
                    <a:pt x="518" y="882"/>
                  </a:lnTo>
                  <a:lnTo>
                    <a:pt x="505" y="914"/>
                  </a:lnTo>
                  <a:lnTo>
                    <a:pt x="493" y="945"/>
                  </a:lnTo>
                  <a:lnTo>
                    <a:pt x="480" y="976"/>
                  </a:lnTo>
                  <a:lnTo>
                    <a:pt x="469" y="1007"/>
                  </a:lnTo>
                  <a:lnTo>
                    <a:pt x="460" y="1038"/>
                  </a:lnTo>
                  <a:lnTo>
                    <a:pt x="443" y="1099"/>
                  </a:lnTo>
                  <a:lnTo>
                    <a:pt x="428" y="1161"/>
                  </a:lnTo>
                  <a:lnTo>
                    <a:pt x="413" y="1224"/>
                  </a:lnTo>
                  <a:lnTo>
                    <a:pt x="401" y="1288"/>
                  </a:lnTo>
                  <a:lnTo>
                    <a:pt x="387" y="1351"/>
                  </a:lnTo>
                  <a:lnTo>
                    <a:pt x="377" y="1415"/>
                  </a:lnTo>
                  <a:lnTo>
                    <a:pt x="366" y="1478"/>
                  </a:lnTo>
                  <a:lnTo>
                    <a:pt x="359" y="1543"/>
                  </a:lnTo>
                  <a:lnTo>
                    <a:pt x="348" y="1506"/>
                  </a:lnTo>
                  <a:lnTo>
                    <a:pt x="340" y="1467"/>
                  </a:lnTo>
                  <a:lnTo>
                    <a:pt x="333" y="1425"/>
                  </a:lnTo>
                  <a:lnTo>
                    <a:pt x="331" y="1384"/>
                  </a:lnTo>
                  <a:lnTo>
                    <a:pt x="330" y="1341"/>
                  </a:lnTo>
                  <a:lnTo>
                    <a:pt x="333" y="1300"/>
                  </a:lnTo>
                  <a:lnTo>
                    <a:pt x="340" y="1260"/>
                  </a:lnTo>
                  <a:lnTo>
                    <a:pt x="349" y="1223"/>
                  </a:lnTo>
                  <a:lnTo>
                    <a:pt x="347" y="1218"/>
                  </a:lnTo>
                  <a:lnTo>
                    <a:pt x="343" y="1215"/>
                  </a:lnTo>
                  <a:lnTo>
                    <a:pt x="338" y="1211"/>
                  </a:lnTo>
                  <a:lnTo>
                    <a:pt x="336" y="1207"/>
                  </a:lnTo>
                  <a:lnTo>
                    <a:pt x="330" y="1210"/>
                  </a:lnTo>
                  <a:lnTo>
                    <a:pt x="325" y="1209"/>
                  </a:lnTo>
                  <a:lnTo>
                    <a:pt x="322" y="1209"/>
                  </a:lnTo>
                  <a:lnTo>
                    <a:pt x="319" y="1210"/>
                  </a:lnTo>
                  <a:lnTo>
                    <a:pt x="316" y="1212"/>
                  </a:lnTo>
                  <a:lnTo>
                    <a:pt x="314" y="1217"/>
                  </a:lnTo>
                  <a:lnTo>
                    <a:pt x="307" y="1233"/>
                  </a:lnTo>
                  <a:lnTo>
                    <a:pt x="304" y="1248"/>
                  </a:lnTo>
                  <a:lnTo>
                    <a:pt x="300" y="1265"/>
                  </a:lnTo>
                  <a:lnTo>
                    <a:pt x="298" y="1282"/>
                  </a:lnTo>
                  <a:lnTo>
                    <a:pt x="295" y="1299"/>
                  </a:lnTo>
                  <a:lnTo>
                    <a:pt x="294" y="1317"/>
                  </a:lnTo>
                  <a:lnTo>
                    <a:pt x="293" y="1334"/>
                  </a:lnTo>
                  <a:lnTo>
                    <a:pt x="293" y="1352"/>
                  </a:lnTo>
                  <a:lnTo>
                    <a:pt x="287" y="1351"/>
                  </a:lnTo>
                  <a:lnTo>
                    <a:pt x="282" y="1352"/>
                  </a:lnTo>
                  <a:lnTo>
                    <a:pt x="277" y="1355"/>
                  </a:lnTo>
                  <a:lnTo>
                    <a:pt x="274" y="1358"/>
                  </a:lnTo>
                  <a:lnTo>
                    <a:pt x="266" y="1357"/>
                  </a:lnTo>
                  <a:lnTo>
                    <a:pt x="259" y="1356"/>
                  </a:lnTo>
                  <a:lnTo>
                    <a:pt x="250" y="1356"/>
                  </a:lnTo>
                  <a:lnTo>
                    <a:pt x="244" y="1358"/>
                  </a:lnTo>
                  <a:lnTo>
                    <a:pt x="238" y="1358"/>
                  </a:lnTo>
                  <a:lnTo>
                    <a:pt x="232" y="1361"/>
                  </a:lnTo>
                  <a:lnTo>
                    <a:pt x="226" y="1364"/>
                  </a:lnTo>
                  <a:lnTo>
                    <a:pt x="220" y="1370"/>
                  </a:lnTo>
                  <a:lnTo>
                    <a:pt x="215" y="1338"/>
                  </a:lnTo>
                  <a:lnTo>
                    <a:pt x="213" y="1307"/>
                  </a:lnTo>
                  <a:lnTo>
                    <a:pt x="213" y="1276"/>
                  </a:lnTo>
                  <a:lnTo>
                    <a:pt x="216" y="1245"/>
                  </a:lnTo>
                  <a:lnTo>
                    <a:pt x="219" y="1214"/>
                  </a:lnTo>
                  <a:lnTo>
                    <a:pt x="226" y="1184"/>
                  </a:lnTo>
                  <a:lnTo>
                    <a:pt x="232" y="1155"/>
                  </a:lnTo>
                  <a:lnTo>
                    <a:pt x="241" y="1127"/>
                  </a:lnTo>
                  <a:lnTo>
                    <a:pt x="245" y="1119"/>
                  </a:lnTo>
                  <a:lnTo>
                    <a:pt x="249" y="1110"/>
                  </a:lnTo>
                  <a:lnTo>
                    <a:pt x="250" y="1102"/>
                  </a:lnTo>
                  <a:lnTo>
                    <a:pt x="247" y="1094"/>
                  </a:lnTo>
                  <a:lnTo>
                    <a:pt x="239" y="1094"/>
                  </a:lnTo>
                  <a:lnTo>
                    <a:pt x="241" y="1090"/>
                  </a:lnTo>
                  <a:lnTo>
                    <a:pt x="240" y="1088"/>
                  </a:lnTo>
                  <a:lnTo>
                    <a:pt x="237" y="1086"/>
                  </a:lnTo>
                  <a:lnTo>
                    <a:pt x="235" y="1083"/>
                  </a:lnTo>
                  <a:lnTo>
                    <a:pt x="226" y="1088"/>
                  </a:lnTo>
                  <a:lnTo>
                    <a:pt x="219" y="1094"/>
                  </a:lnTo>
                  <a:lnTo>
                    <a:pt x="213" y="1101"/>
                  </a:lnTo>
                  <a:lnTo>
                    <a:pt x="209" y="1110"/>
                  </a:lnTo>
                  <a:lnTo>
                    <a:pt x="205" y="1119"/>
                  </a:lnTo>
                  <a:lnTo>
                    <a:pt x="201" y="1127"/>
                  </a:lnTo>
                  <a:lnTo>
                    <a:pt x="195" y="1135"/>
                  </a:lnTo>
                  <a:lnTo>
                    <a:pt x="189" y="1145"/>
                  </a:lnTo>
                  <a:lnTo>
                    <a:pt x="173" y="1174"/>
                  </a:lnTo>
                  <a:lnTo>
                    <a:pt x="158" y="1204"/>
                  </a:lnTo>
                  <a:lnTo>
                    <a:pt x="144" y="1235"/>
                  </a:lnTo>
                  <a:lnTo>
                    <a:pt x="131" y="1266"/>
                  </a:lnTo>
                  <a:lnTo>
                    <a:pt x="119" y="1297"/>
                  </a:lnTo>
                  <a:lnTo>
                    <a:pt x="109" y="1329"/>
                  </a:lnTo>
                  <a:lnTo>
                    <a:pt x="98" y="1361"/>
                  </a:lnTo>
                  <a:lnTo>
                    <a:pt x="89" y="1393"/>
                  </a:lnTo>
                  <a:lnTo>
                    <a:pt x="77" y="1305"/>
                  </a:lnTo>
                  <a:lnTo>
                    <a:pt x="77" y="1220"/>
                  </a:lnTo>
                  <a:lnTo>
                    <a:pt x="87" y="1136"/>
                  </a:lnTo>
                  <a:lnTo>
                    <a:pt x="106" y="1056"/>
                  </a:lnTo>
                  <a:lnTo>
                    <a:pt x="131" y="976"/>
                  </a:lnTo>
                  <a:lnTo>
                    <a:pt x="163" y="898"/>
                  </a:lnTo>
                  <a:lnTo>
                    <a:pt x="199" y="822"/>
                  </a:lnTo>
                  <a:lnTo>
                    <a:pt x="237" y="751"/>
                  </a:lnTo>
                  <a:lnTo>
                    <a:pt x="247" y="733"/>
                  </a:lnTo>
                  <a:lnTo>
                    <a:pt x="258" y="717"/>
                  </a:lnTo>
                  <a:lnTo>
                    <a:pt x="268" y="699"/>
                  </a:lnTo>
                  <a:lnTo>
                    <a:pt x="278" y="683"/>
                  </a:lnTo>
                  <a:lnTo>
                    <a:pt x="289" y="666"/>
                  </a:lnTo>
                  <a:lnTo>
                    <a:pt x="302" y="650"/>
                  </a:lnTo>
                  <a:lnTo>
                    <a:pt x="316" y="636"/>
                  </a:lnTo>
                  <a:lnTo>
                    <a:pt x="332" y="625"/>
                  </a:lnTo>
                  <a:lnTo>
                    <a:pt x="334" y="617"/>
                  </a:lnTo>
                  <a:lnTo>
                    <a:pt x="340" y="611"/>
                  </a:lnTo>
                  <a:lnTo>
                    <a:pt x="345" y="605"/>
                  </a:lnTo>
                  <a:lnTo>
                    <a:pt x="351" y="599"/>
                  </a:lnTo>
                  <a:lnTo>
                    <a:pt x="357" y="592"/>
                  </a:lnTo>
                  <a:lnTo>
                    <a:pt x="365" y="587"/>
                  </a:lnTo>
                  <a:lnTo>
                    <a:pt x="372" y="583"/>
                  </a:lnTo>
                  <a:lnTo>
                    <a:pt x="380" y="580"/>
                  </a:lnTo>
                  <a:lnTo>
                    <a:pt x="383" y="574"/>
                  </a:lnTo>
                  <a:lnTo>
                    <a:pt x="386" y="568"/>
                  </a:lnTo>
                  <a:lnTo>
                    <a:pt x="382" y="563"/>
                  </a:lnTo>
                  <a:lnTo>
                    <a:pt x="332" y="583"/>
                  </a:lnTo>
                  <a:lnTo>
                    <a:pt x="287" y="609"/>
                  </a:lnTo>
                  <a:lnTo>
                    <a:pt x="243" y="640"/>
                  </a:lnTo>
                  <a:lnTo>
                    <a:pt x="204" y="675"/>
                  </a:lnTo>
                  <a:lnTo>
                    <a:pt x="165" y="713"/>
                  </a:lnTo>
                  <a:lnTo>
                    <a:pt x="130" y="754"/>
                  </a:lnTo>
                  <a:lnTo>
                    <a:pt x="96" y="796"/>
                  </a:lnTo>
                  <a:lnTo>
                    <a:pt x="64" y="840"/>
                  </a:lnTo>
                  <a:lnTo>
                    <a:pt x="54" y="852"/>
                  </a:lnTo>
                  <a:lnTo>
                    <a:pt x="45" y="866"/>
                  </a:lnTo>
                  <a:lnTo>
                    <a:pt x="37" y="879"/>
                  </a:lnTo>
                  <a:lnTo>
                    <a:pt x="30" y="894"/>
                  </a:lnTo>
                  <a:lnTo>
                    <a:pt x="23" y="907"/>
                  </a:lnTo>
                  <a:lnTo>
                    <a:pt x="15" y="921"/>
                  </a:lnTo>
                  <a:lnTo>
                    <a:pt x="7" y="934"/>
                  </a:lnTo>
                  <a:lnTo>
                    <a:pt x="0" y="949"/>
                  </a:lnTo>
                  <a:lnTo>
                    <a:pt x="12" y="869"/>
                  </a:lnTo>
                  <a:lnTo>
                    <a:pt x="37" y="794"/>
                  </a:lnTo>
                  <a:lnTo>
                    <a:pt x="71" y="722"/>
                  </a:lnTo>
                  <a:lnTo>
                    <a:pt x="116" y="655"/>
                  </a:lnTo>
                  <a:lnTo>
                    <a:pt x="165" y="589"/>
                  </a:lnTo>
                  <a:lnTo>
                    <a:pt x="222" y="530"/>
                  </a:lnTo>
                  <a:lnTo>
                    <a:pt x="284" y="475"/>
                  </a:lnTo>
                  <a:lnTo>
                    <a:pt x="349" y="427"/>
                  </a:lnTo>
                  <a:lnTo>
                    <a:pt x="397" y="393"/>
                  </a:lnTo>
                  <a:lnTo>
                    <a:pt x="446" y="363"/>
                  </a:lnTo>
                  <a:lnTo>
                    <a:pt x="497" y="334"/>
                  </a:lnTo>
                  <a:lnTo>
                    <a:pt x="551" y="312"/>
                  </a:lnTo>
                  <a:lnTo>
                    <a:pt x="604" y="293"/>
                  </a:lnTo>
                  <a:lnTo>
                    <a:pt x="661" y="282"/>
                  </a:lnTo>
                  <a:lnTo>
                    <a:pt x="721" y="280"/>
                  </a:lnTo>
                  <a:lnTo>
                    <a:pt x="784" y="289"/>
                  </a:lnTo>
                  <a:lnTo>
                    <a:pt x="789" y="295"/>
                  </a:lnTo>
                  <a:lnTo>
                    <a:pt x="797" y="299"/>
                  </a:lnTo>
                  <a:lnTo>
                    <a:pt x="806" y="301"/>
                  </a:lnTo>
                  <a:lnTo>
                    <a:pt x="815" y="303"/>
                  </a:lnTo>
                  <a:lnTo>
                    <a:pt x="852" y="239"/>
                  </a:lnTo>
                  <a:lnTo>
                    <a:pt x="899" y="185"/>
                  </a:lnTo>
                  <a:lnTo>
                    <a:pt x="953" y="138"/>
                  </a:lnTo>
                  <a:lnTo>
                    <a:pt x="1014" y="99"/>
                  </a:lnTo>
                  <a:lnTo>
                    <a:pt x="1078" y="66"/>
                  </a:lnTo>
                  <a:lnTo>
                    <a:pt x="1147" y="39"/>
                  </a:lnTo>
                  <a:lnTo>
                    <a:pt x="1215" y="17"/>
                  </a:lnTo>
                  <a:lnTo>
                    <a:pt x="1285" y="2"/>
                  </a:lnTo>
                  <a:lnTo>
                    <a:pt x="1340" y="0"/>
                  </a:lnTo>
                  <a:lnTo>
                    <a:pt x="1394" y="4"/>
                  </a:lnTo>
                  <a:lnTo>
                    <a:pt x="1446" y="13"/>
                  </a:lnTo>
                  <a:lnTo>
                    <a:pt x="1498" y="29"/>
                  </a:lnTo>
                  <a:lnTo>
                    <a:pt x="1545" y="48"/>
                  </a:lnTo>
                  <a:lnTo>
                    <a:pt x="1592" y="74"/>
                  </a:lnTo>
                  <a:lnTo>
                    <a:pt x="1636" y="104"/>
                  </a:lnTo>
                  <a:lnTo>
                    <a:pt x="1678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336000" y="4048920"/>
              <a:ext cx="1191240" cy="1193400"/>
            </a:xfrm>
            <a:custGeom>
              <a:avLst/>
              <a:gdLst/>
              <a:ahLst/>
              <a:rect l="l" t="t" r="r" b="b"/>
              <a:pathLst>
                <a:path w="1503" h="1507">
                  <a:moveTo>
                    <a:pt x="750" y="85"/>
                  </a:moveTo>
                  <a:lnTo>
                    <a:pt x="795" y="104"/>
                  </a:lnTo>
                  <a:lnTo>
                    <a:pt x="839" y="128"/>
                  </a:lnTo>
                  <a:lnTo>
                    <a:pt x="882" y="154"/>
                  </a:lnTo>
                  <a:lnTo>
                    <a:pt x="924" y="184"/>
                  </a:lnTo>
                  <a:lnTo>
                    <a:pt x="965" y="214"/>
                  </a:lnTo>
                  <a:lnTo>
                    <a:pt x="1005" y="247"/>
                  </a:lnTo>
                  <a:lnTo>
                    <a:pt x="1046" y="278"/>
                  </a:lnTo>
                  <a:lnTo>
                    <a:pt x="1088" y="310"/>
                  </a:lnTo>
                  <a:lnTo>
                    <a:pt x="1112" y="335"/>
                  </a:lnTo>
                  <a:lnTo>
                    <a:pt x="1136" y="361"/>
                  </a:lnTo>
                  <a:lnTo>
                    <a:pt x="1160" y="386"/>
                  </a:lnTo>
                  <a:lnTo>
                    <a:pt x="1184" y="411"/>
                  </a:lnTo>
                  <a:lnTo>
                    <a:pt x="1207" y="434"/>
                  </a:lnTo>
                  <a:lnTo>
                    <a:pt x="1229" y="460"/>
                  </a:lnTo>
                  <a:lnTo>
                    <a:pt x="1250" y="486"/>
                  </a:lnTo>
                  <a:lnTo>
                    <a:pt x="1268" y="514"/>
                  </a:lnTo>
                  <a:lnTo>
                    <a:pt x="1279" y="523"/>
                  </a:lnTo>
                  <a:lnTo>
                    <a:pt x="1289" y="532"/>
                  </a:lnTo>
                  <a:lnTo>
                    <a:pt x="1294" y="534"/>
                  </a:lnTo>
                  <a:lnTo>
                    <a:pt x="1299" y="537"/>
                  </a:lnTo>
                  <a:lnTo>
                    <a:pt x="1306" y="537"/>
                  </a:lnTo>
                  <a:lnTo>
                    <a:pt x="1312" y="537"/>
                  </a:lnTo>
                  <a:lnTo>
                    <a:pt x="1306" y="527"/>
                  </a:lnTo>
                  <a:lnTo>
                    <a:pt x="1299" y="517"/>
                  </a:lnTo>
                  <a:lnTo>
                    <a:pt x="1292" y="507"/>
                  </a:lnTo>
                  <a:lnTo>
                    <a:pt x="1287" y="498"/>
                  </a:lnTo>
                  <a:lnTo>
                    <a:pt x="1265" y="440"/>
                  </a:lnTo>
                  <a:lnTo>
                    <a:pt x="1244" y="384"/>
                  </a:lnTo>
                  <a:lnTo>
                    <a:pt x="1224" y="327"/>
                  </a:lnTo>
                  <a:lnTo>
                    <a:pt x="1202" y="272"/>
                  </a:lnTo>
                  <a:lnTo>
                    <a:pt x="1176" y="216"/>
                  </a:lnTo>
                  <a:lnTo>
                    <a:pt x="1148" y="163"/>
                  </a:lnTo>
                  <a:lnTo>
                    <a:pt x="1114" y="112"/>
                  </a:lnTo>
                  <a:lnTo>
                    <a:pt x="1076" y="65"/>
                  </a:lnTo>
                  <a:lnTo>
                    <a:pt x="1082" y="66"/>
                  </a:lnTo>
                  <a:lnTo>
                    <a:pt x="1090" y="70"/>
                  </a:lnTo>
                  <a:lnTo>
                    <a:pt x="1098" y="75"/>
                  </a:lnTo>
                  <a:lnTo>
                    <a:pt x="1107" y="81"/>
                  </a:lnTo>
                  <a:lnTo>
                    <a:pt x="1103" y="84"/>
                  </a:lnTo>
                  <a:lnTo>
                    <a:pt x="1105" y="87"/>
                  </a:lnTo>
                  <a:lnTo>
                    <a:pt x="1109" y="82"/>
                  </a:lnTo>
                  <a:lnTo>
                    <a:pt x="1116" y="82"/>
                  </a:lnTo>
                  <a:lnTo>
                    <a:pt x="1123" y="85"/>
                  </a:lnTo>
                  <a:lnTo>
                    <a:pt x="1132" y="89"/>
                  </a:lnTo>
                  <a:lnTo>
                    <a:pt x="1168" y="110"/>
                  </a:lnTo>
                  <a:lnTo>
                    <a:pt x="1201" y="137"/>
                  </a:lnTo>
                  <a:lnTo>
                    <a:pt x="1229" y="168"/>
                  </a:lnTo>
                  <a:lnTo>
                    <a:pt x="1254" y="204"/>
                  </a:lnTo>
                  <a:lnTo>
                    <a:pt x="1273" y="242"/>
                  </a:lnTo>
                  <a:lnTo>
                    <a:pt x="1292" y="282"/>
                  </a:lnTo>
                  <a:lnTo>
                    <a:pt x="1306" y="323"/>
                  </a:lnTo>
                  <a:lnTo>
                    <a:pt x="1318" y="364"/>
                  </a:lnTo>
                  <a:lnTo>
                    <a:pt x="1344" y="410"/>
                  </a:lnTo>
                  <a:lnTo>
                    <a:pt x="1372" y="456"/>
                  </a:lnTo>
                  <a:lnTo>
                    <a:pt x="1398" y="502"/>
                  </a:lnTo>
                  <a:lnTo>
                    <a:pt x="1425" y="548"/>
                  </a:lnTo>
                  <a:lnTo>
                    <a:pt x="1449" y="595"/>
                  </a:lnTo>
                  <a:lnTo>
                    <a:pt x="1470" y="643"/>
                  </a:lnTo>
                  <a:lnTo>
                    <a:pt x="1488" y="691"/>
                  </a:lnTo>
                  <a:lnTo>
                    <a:pt x="1503" y="743"/>
                  </a:lnTo>
                  <a:lnTo>
                    <a:pt x="1496" y="808"/>
                  </a:lnTo>
                  <a:lnTo>
                    <a:pt x="1479" y="872"/>
                  </a:lnTo>
                  <a:lnTo>
                    <a:pt x="1452" y="930"/>
                  </a:lnTo>
                  <a:lnTo>
                    <a:pt x="1416" y="985"/>
                  </a:lnTo>
                  <a:lnTo>
                    <a:pt x="1374" y="1035"/>
                  </a:lnTo>
                  <a:lnTo>
                    <a:pt x="1329" y="1084"/>
                  </a:lnTo>
                  <a:lnTo>
                    <a:pt x="1280" y="1129"/>
                  </a:lnTo>
                  <a:lnTo>
                    <a:pt x="1231" y="1171"/>
                  </a:lnTo>
                  <a:lnTo>
                    <a:pt x="1210" y="1206"/>
                  </a:lnTo>
                  <a:lnTo>
                    <a:pt x="1193" y="1244"/>
                  </a:lnTo>
                  <a:lnTo>
                    <a:pt x="1175" y="1282"/>
                  </a:lnTo>
                  <a:lnTo>
                    <a:pt x="1157" y="1320"/>
                  </a:lnTo>
                  <a:lnTo>
                    <a:pt x="1136" y="1357"/>
                  </a:lnTo>
                  <a:lnTo>
                    <a:pt x="1113" y="1391"/>
                  </a:lnTo>
                  <a:lnTo>
                    <a:pt x="1084" y="1421"/>
                  </a:lnTo>
                  <a:lnTo>
                    <a:pt x="1050" y="1448"/>
                  </a:lnTo>
                  <a:lnTo>
                    <a:pt x="1005" y="1472"/>
                  </a:lnTo>
                  <a:lnTo>
                    <a:pt x="958" y="1489"/>
                  </a:lnTo>
                  <a:lnTo>
                    <a:pt x="907" y="1501"/>
                  </a:lnTo>
                  <a:lnTo>
                    <a:pt x="856" y="1507"/>
                  </a:lnTo>
                  <a:lnTo>
                    <a:pt x="804" y="1505"/>
                  </a:lnTo>
                  <a:lnTo>
                    <a:pt x="756" y="1497"/>
                  </a:lnTo>
                  <a:lnTo>
                    <a:pt x="708" y="1484"/>
                  </a:lnTo>
                  <a:lnTo>
                    <a:pt x="665" y="1464"/>
                  </a:lnTo>
                  <a:lnTo>
                    <a:pt x="647" y="1455"/>
                  </a:lnTo>
                  <a:lnTo>
                    <a:pt x="629" y="1449"/>
                  </a:lnTo>
                  <a:lnTo>
                    <a:pt x="610" y="1444"/>
                  </a:lnTo>
                  <a:lnTo>
                    <a:pt x="593" y="1440"/>
                  </a:lnTo>
                  <a:lnTo>
                    <a:pt x="573" y="1437"/>
                  </a:lnTo>
                  <a:lnTo>
                    <a:pt x="555" y="1436"/>
                  </a:lnTo>
                  <a:lnTo>
                    <a:pt x="536" y="1436"/>
                  </a:lnTo>
                  <a:lnTo>
                    <a:pt x="517" y="1439"/>
                  </a:lnTo>
                  <a:lnTo>
                    <a:pt x="459" y="1446"/>
                  </a:lnTo>
                  <a:lnTo>
                    <a:pt x="401" y="1447"/>
                  </a:lnTo>
                  <a:lnTo>
                    <a:pt x="343" y="1440"/>
                  </a:lnTo>
                  <a:lnTo>
                    <a:pt x="289" y="1428"/>
                  </a:lnTo>
                  <a:lnTo>
                    <a:pt x="235" y="1407"/>
                  </a:lnTo>
                  <a:lnTo>
                    <a:pt x="187" y="1380"/>
                  </a:lnTo>
                  <a:lnTo>
                    <a:pt x="141" y="1345"/>
                  </a:lnTo>
                  <a:lnTo>
                    <a:pt x="102" y="1303"/>
                  </a:lnTo>
                  <a:lnTo>
                    <a:pt x="85" y="1281"/>
                  </a:lnTo>
                  <a:lnTo>
                    <a:pt x="71" y="1259"/>
                  </a:lnTo>
                  <a:lnTo>
                    <a:pt x="56" y="1237"/>
                  </a:lnTo>
                  <a:lnTo>
                    <a:pt x="45" y="1216"/>
                  </a:lnTo>
                  <a:lnTo>
                    <a:pt x="32" y="1192"/>
                  </a:lnTo>
                  <a:lnTo>
                    <a:pt x="23" y="1168"/>
                  </a:lnTo>
                  <a:lnTo>
                    <a:pt x="15" y="1143"/>
                  </a:lnTo>
                  <a:lnTo>
                    <a:pt x="9" y="1119"/>
                  </a:lnTo>
                  <a:lnTo>
                    <a:pt x="0" y="1111"/>
                  </a:lnTo>
                  <a:lnTo>
                    <a:pt x="9" y="1056"/>
                  </a:lnTo>
                  <a:lnTo>
                    <a:pt x="18" y="1003"/>
                  </a:lnTo>
                  <a:lnTo>
                    <a:pt x="26" y="948"/>
                  </a:lnTo>
                  <a:lnTo>
                    <a:pt x="36" y="895"/>
                  </a:lnTo>
                  <a:lnTo>
                    <a:pt x="45" y="842"/>
                  </a:lnTo>
                  <a:lnTo>
                    <a:pt x="56" y="789"/>
                  </a:lnTo>
                  <a:lnTo>
                    <a:pt x="69" y="736"/>
                  </a:lnTo>
                  <a:lnTo>
                    <a:pt x="83" y="684"/>
                  </a:lnTo>
                  <a:lnTo>
                    <a:pt x="95" y="632"/>
                  </a:lnTo>
                  <a:lnTo>
                    <a:pt x="109" y="584"/>
                  </a:lnTo>
                  <a:lnTo>
                    <a:pt x="126" y="534"/>
                  </a:lnTo>
                  <a:lnTo>
                    <a:pt x="145" y="487"/>
                  </a:lnTo>
                  <a:lnTo>
                    <a:pt x="165" y="441"/>
                  </a:lnTo>
                  <a:lnTo>
                    <a:pt x="187" y="394"/>
                  </a:lnTo>
                  <a:lnTo>
                    <a:pt x="210" y="348"/>
                  </a:lnTo>
                  <a:lnTo>
                    <a:pt x="234" y="304"/>
                  </a:lnTo>
                  <a:lnTo>
                    <a:pt x="260" y="264"/>
                  </a:lnTo>
                  <a:lnTo>
                    <a:pt x="289" y="224"/>
                  </a:lnTo>
                  <a:lnTo>
                    <a:pt x="318" y="185"/>
                  </a:lnTo>
                  <a:lnTo>
                    <a:pt x="349" y="147"/>
                  </a:lnTo>
                  <a:lnTo>
                    <a:pt x="381" y="109"/>
                  </a:lnTo>
                  <a:lnTo>
                    <a:pt x="413" y="72"/>
                  </a:lnTo>
                  <a:lnTo>
                    <a:pt x="446" y="36"/>
                  </a:lnTo>
                  <a:lnTo>
                    <a:pt x="480" y="0"/>
                  </a:lnTo>
                  <a:lnTo>
                    <a:pt x="514" y="6"/>
                  </a:lnTo>
                  <a:lnTo>
                    <a:pt x="549" y="13"/>
                  </a:lnTo>
                  <a:lnTo>
                    <a:pt x="584" y="21"/>
                  </a:lnTo>
                  <a:lnTo>
                    <a:pt x="618" y="32"/>
                  </a:lnTo>
                  <a:lnTo>
                    <a:pt x="651" y="44"/>
                  </a:lnTo>
                  <a:lnTo>
                    <a:pt x="685" y="56"/>
                  </a:lnTo>
                  <a:lnTo>
                    <a:pt x="717" y="70"/>
                  </a:lnTo>
                  <a:lnTo>
                    <a:pt x="750" y="85"/>
                  </a:lnTo>
                  <a:close/>
                </a:path>
              </a:pathLst>
            </a:custGeom>
            <a:solidFill>
              <a:srgbClr val="924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876360" y="4221360"/>
              <a:ext cx="186840" cy="95040"/>
            </a:xfrm>
            <a:custGeom>
              <a:avLst/>
              <a:gdLst/>
              <a:ahLst/>
              <a:rect l="l" t="t" r="r" b="b"/>
              <a:pathLst>
                <a:path w="235" h="120">
                  <a:moveTo>
                    <a:pt x="234" y="62"/>
                  </a:moveTo>
                  <a:lnTo>
                    <a:pt x="235" y="69"/>
                  </a:lnTo>
                  <a:lnTo>
                    <a:pt x="232" y="74"/>
                  </a:lnTo>
                  <a:lnTo>
                    <a:pt x="228" y="78"/>
                  </a:lnTo>
                  <a:lnTo>
                    <a:pt x="224" y="83"/>
                  </a:lnTo>
                  <a:lnTo>
                    <a:pt x="204" y="70"/>
                  </a:lnTo>
                  <a:lnTo>
                    <a:pt x="185" y="64"/>
                  </a:lnTo>
                  <a:lnTo>
                    <a:pt x="165" y="61"/>
                  </a:lnTo>
                  <a:lnTo>
                    <a:pt x="145" y="61"/>
                  </a:lnTo>
                  <a:lnTo>
                    <a:pt x="124" y="63"/>
                  </a:lnTo>
                  <a:lnTo>
                    <a:pt x="105" y="68"/>
                  </a:lnTo>
                  <a:lnTo>
                    <a:pt x="85" y="76"/>
                  </a:lnTo>
                  <a:lnTo>
                    <a:pt x="67" y="85"/>
                  </a:lnTo>
                  <a:lnTo>
                    <a:pt x="61" y="90"/>
                  </a:lnTo>
                  <a:lnTo>
                    <a:pt x="55" y="95"/>
                  </a:lnTo>
                  <a:lnTo>
                    <a:pt x="49" y="99"/>
                  </a:lnTo>
                  <a:lnTo>
                    <a:pt x="44" y="104"/>
                  </a:lnTo>
                  <a:lnTo>
                    <a:pt x="36" y="107"/>
                  </a:lnTo>
                  <a:lnTo>
                    <a:pt x="30" y="111"/>
                  </a:lnTo>
                  <a:lnTo>
                    <a:pt x="24" y="115"/>
                  </a:lnTo>
                  <a:lnTo>
                    <a:pt x="18" y="120"/>
                  </a:lnTo>
                  <a:lnTo>
                    <a:pt x="10" y="111"/>
                  </a:lnTo>
                  <a:lnTo>
                    <a:pt x="6" y="103"/>
                  </a:lnTo>
                  <a:lnTo>
                    <a:pt x="2" y="91"/>
                  </a:lnTo>
                  <a:lnTo>
                    <a:pt x="1" y="81"/>
                  </a:lnTo>
                  <a:lnTo>
                    <a:pt x="0" y="68"/>
                  </a:lnTo>
                  <a:lnTo>
                    <a:pt x="0" y="57"/>
                  </a:lnTo>
                  <a:lnTo>
                    <a:pt x="0" y="47"/>
                  </a:lnTo>
                  <a:lnTo>
                    <a:pt x="1" y="37"/>
                  </a:lnTo>
                  <a:lnTo>
                    <a:pt x="6" y="36"/>
                  </a:lnTo>
                  <a:lnTo>
                    <a:pt x="12" y="35"/>
                  </a:lnTo>
                  <a:lnTo>
                    <a:pt x="18" y="33"/>
                  </a:lnTo>
                  <a:lnTo>
                    <a:pt x="23" y="32"/>
                  </a:lnTo>
                  <a:lnTo>
                    <a:pt x="31" y="26"/>
                  </a:lnTo>
                  <a:lnTo>
                    <a:pt x="40" y="19"/>
                  </a:lnTo>
                  <a:lnTo>
                    <a:pt x="57" y="11"/>
                  </a:lnTo>
                  <a:lnTo>
                    <a:pt x="76" y="6"/>
                  </a:lnTo>
                  <a:lnTo>
                    <a:pt x="92" y="2"/>
                  </a:lnTo>
                  <a:lnTo>
                    <a:pt x="111" y="1"/>
                  </a:lnTo>
                  <a:lnTo>
                    <a:pt x="128" y="0"/>
                  </a:lnTo>
                  <a:lnTo>
                    <a:pt x="146" y="3"/>
                  </a:lnTo>
                  <a:lnTo>
                    <a:pt x="164" y="8"/>
                  </a:lnTo>
                  <a:lnTo>
                    <a:pt x="182" y="17"/>
                  </a:lnTo>
                  <a:lnTo>
                    <a:pt x="190" y="21"/>
                  </a:lnTo>
                  <a:lnTo>
                    <a:pt x="197" y="26"/>
                  </a:lnTo>
                  <a:lnTo>
                    <a:pt x="203" y="32"/>
                  </a:lnTo>
                  <a:lnTo>
                    <a:pt x="210" y="38"/>
                  </a:lnTo>
                  <a:lnTo>
                    <a:pt x="215" y="43"/>
                  </a:lnTo>
                  <a:lnTo>
                    <a:pt x="222" y="50"/>
                  </a:lnTo>
                  <a:lnTo>
                    <a:pt x="228" y="56"/>
                  </a:lnTo>
                  <a:lnTo>
                    <a:pt x="234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895440" y="4240440"/>
              <a:ext cx="110880" cy="48960"/>
            </a:xfrm>
            <a:custGeom>
              <a:avLst/>
              <a:gdLst/>
              <a:ahLst/>
              <a:rect l="l" t="t" r="r" b="b"/>
              <a:pathLst>
                <a:path w="141" h="63">
                  <a:moveTo>
                    <a:pt x="141" y="13"/>
                  </a:moveTo>
                  <a:lnTo>
                    <a:pt x="122" y="14"/>
                  </a:lnTo>
                  <a:lnTo>
                    <a:pt x="103" y="17"/>
                  </a:lnTo>
                  <a:lnTo>
                    <a:pt x="85" y="22"/>
                  </a:lnTo>
                  <a:lnTo>
                    <a:pt x="68" y="28"/>
                  </a:lnTo>
                  <a:lnTo>
                    <a:pt x="50" y="34"/>
                  </a:lnTo>
                  <a:lnTo>
                    <a:pt x="34" y="42"/>
                  </a:lnTo>
                  <a:lnTo>
                    <a:pt x="18" y="52"/>
                  </a:lnTo>
                  <a:lnTo>
                    <a:pt x="5" y="63"/>
                  </a:lnTo>
                  <a:lnTo>
                    <a:pt x="0" y="55"/>
                  </a:lnTo>
                  <a:lnTo>
                    <a:pt x="0" y="48"/>
                  </a:lnTo>
                  <a:lnTo>
                    <a:pt x="1" y="42"/>
                  </a:lnTo>
                  <a:lnTo>
                    <a:pt x="5" y="38"/>
                  </a:lnTo>
                  <a:lnTo>
                    <a:pt x="9" y="32"/>
                  </a:lnTo>
                  <a:lnTo>
                    <a:pt x="15" y="28"/>
                  </a:lnTo>
                  <a:lnTo>
                    <a:pt x="19" y="24"/>
                  </a:lnTo>
                  <a:lnTo>
                    <a:pt x="24" y="19"/>
                  </a:lnTo>
                  <a:lnTo>
                    <a:pt x="36" y="13"/>
                  </a:lnTo>
                  <a:lnTo>
                    <a:pt x="51" y="8"/>
                  </a:lnTo>
                  <a:lnTo>
                    <a:pt x="66" y="3"/>
                  </a:lnTo>
                  <a:lnTo>
                    <a:pt x="82" y="1"/>
                  </a:lnTo>
                  <a:lnTo>
                    <a:pt x="97" y="0"/>
                  </a:lnTo>
                  <a:lnTo>
                    <a:pt x="113" y="1"/>
                  </a:lnTo>
                  <a:lnTo>
                    <a:pt x="126" y="5"/>
                  </a:lnTo>
                  <a:lnTo>
                    <a:pt x="14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483240" y="4300920"/>
              <a:ext cx="198000" cy="182160"/>
            </a:xfrm>
            <a:custGeom>
              <a:avLst/>
              <a:gdLst/>
              <a:ahLst/>
              <a:rect l="l" t="t" r="r" b="b"/>
              <a:pathLst>
                <a:path w="250" h="231">
                  <a:moveTo>
                    <a:pt x="244" y="19"/>
                  </a:moveTo>
                  <a:lnTo>
                    <a:pt x="244" y="28"/>
                  </a:lnTo>
                  <a:lnTo>
                    <a:pt x="246" y="38"/>
                  </a:lnTo>
                  <a:lnTo>
                    <a:pt x="247" y="47"/>
                  </a:lnTo>
                  <a:lnTo>
                    <a:pt x="249" y="56"/>
                  </a:lnTo>
                  <a:lnTo>
                    <a:pt x="249" y="66"/>
                  </a:lnTo>
                  <a:lnTo>
                    <a:pt x="250" y="75"/>
                  </a:lnTo>
                  <a:lnTo>
                    <a:pt x="249" y="84"/>
                  </a:lnTo>
                  <a:lnTo>
                    <a:pt x="248" y="94"/>
                  </a:lnTo>
                  <a:lnTo>
                    <a:pt x="241" y="96"/>
                  </a:lnTo>
                  <a:lnTo>
                    <a:pt x="235" y="97"/>
                  </a:lnTo>
                  <a:lnTo>
                    <a:pt x="228" y="96"/>
                  </a:lnTo>
                  <a:lnTo>
                    <a:pt x="221" y="96"/>
                  </a:lnTo>
                  <a:lnTo>
                    <a:pt x="214" y="94"/>
                  </a:lnTo>
                  <a:lnTo>
                    <a:pt x="208" y="93"/>
                  </a:lnTo>
                  <a:lnTo>
                    <a:pt x="201" y="93"/>
                  </a:lnTo>
                  <a:lnTo>
                    <a:pt x="195" y="96"/>
                  </a:lnTo>
                  <a:lnTo>
                    <a:pt x="176" y="99"/>
                  </a:lnTo>
                  <a:lnTo>
                    <a:pt x="157" y="105"/>
                  </a:lnTo>
                  <a:lnTo>
                    <a:pt x="140" y="112"/>
                  </a:lnTo>
                  <a:lnTo>
                    <a:pt x="123" y="123"/>
                  </a:lnTo>
                  <a:lnTo>
                    <a:pt x="105" y="133"/>
                  </a:lnTo>
                  <a:lnTo>
                    <a:pt x="90" y="145"/>
                  </a:lnTo>
                  <a:lnTo>
                    <a:pt x="74" y="159"/>
                  </a:lnTo>
                  <a:lnTo>
                    <a:pt x="61" y="176"/>
                  </a:lnTo>
                  <a:lnTo>
                    <a:pt x="58" y="181"/>
                  </a:lnTo>
                  <a:lnTo>
                    <a:pt x="57" y="187"/>
                  </a:lnTo>
                  <a:lnTo>
                    <a:pt x="55" y="193"/>
                  </a:lnTo>
                  <a:lnTo>
                    <a:pt x="54" y="200"/>
                  </a:lnTo>
                  <a:lnTo>
                    <a:pt x="51" y="206"/>
                  </a:lnTo>
                  <a:lnTo>
                    <a:pt x="47" y="209"/>
                  </a:lnTo>
                  <a:lnTo>
                    <a:pt x="41" y="210"/>
                  </a:lnTo>
                  <a:lnTo>
                    <a:pt x="34" y="209"/>
                  </a:lnTo>
                  <a:lnTo>
                    <a:pt x="27" y="215"/>
                  </a:lnTo>
                  <a:lnTo>
                    <a:pt x="19" y="223"/>
                  </a:lnTo>
                  <a:lnTo>
                    <a:pt x="12" y="228"/>
                  </a:lnTo>
                  <a:lnTo>
                    <a:pt x="5" y="231"/>
                  </a:lnTo>
                  <a:lnTo>
                    <a:pt x="1" y="225"/>
                  </a:lnTo>
                  <a:lnTo>
                    <a:pt x="0" y="219"/>
                  </a:lnTo>
                  <a:lnTo>
                    <a:pt x="0" y="213"/>
                  </a:lnTo>
                  <a:lnTo>
                    <a:pt x="1" y="207"/>
                  </a:lnTo>
                  <a:lnTo>
                    <a:pt x="14" y="199"/>
                  </a:lnTo>
                  <a:lnTo>
                    <a:pt x="25" y="190"/>
                  </a:lnTo>
                  <a:lnTo>
                    <a:pt x="32" y="178"/>
                  </a:lnTo>
                  <a:lnTo>
                    <a:pt x="39" y="165"/>
                  </a:lnTo>
                  <a:lnTo>
                    <a:pt x="44" y="150"/>
                  </a:lnTo>
                  <a:lnTo>
                    <a:pt x="48" y="134"/>
                  </a:lnTo>
                  <a:lnTo>
                    <a:pt x="53" y="119"/>
                  </a:lnTo>
                  <a:lnTo>
                    <a:pt x="59" y="105"/>
                  </a:lnTo>
                  <a:lnTo>
                    <a:pt x="72" y="85"/>
                  </a:lnTo>
                  <a:lnTo>
                    <a:pt x="89" y="68"/>
                  </a:lnTo>
                  <a:lnTo>
                    <a:pt x="104" y="52"/>
                  </a:lnTo>
                  <a:lnTo>
                    <a:pt x="123" y="39"/>
                  </a:lnTo>
                  <a:lnTo>
                    <a:pt x="142" y="25"/>
                  </a:lnTo>
                  <a:lnTo>
                    <a:pt x="161" y="16"/>
                  </a:lnTo>
                  <a:lnTo>
                    <a:pt x="182" y="7"/>
                  </a:lnTo>
                  <a:lnTo>
                    <a:pt x="205" y="0"/>
                  </a:lnTo>
                  <a:lnTo>
                    <a:pt x="209" y="0"/>
                  </a:lnTo>
                  <a:lnTo>
                    <a:pt x="214" y="1"/>
                  </a:lnTo>
                  <a:lnTo>
                    <a:pt x="220" y="1"/>
                  </a:lnTo>
                  <a:lnTo>
                    <a:pt x="228" y="2"/>
                  </a:lnTo>
                  <a:lnTo>
                    <a:pt x="233" y="2"/>
                  </a:lnTo>
                  <a:lnTo>
                    <a:pt x="238" y="7"/>
                  </a:lnTo>
                  <a:lnTo>
                    <a:pt x="241" y="11"/>
                  </a:lnTo>
                  <a:lnTo>
                    <a:pt x="244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46960" y="4320000"/>
              <a:ext cx="117000" cy="82080"/>
            </a:xfrm>
            <a:custGeom>
              <a:avLst/>
              <a:gdLst/>
              <a:ahLst/>
              <a:rect l="l" t="t" r="r" b="b"/>
              <a:pathLst>
                <a:path w="147" h="105">
                  <a:moveTo>
                    <a:pt x="143" y="11"/>
                  </a:moveTo>
                  <a:lnTo>
                    <a:pt x="143" y="20"/>
                  </a:lnTo>
                  <a:lnTo>
                    <a:pt x="143" y="29"/>
                  </a:lnTo>
                  <a:lnTo>
                    <a:pt x="143" y="39"/>
                  </a:lnTo>
                  <a:lnTo>
                    <a:pt x="147" y="48"/>
                  </a:lnTo>
                  <a:lnTo>
                    <a:pt x="136" y="48"/>
                  </a:lnTo>
                  <a:lnTo>
                    <a:pt x="126" y="49"/>
                  </a:lnTo>
                  <a:lnTo>
                    <a:pt x="116" y="50"/>
                  </a:lnTo>
                  <a:lnTo>
                    <a:pt x="106" y="53"/>
                  </a:lnTo>
                  <a:lnTo>
                    <a:pt x="95" y="55"/>
                  </a:lnTo>
                  <a:lnTo>
                    <a:pt x="85" y="58"/>
                  </a:lnTo>
                  <a:lnTo>
                    <a:pt x="75" y="62"/>
                  </a:lnTo>
                  <a:lnTo>
                    <a:pt x="66" y="67"/>
                  </a:lnTo>
                  <a:lnTo>
                    <a:pt x="57" y="68"/>
                  </a:lnTo>
                  <a:lnTo>
                    <a:pt x="47" y="71"/>
                  </a:lnTo>
                  <a:lnTo>
                    <a:pt x="38" y="74"/>
                  </a:lnTo>
                  <a:lnTo>
                    <a:pt x="30" y="80"/>
                  </a:lnTo>
                  <a:lnTo>
                    <a:pt x="21" y="85"/>
                  </a:lnTo>
                  <a:lnTo>
                    <a:pt x="14" y="91"/>
                  </a:lnTo>
                  <a:lnTo>
                    <a:pt x="6" y="98"/>
                  </a:lnTo>
                  <a:lnTo>
                    <a:pt x="0" y="105"/>
                  </a:lnTo>
                  <a:lnTo>
                    <a:pt x="3" y="89"/>
                  </a:lnTo>
                  <a:lnTo>
                    <a:pt x="9" y="78"/>
                  </a:lnTo>
                  <a:lnTo>
                    <a:pt x="17" y="67"/>
                  </a:lnTo>
                  <a:lnTo>
                    <a:pt x="29" y="57"/>
                  </a:lnTo>
                  <a:lnTo>
                    <a:pt x="39" y="48"/>
                  </a:lnTo>
                  <a:lnTo>
                    <a:pt x="51" y="39"/>
                  </a:lnTo>
                  <a:lnTo>
                    <a:pt x="63" y="29"/>
                  </a:lnTo>
                  <a:lnTo>
                    <a:pt x="74" y="21"/>
                  </a:lnTo>
                  <a:lnTo>
                    <a:pt x="80" y="16"/>
                  </a:lnTo>
                  <a:lnTo>
                    <a:pt x="87" y="13"/>
                  </a:lnTo>
                  <a:lnTo>
                    <a:pt x="94" y="10"/>
                  </a:lnTo>
                  <a:lnTo>
                    <a:pt x="101" y="8"/>
                  </a:lnTo>
                  <a:lnTo>
                    <a:pt x="108" y="4"/>
                  </a:lnTo>
                  <a:lnTo>
                    <a:pt x="117" y="3"/>
                  </a:lnTo>
                  <a:lnTo>
                    <a:pt x="125" y="1"/>
                  </a:lnTo>
                  <a:lnTo>
                    <a:pt x="134" y="0"/>
                  </a:lnTo>
                  <a:lnTo>
                    <a:pt x="143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955920" y="4343760"/>
              <a:ext cx="216720" cy="297720"/>
            </a:xfrm>
            <a:custGeom>
              <a:avLst/>
              <a:gdLst/>
              <a:ahLst/>
              <a:rect l="l" t="t" r="r" b="b"/>
              <a:pathLst>
                <a:path w="274" h="377">
                  <a:moveTo>
                    <a:pt x="222" y="68"/>
                  </a:moveTo>
                  <a:lnTo>
                    <a:pt x="228" y="77"/>
                  </a:lnTo>
                  <a:lnTo>
                    <a:pt x="234" y="87"/>
                  </a:lnTo>
                  <a:lnTo>
                    <a:pt x="238" y="98"/>
                  </a:lnTo>
                  <a:lnTo>
                    <a:pt x="243" y="110"/>
                  </a:lnTo>
                  <a:lnTo>
                    <a:pt x="246" y="122"/>
                  </a:lnTo>
                  <a:lnTo>
                    <a:pt x="251" y="133"/>
                  </a:lnTo>
                  <a:lnTo>
                    <a:pt x="256" y="143"/>
                  </a:lnTo>
                  <a:lnTo>
                    <a:pt x="264" y="155"/>
                  </a:lnTo>
                  <a:lnTo>
                    <a:pt x="265" y="161"/>
                  </a:lnTo>
                  <a:lnTo>
                    <a:pt x="267" y="168"/>
                  </a:lnTo>
                  <a:lnTo>
                    <a:pt x="269" y="174"/>
                  </a:lnTo>
                  <a:lnTo>
                    <a:pt x="271" y="182"/>
                  </a:lnTo>
                  <a:lnTo>
                    <a:pt x="272" y="188"/>
                  </a:lnTo>
                  <a:lnTo>
                    <a:pt x="273" y="195"/>
                  </a:lnTo>
                  <a:lnTo>
                    <a:pt x="273" y="201"/>
                  </a:lnTo>
                  <a:lnTo>
                    <a:pt x="274" y="209"/>
                  </a:lnTo>
                  <a:lnTo>
                    <a:pt x="263" y="215"/>
                  </a:lnTo>
                  <a:lnTo>
                    <a:pt x="250" y="219"/>
                  </a:lnTo>
                  <a:lnTo>
                    <a:pt x="237" y="221"/>
                  </a:lnTo>
                  <a:lnTo>
                    <a:pt x="224" y="223"/>
                  </a:lnTo>
                  <a:lnTo>
                    <a:pt x="210" y="223"/>
                  </a:lnTo>
                  <a:lnTo>
                    <a:pt x="195" y="225"/>
                  </a:lnTo>
                  <a:lnTo>
                    <a:pt x="181" y="227"/>
                  </a:lnTo>
                  <a:lnTo>
                    <a:pt x="168" y="231"/>
                  </a:lnTo>
                  <a:lnTo>
                    <a:pt x="151" y="232"/>
                  </a:lnTo>
                  <a:lnTo>
                    <a:pt x="133" y="234"/>
                  </a:lnTo>
                  <a:lnTo>
                    <a:pt x="115" y="237"/>
                  </a:lnTo>
                  <a:lnTo>
                    <a:pt x="99" y="240"/>
                  </a:lnTo>
                  <a:lnTo>
                    <a:pt x="82" y="243"/>
                  </a:lnTo>
                  <a:lnTo>
                    <a:pt x="66" y="248"/>
                  </a:lnTo>
                  <a:lnTo>
                    <a:pt x="50" y="253"/>
                  </a:lnTo>
                  <a:lnTo>
                    <a:pt x="36" y="260"/>
                  </a:lnTo>
                  <a:lnTo>
                    <a:pt x="36" y="273"/>
                  </a:lnTo>
                  <a:lnTo>
                    <a:pt x="38" y="285"/>
                  </a:lnTo>
                  <a:lnTo>
                    <a:pt x="41" y="298"/>
                  </a:lnTo>
                  <a:lnTo>
                    <a:pt x="46" y="311"/>
                  </a:lnTo>
                  <a:lnTo>
                    <a:pt x="50" y="323"/>
                  </a:lnTo>
                  <a:lnTo>
                    <a:pt x="56" y="335"/>
                  </a:lnTo>
                  <a:lnTo>
                    <a:pt x="64" y="346"/>
                  </a:lnTo>
                  <a:lnTo>
                    <a:pt x="71" y="359"/>
                  </a:lnTo>
                  <a:lnTo>
                    <a:pt x="65" y="377"/>
                  </a:lnTo>
                  <a:lnTo>
                    <a:pt x="53" y="371"/>
                  </a:lnTo>
                  <a:lnTo>
                    <a:pt x="46" y="365"/>
                  </a:lnTo>
                  <a:lnTo>
                    <a:pt x="39" y="356"/>
                  </a:lnTo>
                  <a:lnTo>
                    <a:pt x="35" y="346"/>
                  </a:lnTo>
                  <a:lnTo>
                    <a:pt x="29" y="335"/>
                  </a:lnTo>
                  <a:lnTo>
                    <a:pt x="26" y="324"/>
                  </a:lnTo>
                  <a:lnTo>
                    <a:pt x="22" y="313"/>
                  </a:lnTo>
                  <a:lnTo>
                    <a:pt x="19" y="304"/>
                  </a:lnTo>
                  <a:lnTo>
                    <a:pt x="16" y="295"/>
                  </a:lnTo>
                  <a:lnTo>
                    <a:pt x="14" y="286"/>
                  </a:lnTo>
                  <a:lnTo>
                    <a:pt x="11" y="277"/>
                  </a:lnTo>
                  <a:lnTo>
                    <a:pt x="9" y="269"/>
                  </a:lnTo>
                  <a:lnTo>
                    <a:pt x="6" y="259"/>
                  </a:lnTo>
                  <a:lnTo>
                    <a:pt x="6" y="250"/>
                  </a:lnTo>
                  <a:lnTo>
                    <a:pt x="6" y="242"/>
                  </a:lnTo>
                  <a:lnTo>
                    <a:pt x="8" y="233"/>
                  </a:lnTo>
                  <a:lnTo>
                    <a:pt x="1" y="225"/>
                  </a:lnTo>
                  <a:lnTo>
                    <a:pt x="0" y="218"/>
                  </a:lnTo>
                  <a:lnTo>
                    <a:pt x="0" y="212"/>
                  </a:lnTo>
                  <a:lnTo>
                    <a:pt x="4" y="205"/>
                  </a:lnTo>
                  <a:lnTo>
                    <a:pt x="7" y="198"/>
                  </a:lnTo>
                  <a:lnTo>
                    <a:pt x="11" y="192"/>
                  </a:lnTo>
                  <a:lnTo>
                    <a:pt x="13" y="186"/>
                  </a:lnTo>
                  <a:lnTo>
                    <a:pt x="15" y="180"/>
                  </a:lnTo>
                  <a:lnTo>
                    <a:pt x="23" y="159"/>
                  </a:lnTo>
                  <a:lnTo>
                    <a:pt x="34" y="139"/>
                  </a:lnTo>
                  <a:lnTo>
                    <a:pt x="45" y="120"/>
                  </a:lnTo>
                  <a:lnTo>
                    <a:pt x="59" y="104"/>
                  </a:lnTo>
                  <a:lnTo>
                    <a:pt x="74" y="88"/>
                  </a:lnTo>
                  <a:lnTo>
                    <a:pt x="93" y="77"/>
                  </a:lnTo>
                  <a:lnTo>
                    <a:pt x="111" y="68"/>
                  </a:lnTo>
                  <a:lnTo>
                    <a:pt x="133" y="63"/>
                  </a:lnTo>
                  <a:lnTo>
                    <a:pt x="142" y="59"/>
                  </a:lnTo>
                  <a:lnTo>
                    <a:pt x="152" y="59"/>
                  </a:lnTo>
                  <a:lnTo>
                    <a:pt x="161" y="60"/>
                  </a:lnTo>
                  <a:lnTo>
                    <a:pt x="170" y="65"/>
                  </a:lnTo>
                  <a:lnTo>
                    <a:pt x="179" y="68"/>
                  </a:lnTo>
                  <a:lnTo>
                    <a:pt x="188" y="74"/>
                  </a:lnTo>
                  <a:lnTo>
                    <a:pt x="196" y="79"/>
                  </a:lnTo>
                  <a:lnTo>
                    <a:pt x="206" y="84"/>
                  </a:lnTo>
                  <a:lnTo>
                    <a:pt x="202" y="73"/>
                  </a:lnTo>
                  <a:lnTo>
                    <a:pt x="197" y="63"/>
                  </a:lnTo>
                  <a:lnTo>
                    <a:pt x="190" y="54"/>
                  </a:lnTo>
                  <a:lnTo>
                    <a:pt x="183" y="47"/>
                  </a:lnTo>
                  <a:lnTo>
                    <a:pt x="172" y="40"/>
                  </a:lnTo>
                  <a:lnTo>
                    <a:pt x="163" y="34"/>
                  </a:lnTo>
                  <a:lnTo>
                    <a:pt x="153" y="28"/>
                  </a:lnTo>
                  <a:lnTo>
                    <a:pt x="143" y="25"/>
                  </a:lnTo>
                  <a:lnTo>
                    <a:pt x="137" y="29"/>
                  </a:lnTo>
                  <a:lnTo>
                    <a:pt x="131" y="28"/>
                  </a:lnTo>
                  <a:lnTo>
                    <a:pt x="125" y="24"/>
                  </a:lnTo>
                  <a:lnTo>
                    <a:pt x="119" y="21"/>
                  </a:lnTo>
                  <a:lnTo>
                    <a:pt x="113" y="15"/>
                  </a:lnTo>
                  <a:lnTo>
                    <a:pt x="114" y="9"/>
                  </a:lnTo>
                  <a:lnTo>
                    <a:pt x="124" y="2"/>
                  </a:lnTo>
                  <a:lnTo>
                    <a:pt x="134" y="0"/>
                  </a:lnTo>
                  <a:lnTo>
                    <a:pt x="143" y="1"/>
                  </a:lnTo>
                  <a:lnTo>
                    <a:pt x="154" y="5"/>
                  </a:lnTo>
                  <a:lnTo>
                    <a:pt x="163" y="9"/>
                  </a:lnTo>
                  <a:lnTo>
                    <a:pt x="173" y="14"/>
                  </a:lnTo>
                  <a:lnTo>
                    <a:pt x="183" y="18"/>
                  </a:lnTo>
                  <a:lnTo>
                    <a:pt x="193" y="21"/>
                  </a:lnTo>
                  <a:lnTo>
                    <a:pt x="203" y="30"/>
                  </a:lnTo>
                  <a:lnTo>
                    <a:pt x="213" y="41"/>
                  </a:lnTo>
                  <a:lnTo>
                    <a:pt x="216" y="46"/>
                  </a:lnTo>
                  <a:lnTo>
                    <a:pt x="219" y="52"/>
                  </a:lnTo>
                  <a:lnTo>
                    <a:pt x="221" y="58"/>
                  </a:lnTo>
                  <a:lnTo>
                    <a:pt x="222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473960" y="4362840"/>
              <a:ext cx="101160" cy="180360"/>
            </a:xfrm>
            <a:custGeom>
              <a:avLst/>
              <a:gdLst/>
              <a:ahLst/>
              <a:rect l="l" t="t" r="r" b="b"/>
              <a:pathLst>
                <a:path w="130" h="228">
                  <a:moveTo>
                    <a:pt x="118" y="22"/>
                  </a:moveTo>
                  <a:lnTo>
                    <a:pt x="125" y="47"/>
                  </a:lnTo>
                  <a:lnTo>
                    <a:pt x="130" y="75"/>
                  </a:lnTo>
                  <a:lnTo>
                    <a:pt x="129" y="102"/>
                  </a:lnTo>
                  <a:lnTo>
                    <a:pt x="125" y="130"/>
                  </a:lnTo>
                  <a:lnTo>
                    <a:pt x="117" y="154"/>
                  </a:lnTo>
                  <a:lnTo>
                    <a:pt x="107" y="180"/>
                  </a:lnTo>
                  <a:lnTo>
                    <a:pt x="92" y="204"/>
                  </a:lnTo>
                  <a:lnTo>
                    <a:pt x="77" y="226"/>
                  </a:lnTo>
                  <a:lnTo>
                    <a:pt x="73" y="227"/>
                  </a:lnTo>
                  <a:lnTo>
                    <a:pt x="68" y="228"/>
                  </a:lnTo>
                  <a:lnTo>
                    <a:pt x="59" y="208"/>
                  </a:lnTo>
                  <a:lnTo>
                    <a:pt x="51" y="190"/>
                  </a:lnTo>
                  <a:lnTo>
                    <a:pt x="43" y="171"/>
                  </a:lnTo>
                  <a:lnTo>
                    <a:pt x="34" y="152"/>
                  </a:lnTo>
                  <a:lnTo>
                    <a:pt x="25" y="133"/>
                  </a:lnTo>
                  <a:lnTo>
                    <a:pt x="17" y="114"/>
                  </a:lnTo>
                  <a:lnTo>
                    <a:pt x="8" y="95"/>
                  </a:lnTo>
                  <a:lnTo>
                    <a:pt x="2" y="77"/>
                  </a:lnTo>
                  <a:lnTo>
                    <a:pt x="0" y="67"/>
                  </a:lnTo>
                  <a:lnTo>
                    <a:pt x="0" y="58"/>
                  </a:lnTo>
                  <a:lnTo>
                    <a:pt x="1" y="49"/>
                  </a:lnTo>
                  <a:lnTo>
                    <a:pt x="4" y="41"/>
                  </a:lnTo>
                  <a:lnTo>
                    <a:pt x="6" y="31"/>
                  </a:lnTo>
                  <a:lnTo>
                    <a:pt x="11" y="23"/>
                  </a:lnTo>
                  <a:lnTo>
                    <a:pt x="17" y="16"/>
                  </a:lnTo>
                  <a:lnTo>
                    <a:pt x="25" y="9"/>
                  </a:lnTo>
                  <a:lnTo>
                    <a:pt x="25" y="15"/>
                  </a:lnTo>
                  <a:lnTo>
                    <a:pt x="28" y="21"/>
                  </a:lnTo>
                  <a:lnTo>
                    <a:pt x="30" y="26"/>
                  </a:lnTo>
                  <a:lnTo>
                    <a:pt x="34" y="31"/>
                  </a:lnTo>
                  <a:lnTo>
                    <a:pt x="43" y="39"/>
                  </a:lnTo>
                  <a:lnTo>
                    <a:pt x="52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8"/>
                  </a:lnTo>
                  <a:lnTo>
                    <a:pt x="57" y="23"/>
                  </a:lnTo>
                  <a:lnTo>
                    <a:pt x="54" y="13"/>
                  </a:lnTo>
                  <a:lnTo>
                    <a:pt x="52" y="3"/>
                  </a:lnTo>
                  <a:lnTo>
                    <a:pt x="61" y="0"/>
                  </a:lnTo>
                  <a:lnTo>
                    <a:pt x="71" y="1"/>
                  </a:lnTo>
                  <a:lnTo>
                    <a:pt x="78" y="3"/>
                  </a:lnTo>
                  <a:lnTo>
                    <a:pt x="86" y="6"/>
                  </a:lnTo>
                  <a:lnTo>
                    <a:pt x="93" y="9"/>
                  </a:lnTo>
                  <a:lnTo>
                    <a:pt x="101" y="15"/>
                  </a:lnTo>
                  <a:lnTo>
                    <a:pt x="109" y="18"/>
                  </a:lnTo>
                  <a:lnTo>
                    <a:pt x="118" y="22"/>
                  </a:lnTo>
                  <a:close/>
                </a:path>
              </a:pathLst>
            </a:custGeom>
            <a:solidFill>
              <a:srgbClr val="924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979680" y="4411800"/>
              <a:ext cx="174240" cy="112680"/>
            </a:xfrm>
            <a:custGeom>
              <a:avLst/>
              <a:gdLst/>
              <a:ahLst/>
              <a:rect l="l" t="t" r="r" b="b"/>
              <a:pathLst>
                <a:path w="220" h="142">
                  <a:moveTo>
                    <a:pt x="220" y="110"/>
                  </a:moveTo>
                  <a:lnTo>
                    <a:pt x="202" y="113"/>
                  </a:lnTo>
                  <a:lnTo>
                    <a:pt x="186" y="116"/>
                  </a:lnTo>
                  <a:lnTo>
                    <a:pt x="168" y="118"/>
                  </a:lnTo>
                  <a:lnTo>
                    <a:pt x="152" y="122"/>
                  </a:lnTo>
                  <a:lnTo>
                    <a:pt x="134" y="123"/>
                  </a:lnTo>
                  <a:lnTo>
                    <a:pt x="118" y="126"/>
                  </a:lnTo>
                  <a:lnTo>
                    <a:pt x="100" y="128"/>
                  </a:lnTo>
                  <a:lnTo>
                    <a:pt x="83" y="133"/>
                  </a:lnTo>
                  <a:lnTo>
                    <a:pt x="71" y="130"/>
                  </a:lnTo>
                  <a:lnTo>
                    <a:pt x="58" y="132"/>
                  </a:lnTo>
                  <a:lnTo>
                    <a:pt x="45" y="135"/>
                  </a:lnTo>
                  <a:lnTo>
                    <a:pt x="33" y="140"/>
                  </a:lnTo>
                  <a:lnTo>
                    <a:pt x="20" y="142"/>
                  </a:lnTo>
                  <a:lnTo>
                    <a:pt x="11" y="141"/>
                  </a:lnTo>
                  <a:lnTo>
                    <a:pt x="4" y="133"/>
                  </a:lnTo>
                  <a:lnTo>
                    <a:pt x="0" y="118"/>
                  </a:lnTo>
                  <a:lnTo>
                    <a:pt x="4" y="106"/>
                  </a:lnTo>
                  <a:lnTo>
                    <a:pt x="9" y="96"/>
                  </a:lnTo>
                  <a:lnTo>
                    <a:pt x="15" y="84"/>
                  </a:lnTo>
                  <a:lnTo>
                    <a:pt x="21" y="75"/>
                  </a:lnTo>
                  <a:lnTo>
                    <a:pt x="27" y="65"/>
                  </a:lnTo>
                  <a:lnTo>
                    <a:pt x="34" y="55"/>
                  </a:lnTo>
                  <a:lnTo>
                    <a:pt x="40" y="45"/>
                  </a:lnTo>
                  <a:lnTo>
                    <a:pt x="46" y="36"/>
                  </a:lnTo>
                  <a:lnTo>
                    <a:pt x="45" y="39"/>
                  </a:lnTo>
                  <a:lnTo>
                    <a:pt x="44" y="45"/>
                  </a:lnTo>
                  <a:lnTo>
                    <a:pt x="44" y="51"/>
                  </a:lnTo>
                  <a:lnTo>
                    <a:pt x="45" y="58"/>
                  </a:lnTo>
                  <a:lnTo>
                    <a:pt x="45" y="65"/>
                  </a:lnTo>
                  <a:lnTo>
                    <a:pt x="48" y="72"/>
                  </a:lnTo>
                  <a:lnTo>
                    <a:pt x="50" y="77"/>
                  </a:lnTo>
                  <a:lnTo>
                    <a:pt x="54" y="83"/>
                  </a:lnTo>
                  <a:lnTo>
                    <a:pt x="59" y="85"/>
                  </a:lnTo>
                  <a:lnTo>
                    <a:pt x="66" y="88"/>
                  </a:lnTo>
                  <a:lnTo>
                    <a:pt x="72" y="90"/>
                  </a:lnTo>
                  <a:lnTo>
                    <a:pt x="78" y="94"/>
                  </a:lnTo>
                  <a:lnTo>
                    <a:pt x="84" y="94"/>
                  </a:lnTo>
                  <a:lnTo>
                    <a:pt x="91" y="95"/>
                  </a:lnTo>
                  <a:lnTo>
                    <a:pt x="97" y="94"/>
                  </a:lnTo>
                  <a:lnTo>
                    <a:pt x="104" y="91"/>
                  </a:lnTo>
                  <a:lnTo>
                    <a:pt x="109" y="88"/>
                  </a:lnTo>
                  <a:lnTo>
                    <a:pt x="114" y="85"/>
                  </a:lnTo>
                  <a:lnTo>
                    <a:pt x="119" y="82"/>
                  </a:lnTo>
                  <a:lnTo>
                    <a:pt x="124" y="79"/>
                  </a:lnTo>
                  <a:lnTo>
                    <a:pt x="132" y="71"/>
                  </a:lnTo>
                  <a:lnTo>
                    <a:pt x="141" y="62"/>
                  </a:lnTo>
                  <a:lnTo>
                    <a:pt x="142" y="55"/>
                  </a:lnTo>
                  <a:lnTo>
                    <a:pt x="143" y="49"/>
                  </a:lnTo>
                  <a:lnTo>
                    <a:pt x="143" y="42"/>
                  </a:lnTo>
                  <a:lnTo>
                    <a:pt x="143" y="36"/>
                  </a:lnTo>
                  <a:lnTo>
                    <a:pt x="141" y="28"/>
                  </a:lnTo>
                  <a:lnTo>
                    <a:pt x="140" y="22"/>
                  </a:lnTo>
                  <a:lnTo>
                    <a:pt x="138" y="16"/>
                  </a:lnTo>
                  <a:lnTo>
                    <a:pt x="137" y="11"/>
                  </a:lnTo>
                  <a:lnTo>
                    <a:pt x="127" y="0"/>
                  </a:lnTo>
                  <a:lnTo>
                    <a:pt x="144" y="5"/>
                  </a:lnTo>
                  <a:lnTo>
                    <a:pt x="162" y="15"/>
                  </a:lnTo>
                  <a:lnTo>
                    <a:pt x="177" y="26"/>
                  </a:lnTo>
                  <a:lnTo>
                    <a:pt x="190" y="41"/>
                  </a:lnTo>
                  <a:lnTo>
                    <a:pt x="200" y="55"/>
                  </a:lnTo>
                  <a:lnTo>
                    <a:pt x="210" y="73"/>
                  </a:lnTo>
                  <a:lnTo>
                    <a:pt x="216" y="91"/>
                  </a:lnTo>
                  <a:lnTo>
                    <a:pt x="220" y="1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569280" y="4448520"/>
              <a:ext cx="243720" cy="248760"/>
            </a:xfrm>
            <a:custGeom>
              <a:avLst/>
              <a:gdLst/>
              <a:ahLst/>
              <a:rect l="l" t="t" r="r" b="b"/>
              <a:pathLst>
                <a:path w="306" h="314">
                  <a:moveTo>
                    <a:pt x="146" y="4"/>
                  </a:moveTo>
                  <a:lnTo>
                    <a:pt x="128" y="13"/>
                  </a:lnTo>
                  <a:lnTo>
                    <a:pt x="111" y="26"/>
                  </a:lnTo>
                  <a:lnTo>
                    <a:pt x="96" y="38"/>
                  </a:lnTo>
                  <a:lnTo>
                    <a:pt x="81" y="53"/>
                  </a:lnTo>
                  <a:lnTo>
                    <a:pt x="68" y="67"/>
                  </a:lnTo>
                  <a:lnTo>
                    <a:pt x="57" y="84"/>
                  </a:lnTo>
                  <a:lnTo>
                    <a:pt x="48" y="101"/>
                  </a:lnTo>
                  <a:lnTo>
                    <a:pt x="44" y="120"/>
                  </a:lnTo>
                  <a:lnTo>
                    <a:pt x="50" y="116"/>
                  </a:lnTo>
                  <a:lnTo>
                    <a:pt x="57" y="111"/>
                  </a:lnTo>
                  <a:lnTo>
                    <a:pt x="62" y="106"/>
                  </a:lnTo>
                  <a:lnTo>
                    <a:pt x="67" y="100"/>
                  </a:lnTo>
                  <a:lnTo>
                    <a:pt x="71" y="94"/>
                  </a:lnTo>
                  <a:lnTo>
                    <a:pt x="77" y="90"/>
                  </a:lnTo>
                  <a:lnTo>
                    <a:pt x="83" y="87"/>
                  </a:lnTo>
                  <a:lnTo>
                    <a:pt x="92" y="85"/>
                  </a:lnTo>
                  <a:lnTo>
                    <a:pt x="102" y="77"/>
                  </a:lnTo>
                  <a:lnTo>
                    <a:pt x="115" y="70"/>
                  </a:lnTo>
                  <a:lnTo>
                    <a:pt x="127" y="66"/>
                  </a:lnTo>
                  <a:lnTo>
                    <a:pt x="141" y="63"/>
                  </a:lnTo>
                  <a:lnTo>
                    <a:pt x="154" y="60"/>
                  </a:lnTo>
                  <a:lnTo>
                    <a:pt x="168" y="60"/>
                  </a:lnTo>
                  <a:lnTo>
                    <a:pt x="183" y="60"/>
                  </a:lnTo>
                  <a:lnTo>
                    <a:pt x="197" y="60"/>
                  </a:lnTo>
                  <a:lnTo>
                    <a:pt x="221" y="68"/>
                  </a:lnTo>
                  <a:lnTo>
                    <a:pt x="242" y="83"/>
                  </a:lnTo>
                  <a:lnTo>
                    <a:pt x="257" y="100"/>
                  </a:lnTo>
                  <a:lnTo>
                    <a:pt x="271" y="122"/>
                  </a:lnTo>
                  <a:lnTo>
                    <a:pt x="280" y="144"/>
                  </a:lnTo>
                  <a:lnTo>
                    <a:pt x="290" y="169"/>
                  </a:lnTo>
                  <a:lnTo>
                    <a:pt x="298" y="193"/>
                  </a:lnTo>
                  <a:lnTo>
                    <a:pt x="306" y="216"/>
                  </a:lnTo>
                  <a:lnTo>
                    <a:pt x="302" y="221"/>
                  </a:lnTo>
                  <a:lnTo>
                    <a:pt x="295" y="218"/>
                  </a:lnTo>
                  <a:lnTo>
                    <a:pt x="288" y="221"/>
                  </a:lnTo>
                  <a:lnTo>
                    <a:pt x="256" y="221"/>
                  </a:lnTo>
                  <a:lnTo>
                    <a:pt x="226" y="226"/>
                  </a:lnTo>
                  <a:lnTo>
                    <a:pt x="197" y="232"/>
                  </a:lnTo>
                  <a:lnTo>
                    <a:pt x="169" y="243"/>
                  </a:lnTo>
                  <a:lnTo>
                    <a:pt x="140" y="256"/>
                  </a:lnTo>
                  <a:lnTo>
                    <a:pt x="113" y="272"/>
                  </a:lnTo>
                  <a:lnTo>
                    <a:pt x="89" y="290"/>
                  </a:lnTo>
                  <a:lnTo>
                    <a:pt x="65" y="312"/>
                  </a:lnTo>
                  <a:lnTo>
                    <a:pt x="57" y="313"/>
                  </a:lnTo>
                  <a:lnTo>
                    <a:pt x="48" y="314"/>
                  </a:lnTo>
                  <a:lnTo>
                    <a:pt x="40" y="314"/>
                  </a:lnTo>
                  <a:lnTo>
                    <a:pt x="32" y="314"/>
                  </a:lnTo>
                  <a:lnTo>
                    <a:pt x="23" y="311"/>
                  </a:lnTo>
                  <a:lnTo>
                    <a:pt x="16" y="309"/>
                  </a:lnTo>
                  <a:lnTo>
                    <a:pt x="9" y="305"/>
                  </a:lnTo>
                  <a:lnTo>
                    <a:pt x="3" y="299"/>
                  </a:lnTo>
                  <a:lnTo>
                    <a:pt x="0" y="270"/>
                  </a:lnTo>
                  <a:lnTo>
                    <a:pt x="0" y="242"/>
                  </a:lnTo>
                  <a:lnTo>
                    <a:pt x="2" y="215"/>
                  </a:lnTo>
                  <a:lnTo>
                    <a:pt x="6" y="190"/>
                  </a:lnTo>
                  <a:lnTo>
                    <a:pt x="10" y="163"/>
                  </a:lnTo>
                  <a:lnTo>
                    <a:pt x="15" y="137"/>
                  </a:lnTo>
                  <a:lnTo>
                    <a:pt x="21" y="111"/>
                  </a:lnTo>
                  <a:lnTo>
                    <a:pt x="27" y="85"/>
                  </a:lnTo>
                  <a:lnTo>
                    <a:pt x="37" y="69"/>
                  </a:lnTo>
                  <a:lnTo>
                    <a:pt x="49" y="56"/>
                  </a:lnTo>
                  <a:lnTo>
                    <a:pt x="63" y="43"/>
                  </a:lnTo>
                  <a:lnTo>
                    <a:pt x="78" y="33"/>
                  </a:lnTo>
                  <a:lnTo>
                    <a:pt x="94" y="23"/>
                  </a:lnTo>
                  <a:lnTo>
                    <a:pt x="111" y="14"/>
                  </a:lnTo>
                  <a:lnTo>
                    <a:pt x="128" y="6"/>
                  </a:lnTo>
                  <a:lnTo>
                    <a:pt x="146" y="0"/>
                  </a:lnTo>
                  <a:lnTo>
                    <a:pt x="146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841440" y="4498920"/>
              <a:ext cx="1251720" cy="1317240"/>
            </a:xfrm>
            <a:custGeom>
              <a:avLst/>
              <a:gdLst/>
              <a:ahLst/>
              <a:rect l="l" t="t" r="r" b="b"/>
              <a:pathLst>
                <a:path w="1581" h="1664">
                  <a:moveTo>
                    <a:pt x="1287" y="167"/>
                  </a:moveTo>
                  <a:lnTo>
                    <a:pt x="1290" y="173"/>
                  </a:lnTo>
                  <a:lnTo>
                    <a:pt x="1294" y="181"/>
                  </a:lnTo>
                  <a:lnTo>
                    <a:pt x="1297" y="189"/>
                  </a:lnTo>
                  <a:lnTo>
                    <a:pt x="1303" y="197"/>
                  </a:lnTo>
                  <a:lnTo>
                    <a:pt x="1306" y="204"/>
                  </a:lnTo>
                  <a:lnTo>
                    <a:pt x="1312" y="211"/>
                  </a:lnTo>
                  <a:lnTo>
                    <a:pt x="1317" y="217"/>
                  </a:lnTo>
                  <a:lnTo>
                    <a:pt x="1324" y="223"/>
                  </a:lnTo>
                  <a:lnTo>
                    <a:pt x="1355" y="215"/>
                  </a:lnTo>
                  <a:lnTo>
                    <a:pt x="1378" y="199"/>
                  </a:lnTo>
                  <a:lnTo>
                    <a:pt x="1402" y="183"/>
                  </a:lnTo>
                  <a:lnTo>
                    <a:pt x="1425" y="167"/>
                  </a:lnTo>
                  <a:lnTo>
                    <a:pt x="1448" y="150"/>
                  </a:lnTo>
                  <a:lnTo>
                    <a:pt x="1470" y="133"/>
                  </a:lnTo>
                  <a:lnTo>
                    <a:pt x="1494" y="117"/>
                  </a:lnTo>
                  <a:lnTo>
                    <a:pt x="1519" y="104"/>
                  </a:lnTo>
                  <a:lnTo>
                    <a:pt x="1545" y="93"/>
                  </a:lnTo>
                  <a:lnTo>
                    <a:pt x="1550" y="91"/>
                  </a:lnTo>
                  <a:lnTo>
                    <a:pt x="1555" y="92"/>
                  </a:lnTo>
                  <a:lnTo>
                    <a:pt x="1559" y="93"/>
                  </a:lnTo>
                  <a:lnTo>
                    <a:pt x="1565" y="96"/>
                  </a:lnTo>
                  <a:lnTo>
                    <a:pt x="1572" y="103"/>
                  </a:lnTo>
                  <a:lnTo>
                    <a:pt x="1578" y="112"/>
                  </a:lnTo>
                  <a:lnTo>
                    <a:pt x="1581" y="133"/>
                  </a:lnTo>
                  <a:lnTo>
                    <a:pt x="1581" y="154"/>
                  </a:lnTo>
                  <a:lnTo>
                    <a:pt x="1578" y="176"/>
                  </a:lnTo>
                  <a:lnTo>
                    <a:pt x="1573" y="198"/>
                  </a:lnTo>
                  <a:lnTo>
                    <a:pt x="1566" y="219"/>
                  </a:lnTo>
                  <a:lnTo>
                    <a:pt x="1557" y="240"/>
                  </a:lnTo>
                  <a:lnTo>
                    <a:pt x="1549" y="260"/>
                  </a:lnTo>
                  <a:lnTo>
                    <a:pt x="1541" y="281"/>
                  </a:lnTo>
                  <a:lnTo>
                    <a:pt x="1540" y="286"/>
                  </a:lnTo>
                  <a:lnTo>
                    <a:pt x="1540" y="292"/>
                  </a:lnTo>
                  <a:lnTo>
                    <a:pt x="1541" y="297"/>
                  </a:lnTo>
                  <a:lnTo>
                    <a:pt x="1542" y="303"/>
                  </a:lnTo>
                  <a:lnTo>
                    <a:pt x="1545" y="313"/>
                  </a:lnTo>
                  <a:lnTo>
                    <a:pt x="1549" y="324"/>
                  </a:lnTo>
                  <a:lnTo>
                    <a:pt x="1553" y="347"/>
                  </a:lnTo>
                  <a:lnTo>
                    <a:pt x="1554" y="370"/>
                  </a:lnTo>
                  <a:lnTo>
                    <a:pt x="1552" y="393"/>
                  </a:lnTo>
                  <a:lnTo>
                    <a:pt x="1549" y="417"/>
                  </a:lnTo>
                  <a:lnTo>
                    <a:pt x="1543" y="438"/>
                  </a:lnTo>
                  <a:lnTo>
                    <a:pt x="1537" y="460"/>
                  </a:lnTo>
                  <a:lnTo>
                    <a:pt x="1529" y="481"/>
                  </a:lnTo>
                  <a:lnTo>
                    <a:pt x="1522" y="502"/>
                  </a:lnTo>
                  <a:lnTo>
                    <a:pt x="1506" y="538"/>
                  </a:lnTo>
                  <a:lnTo>
                    <a:pt x="1493" y="578"/>
                  </a:lnTo>
                  <a:lnTo>
                    <a:pt x="1482" y="619"/>
                  </a:lnTo>
                  <a:lnTo>
                    <a:pt x="1470" y="659"/>
                  </a:lnTo>
                  <a:lnTo>
                    <a:pt x="1456" y="697"/>
                  </a:lnTo>
                  <a:lnTo>
                    <a:pt x="1437" y="733"/>
                  </a:lnTo>
                  <a:lnTo>
                    <a:pt x="1411" y="764"/>
                  </a:lnTo>
                  <a:lnTo>
                    <a:pt x="1378" y="791"/>
                  </a:lnTo>
                  <a:lnTo>
                    <a:pt x="1369" y="787"/>
                  </a:lnTo>
                  <a:lnTo>
                    <a:pt x="1360" y="789"/>
                  </a:lnTo>
                  <a:lnTo>
                    <a:pt x="1350" y="791"/>
                  </a:lnTo>
                  <a:lnTo>
                    <a:pt x="1341" y="795"/>
                  </a:lnTo>
                  <a:lnTo>
                    <a:pt x="1332" y="799"/>
                  </a:lnTo>
                  <a:lnTo>
                    <a:pt x="1324" y="805"/>
                  </a:lnTo>
                  <a:lnTo>
                    <a:pt x="1316" y="812"/>
                  </a:lnTo>
                  <a:lnTo>
                    <a:pt x="1310" y="820"/>
                  </a:lnTo>
                  <a:lnTo>
                    <a:pt x="1287" y="852"/>
                  </a:lnTo>
                  <a:lnTo>
                    <a:pt x="1266" y="886"/>
                  </a:lnTo>
                  <a:lnTo>
                    <a:pt x="1247" y="920"/>
                  </a:lnTo>
                  <a:lnTo>
                    <a:pt x="1229" y="957"/>
                  </a:lnTo>
                  <a:lnTo>
                    <a:pt x="1211" y="993"/>
                  </a:lnTo>
                  <a:lnTo>
                    <a:pt x="1197" y="1030"/>
                  </a:lnTo>
                  <a:lnTo>
                    <a:pt x="1181" y="1067"/>
                  </a:lnTo>
                  <a:lnTo>
                    <a:pt x="1168" y="1105"/>
                  </a:lnTo>
                  <a:lnTo>
                    <a:pt x="1163" y="1113"/>
                  </a:lnTo>
                  <a:lnTo>
                    <a:pt x="1154" y="1121"/>
                  </a:lnTo>
                  <a:lnTo>
                    <a:pt x="1150" y="1124"/>
                  </a:lnTo>
                  <a:lnTo>
                    <a:pt x="1149" y="1128"/>
                  </a:lnTo>
                  <a:lnTo>
                    <a:pt x="1149" y="1134"/>
                  </a:lnTo>
                  <a:lnTo>
                    <a:pt x="1153" y="1140"/>
                  </a:lnTo>
                  <a:lnTo>
                    <a:pt x="1138" y="1176"/>
                  </a:lnTo>
                  <a:lnTo>
                    <a:pt x="1122" y="1213"/>
                  </a:lnTo>
                  <a:lnTo>
                    <a:pt x="1105" y="1249"/>
                  </a:lnTo>
                  <a:lnTo>
                    <a:pt x="1088" y="1285"/>
                  </a:lnTo>
                  <a:lnTo>
                    <a:pt x="1068" y="1320"/>
                  </a:lnTo>
                  <a:lnTo>
                    <a:pt x="1050" y="1355"/>
                  </a:lnTo>
                  <a:lnTo>
                    <a:pt x="1030" y="1389"/>
                  </a:lnTo>
                  <a:lnTo>
                    <a:pt x="1010" y="1425"/>
                  </a:lnTo>
                  <a:lnTo>
                    <a:pt x="1005" y="1425"/>
                  </a:lnTo>
                  <a:lnTo>
                    <a:pt x="1003" y="1428"/>
                  </a:lnTo>
                  <a:lnTo>
                    <a:pt x="1001" y="1432"/>
                  </a:lnTo>
                  <a:lnTo>
                    <a:pt x="998" y="1435"/>
                  </a:lnTo>
                  <a:lnTo>
                    <a:pt x="1002" y="1439"/>
                  </a:lnTo>
                  <a:lnTo>
                    <a:pt x="982" y="1464"/>
                  </a:lnTo>
                  <a:lnTo>
                    <a:pt x="962" y="1491"/>
                  </a:lnTo>
                  <a:lnTo>
                    <a:pt x="939" y="1516"/>
                  </a:lnTo>
                  <a:lnTo>
                    <a:pt x="916" y="1541"/>
                  </a:lnTo>
                  <a:lnTo>
                    <a:pt x="890" y="1562"/>
                  </a:lnTo>
                  <a:lnTo>
                    <a:pt x="865" y="1582"/>
                  </a:lnTo>
                  <a:lnTo>
                    <a:pt x="837" y="1598"/>
                  </a:lnTo>
                  <a:lnTo>
                    <a:pt x="810" y="1610"/>
                  </a:lnTo>
                  <a:lnTo>
                    <a:pt x="796" y="1616"/>
                  </a:lnTo>
                  <a:lnTo>
                    <a:pt x="781" y="1623"/>
                  </a:lnTo>
                  <a:lnTo>
                    <a:pt x="766" y="1626"/>
                  </a:lnTo>
                  <a:lnTo>
                    <a:pt x="750" y="1629"/>
                  </a:lnTo>
                  <a:lnTo>
                    <a:pt x="734" y="1630"/>
                  </a:lnTo>
                  <a:lnTo>
                    <a:pt x="718" y="1631"/>
                  </a:lnTo>
                  <a:lnTo>
                    <a:pt x="703" y="1632"/>
                  </a:lnTo>
                  <a:lnTo>
                    <a:pt x="689" y="1633"/>
                  </a:lnTo>
                  <a:lnTo>
                    <a:pt x="680" y="1629"/>
                  </a:lnTo>
                  <a:lnTo>
                    <a:pt x="672" y="1628"/>
                  </a:lnTo>
                  <a:lnTo>
                    <a:pt x="662" y="1630"/>
                  </a:lnTo>
                  <a:lnTo>
                    <a:pt x="654" y="1633"/>
                  </a:lnTo>
                  <a:lnTo>
                    <a:pt x="595" y="1643"/>
                  </a:lnTo>
                  <a:lnTo>
                    <a:pt x="536" y="1653"/>
                  </a:lnTo>
                  <a:lnTo>
                    <a:pt x="476" y="1659"/>
                  </a:lnTo>
                  <a:lnTo>
                    <a:pt x="416" y="1663"/>
                  </a:lnTo>
                  <a:lnTo>
                    <a:pt x="355" y="1664"/>
                  </a:lnTo>
                  <a:lnTo>
                    <a:pt x="295" y="1663"/>
                  </a:lnTo>
                  <a:lnTo>
                    <a:pt x="233" y="1660"/>
                  </a:lnTo>
                  <a:lnTo>
                    <a:pt x="174" y="1654"/>
                  </a:lnTo>
                  <a:lnTo>
                    <a:pt x="159" y="1652"/>
                  </a:lnTo>
                  <a:lnTo>
                    <a:pt x="144" y="1651"/>
                  </a:lnTo>
                  <a:lnTo>
                    <a:pt x="128" y="1648"/>
                  </a:lnTo>
                  <a:lnTo>
                    <a:pt x="111" y="1647"/>
                  </a:lnTo>
                  <a:lnTo>
                    <a:pt x="94" y="1644"/>
                  </a:lnTo>
                  <a:lnTo>
                    <a:pt x="78" y="1642"/>
                  </a:lnTo>
                  <a:lnTo>
                    <a:pt x="62" y="1638"/>
                  </a:lnTo>
                  <a:lnTo>
                    <a:pt x="47" y="1635"/>
                  </a:lnTo>
                  <a:lnTo>
                    <a:pt x="51" y="1627"/>
                  </a:lnTo>
                  <a:lnTo>
                    <a:pt x="47" y="1624"/>
                  </a:lnTo>
                  <a:lnTo>
                    <a:pt x="43" y="1625"/>
                  </a:lnTo>
                  <a:lnTo>
                    <a:pt x="40" y="1628"/>
                  </a:lnTo>
                  <a:lnTo>
                    <a:pt x="41" y="1633"/>
                  </a:lnTo>
                  <a:lnTo>
                    <a:pt x="18" y="1625"/>
                  </a:lnTo>
                  <a:lnTo>
                    <a:pt x="9" y="1572"/>
                  </a:lnTo>
                  <a:lnTo>
                    <a:pt x="4" y="1519"/>
                  </a:lnTo>
                  <a:lnTo>
                    <a:pt x="0" y="1464"/>
                  </a:lnTo>
                  <a:lnTo>
                    <a:pt x="2" y="1410"/>
                  </a:lnTo>
                  <a:lnTo>
                    <a:pt x="9" y="1356"/>
                  </a:lnTo>
                  <a:lnTo>
                    <a:pt x="22" y="1307"/>
                  </a:lnTo>
                  <a:lnTo>
                    <a:pt x="41" y="1258"/>
                  </a:lnTo>
                  <a:lnTo>
                    <a:pt x="70" y="1215"/>
                  </a:lnTo>
                  <a:lnTo>
                    <a:pt x="125" y="1208"/>
                  </a:lnTo>
                  <a:lnTo>
                    <a:pt x="182" y="1205"/>
                  </a:lnTo>
                  <a:lnTo>
                    <a:pt x="239" y="1206"/>
                  </a:lnTo>
                  <a:lnTo>
                    <a:pt x="298" y="1211"/>
                  </a:lnTo>
                  <a:lnTo>
                    <a:pt x="356" y="1216"/>
                  </a:lnTo>
                  <a:lnTo>
                    <a:pt x="414" y="1224"/>
                  </a:lnTo>
                  <a:lnTo>
                    <a:pt x="472" y="1231"/>
                  </a:lnTo>
                  <a:lnTo>
                    <a:pt x="530" y="1238"/>
                  </a:lnTo>
                  <a:lnTo>
                    <a:pt x="547" y="1243"/>
                  </a:lnTo>
                  <a:lnTo>
                    <a:pt x="565" y="1251"/>
                  </a:lnTo>
                  <a:lnTo>
                    <a:pt x="582" y="1260"/>
                  </a:lnTo>
                  <a:lnTo>
                    <a:pt x="598" y="1271"/>
                  </a:lnTo>
                  <a:lnTo>
                    <a:pt x="613" y="1283"/>
                  </a:lnTo>
                  <a:lnTo>
                    <a:pt x="627" y="1297"/>
                  </a:lnTo>
                  <a:lnTo>
                    <a:pt x="640" y="1312"/>
                  </a:lnTo>
                  <a:lnTo>
                    <a:pt x="652" y="1327"/>
                  </a:lnTo>
                  <a:lnTo>
                    <a:pt x="662" y="1327"/>
                  </a:lnTo>
                  <a:lnTo>
                    <a:pt x="656" y="1316"/>
                  </a:lnTo>
                  <a:lnTo>
                    <a:pt x="651" y="1306"/>
                  </a:lnTo>
                  <a:lnTo>
                    <a:pt x="645" y="1294"/>
                  </a:lnTo>
                  <a:lnTo>
                    <a:pt x="639" y="1284"/>
                  </a:lnTo>
                  <a:lnTo>
                    <a:pt x="631" y="1272"/>
                  </a:lnTo>
                  <a:lnTo>
                    <a:pt x="626" y="1261"/>
                  </a:lnTo>
                  <a:lnTo>
                    <a:pt x="622" y="1249"/>
                  </a:lnTo>
                  <a:lnTo>
                    <a:pt x="621" y="1236"/>
                  </a:lnTo>
                  <a:lnTo>
                    <a:pt x="616" y="1230"/>
                  </a:lnTo>
                  <a:lnTo>
                    <a:pt x="611" y="1224"/>
                  </a:lnTo>
                  <a:lnTo>
                    <a:pt x="605" y="1217"/>
                  </a:lnTo>
                  <a:lnTo>
                    <a:pt x="601" y="1211"/>
                  </a:lnTo>
                  <a:lnTo>
                    <a:pt x="598" y="1204"/>
                  </a:lnTo>
                  <a:lnTo>
                    <a:pt x="598" y="1198"/>
                  </a:lnTo>
                  <a:lnTo>
                    <a:pt x="601" y="1192"/>
                  </a:lnTo>
                  <a:lnTo>
                    <a:pt x="608" y="1186"/>
                  </a:lnTo>
                  <a:lnTo>
                    <a:pt x="657" y="1112"/>
                  </a:lnTo>
                  <a:lnTo>
                    <a:pt x="715" y="1041"/>
                  </a:lnTo>
                  <a:lnTo>
                    <a:pt x="777" y="972"/>
                  </a:lnTo>
                  <a:lnTo>
                    <a:pt x="842" y="904"/>
                  </a:lnTo>
                  <a:lnTo>
                    <a:pt x="904" y="833"/>
                  </a:lnTo>
                  <a:lnTo>
                    <a:pt x="964" y="762"/>
                  </a:lnTo>
                  <a:lnTo>
                    <a:pt x="1017" y="688"/>
                  </a:lnTo>
                  <a:lnTo>
                    <a:pt x="1060" y="611"/>
                  </a:lnTo>
                  <a:lnTo>
                    <a:pt x="1055" y="569"/>
                  </a:lnTo>
                  <a:lnTo>
                    <a:pt x="1054" y="526"/>
                  </a:lnTo>
                  <a:lnTo>
                    <a:pt x="1055" y="484"/>
                  </a:lnTo>
                  <a:lnTo>
                    <a:pt x="1061" y="444"/>
                  </a:lnTo>
                  <a:lnTo>
                    <a:pt x="1071" y="402"/>
                  </a:lnTo>
                  <a:lnTo>
                    <a:pt x="1084" y="364"/>
                  </a:lnTo>
                  <a:lnTo>
                    <a:pt x="1102" y="325"/>
                  </a:lnTo>
                  <a:lnTo>
                    <a:pt x="1124" y="291"/>
                  </a:lnTo>
                  <a:lnTo>
                    <a:pt x="1130" y="284"/>
                  </a:lnTo>
                  <a:lnTo>
                    <a:pt x="1137" y="277"/>
                  </a:lnTo>
                  <a:lnTo>
                    <a:pt x="1144" y="268"/>
                  </a:lnTo>
                  <a:lnTo>
                    <a:pt x="1151" y="261"/>
                  </a:lnTo>
                  <a:lnTo>
                    <a:pt x="1156" y="253"/>
                  </a:lnTo>
                  <a:lnTo>
                    <a:pt x="1160" y="245"/>
                  </a:lnTo>
                  <a:lnTo>
                    <a:pt x="1159" y="234"/>
                  </a:lnTo>
                  <a:lnTo>
                    <a:pt x="1155" y="225"/>
                  </a:lnTo>
                  <a:lnTo>
                    <a:pt x="1147" y="227"/>
                  </a:lnTo>
                  <a:lnTo>
                    <a:pt x="1145" y="198"/>
                  </a:lnTo>
                  <a:lnTo>
                    <a:pt x="1140" y="171"/>
                  </a:lnTo>
                  <a:lnTo>
                    <a:pt x="1133" y="144"/>
                  </a:lnTo>
                  <a:lnTo>
                    <a:pt x="1125" y="118"/>
                  </a:lnTo>
                  <a:lnTo>
                    <a:pt x="1117" y="92"/>
                  </a:lnTo>
                  <a:lnTo>
                    <a:pt x="1113" y="66"/>
                  </a:lnTo>
                  <a:lnTo>
                    <a:pt x="1110" y="39"/>
                  </a:lnTo>
                  <a:lnTo>
                    <a:pt x="1114" y="13"/>
                  </a:lnTo>
                  <a:lnTo>
                    <a:pt x="1126" y="6"/>
                  </a:lnTo>
                  <a:lnTo>
                    <a:pt x="1141" y="3"/>
                  </a:lnTo>
                  <a:lnTo>
                    <a:pt x="1153" y="0"/>
                  </a:lnTo>
                  <a:lnTo>
                    <a:pt x="1168" y="1"/>
                  </a:lnTo>
                  <a:lnTo>
                    <a:pt x="1181" y="3"/>
                  </a:lnTo>
                  <a:lnTo>
                    <a:pt x="1195" y="7"/>
                  </a:lnTo>
                  <a:lnTo>
                    <a:pt x="1207" y="13"/>
                  </a:lnTo>
                  <a:lnTo>
                    <a:pt x="1220" y="21"/>
                  </a:lnTo>
                  <a:lnTo>
                    <a:pt x="1230" y="37"/>
                  </a:lnTo>
                  <a:lnTo>
                    <a:pt x="1240" y="55"/>
                  </a:lnTo>
                  <a:lnTo>
                    <a:pt x="1250" y="72"/>
                  </a:lnTo>
                  <a:lnTo>
                    <a:pt x="1260" y="90"/>
                  </a:lnTo>
                  <a:lnTo>
                    <a:pt x="1268" y="108"/>
                  </a:lnTo>
                  <a:lnTo>
                    <a:pt x="1276" y="127"/>
                  </a:lnTo>
                  <a:lnTo>
                    <a:pt x="1282" y="145"/>
                  </a:lnTo>
                  <a:lnTo>
                    <a:pt x="1287" y="167"/>
                  </a:lnTo>
                  <a:close/>
                </a:path>
              </a:pathLst>
            </a:custGeom>
            <a:solidFill>
              <a:srgbClr val="924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588360" y="4514760"/>
              <a:ext cx="199080" cy="163080"/>
            </a:xfrm>
            <a:custGeom>
              <a:avLst/>
              <a:gdLst/>
              <a:ahLst/>
              <a:rect l="l" t="t" r="r" b="b"/>
              <a:pathLst>
                <a:path w="252" h="206">
                  <a:moveTo>
                    <a:pt x="252" y="109"/>
                  </a:moveTo>
                  <a:lnTo>
                    <a:pt x="245" y="112"/>
                  </a:lnTo>
                  <a:lnTo>
                    <a:pt x="238" y="115"/>
                  </a:lnTo>
                  <a:lnTo>
                    <a:pt x="229" y="115"/>
                  </a:lnTo>
                  <a:lnTo>
                    <a:pt x="222" y="116"/>
                  </a:lnTo>
                  <a:lnTo>
                    <a:pt x="213" y="115"/>
                  </a:lnTo>
                  <a:lnTo>
                    <a:pt x="204" y="116"/>
                  </a:lnTo>
                  <a:lnTo>
                    <a:pt x="196" y="116"/>
                  </a:lnTo>
                  <a:lnTo>
                    <a:pt x="189" y="119"/>
                  </a:lnTo>
                  <a:lnTo>
                    <a:pt x="165" y="124"/>
                  </a:lnTo>
                  <a:lnTo>
                    <a:pt x="143" y="132"/>
                  </a:lnTo>
                  <a:lnTo>
                    <a:pt x="122" y="144"/>
                  </a:lnTo>
                  <a:lnTo>
                    <a:pt x="102" y="156"/>
                  </a:lnTo>
                  <a:lnTo>
                    <a:pt x="81" y="169"/>
                  </a:lnTo>
                  <a:lnTo>
                    <a:pt x="63" y="182"/>
                  </a:lnTo>
                  <a:lnTo>
                    <a:pt x="43" y="195"/>
                  </a:lnTo>
                  <a:lnTo>
                    <a:pt x="23" y="206"/>
                  </a:lnTo>
                  <a:lnTo>
                    <a:pt x="15" y="204"/>
                  </a:lnTo>
                  <a:lnTo>
                    <a:pt x="7" y="202"/>
                  </a:lnTo>
                  <a:lnTo>
                    <a:pt x="0" y="197"/>
                  </a:lnTo>
                  <a:lnTo>
                    <a:pt x="0" y="189"/>
                  </a:lnTo>
                  <a:lnTo>
                    <a:pt x="0" y="164"/>
                  </a:lnTo>
                  <a:lnTo>
                    <a:pt x="3" y="138"/>
                  </a:lnTo>
                  <a:lnTo>
                    <a:pt x="8" y="113"/>
                  </a:lnTo>
                  <a:lnTo>
                    <a:pt x="16" y="89"/>
                  </a:lnTo>
                  <a:lnTo>
                    <a:pt x="26" y="66"/>
                  </a:lnTo>
                  <a:lnTo>
                    <a:pt x="40" y="46"/>
                  </a:lnTo>
                  <a:lnTo>
                    <a:pt x="57" y="30"/>
                  </a:lnTo>
                  <a:lnTo>
                    <a:pt x="79" y="18"/>
                  </a:lnTo>
                  <a:lnTo>
                    <a:pt x="72" y="27"/>
                  </a:lnTo>
                  <a:lnTo>
                    <a:pt x="67" y="36"/>
                  </a:lnTo>
                  <a:lnTo>
                    <a:pt x="63" y="46"/>
                  </a:lnTo>
                  <a:lnTo>
                    <a:pt x="60" y="59"/>
                  </a:lnTo>
                  <a:lnTo>
                    <a:pt x="59" y="70"/>
                  </a:lnTo>
                  <a:lnTo>
                    <a:pt x="59" y="83"/>
                  </a:lnTo>
                  <a:lnTo>
                    <a:pt x="61" y="94"/>
                  </a:lnTo>
                  <a:lnTo>
                    <a:pt x="65" y="107"/>
                  </a:lnTo>
                  <a:lnTo>
                    <a:pt x="71" y="113"/>
                  </a:lnTo>
                  <a:lnTo>
                    <a:pt x="77" y="117"/>
                  </a:lnTo>
                  <a:lnTo>
                    <a:pt x="83" y="120"/>
                  </a:lnTo>
                  <a:lnTo>
                    <a:pt x="90" y="122"/>
                  </a:lnTo>
                  <a:lnTo>
                    <a:pt x="97" y="122"/>
                  </a:lnTo>
                  <a:lnTo>
                    <a:pt x="105" y="122"/>
                  </a:lnTo>
                  <a:lnTo>
                    <a:pt x="113" y="121"/>
                  </a:lnTo>
                  <a:lnTo>
                    <a:pt x="123" y="121"/>
                  </a:lnTo>
                  <a:lnTo>
                    <a:pt x="129" y="118"/>
                  </a:lnTo>
                  <a:lnTo>
                    <a:pt x="136" y="115"/>
                  </a:lnTo>
                  <a:lnTo>
                    <a:pt x="142" y="111"/>
                  </a:lnTo>
                  <a:lnTo>
                    <a:pt x="148" y="108"/>
                  </a:lnTo>
                  <a:lnTo>
                    <a:pt x="153" y="101"/>
                  </a:lnTo>
                  <a:lnTo>
                    <a:pt x="158" y="96"/>
                  </a:lnTo>
                  <a:lnTo>
                    <a:pt x="162" y="89"/>
                  </a:lnTo>
                  <a:lnTo>
                    <a:pt x="166" y="83"/>
                  </a:lnTo>
                  <a:lnTo>
                    <a:pt x="167" y="76"/>
                  </a:lnTo>
                  <a:lnTo>
                    <a:pt x="168" y="70"/>
                  </a:lnTo>
                  <a:lnTo>
                    <a:pt x="169" y="64"/>
                  </a:lnTo>
                  <a:lnTo>
                    <a:pt x="170" y="58"/>
                  </a:lnTo>
                  <a:lnTo>
                    <a:pt x="170" y="52"/>
                  </a:lnTo>
                  <a:lnTo>
                    <a:pt x="170" y="45"/>
                  </a:lnTo>
                  <a:lnTo>
                    <a:pt x="170" y="39"/>
                  </a:lnTo>
                  <a:lnTo>
                    <a:pt x="170" y="33"/>
                  </a:lnTo>
                  <a:lnTo>
                    <a:pt x="163" y="26"/>
                  </a:lnTo>
                  <a:lnTo>
                    <a:pt x="157" y="17"/>
                  </a:lnTo>
                  <a:lnTo>
                    <a:pt x="148" y="9"/>
                  </a:lnTo>
                  <a:lnTo>
                    <a:pt x="139" y="2"/>
                  </a:lnTo>
                  <a:lnTo>
                    <a:pt x="148" y="0"/>
                  </a:lnTo>
                  <a:lnTo>
                    <a:pt x="159" y="1"/>
                  </a:lnTo>
                  <a:lnTo>
                    <a:pt x="168" y="3"/>
                  </a:lnTo>
                  <a:lnTo>
                    <a:pt x="177" y="7"/>
                  </a:lnTo>
                  <a:lnTo>
                    <a:pt x="186" y="12"/>
                  </a:lnTo>
                  <a:lnTo>
                    <a:pt x="195" y="18"/>
                  </a:lnTo>
                  <a:lnTo>
                    <a:pt x="202" y="26"/>
                  </a:lnTo>
                  <a:lnTo>
                    <a:pt x="210" y="35"/>
                  </a:lnTo>
                  <a:lnTo>
                    <a:pt x="215" y="43"/>
                  </a:lnTo>
                  <a:lnTo>
                    <a:pt x="221" y="52"/>
                  </a:lnTo>
                  <a:lnTo>
                    <a:pt x="227" y="61"/>
                  </a:lnTo>
                  <a:lnTo>
                    <a:pt x="233" y="70"/>
                  </a:lnTo>
                  <a:lnTo>
                    <a:pt x="238" y="80"/>
                  </a:lnTo>
                  <a:lnTo>
                    <a:pt x="243" y="89"/>
                  </a:lnTo>
                  <a:lnTo>
                    <a:pt x="247" y="98"/>
                  </a:lnTo>
                  <a:lnTo>
                    <a:pt x="252" y="10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538760" y="4557600"/>
              <a:ext cx="17280" cy="45720"/>
            </a:xfrm>
            <a:custGeom>
              <a:avLst/>
              <a:gdLst/>
              <a:ahLst/>
              <a:rect l="l" t="t" r="r" b="b"/>
              <a:pathLst>
                <a:path w="23" h="59">
                  <a:moveTo>
                    <a:pt x="12" y="59"/>
                  </a:moveTo>
                  <a:lnTo>
                    <a:pt x="8" y="54"/>
                  </a:lnTo>
                  <a:lnTo>
                    <a:pt x="7" y="48"/>
                  </a:lnTo>
                  <a:lnTo>
                    <a:pt x="5" y="43"/>
                  </a:lnTo>
                  <a:lnTo>
                    <a:pt x="5" y="38"/>
                  </a:lnTo>
                  <a:lnTo>
                    <a:pt x="4" y="32"/>
                  </a:lnTo>
                  <a:lnTo>
                    <a:pt x="3" y="26"/>
                  </a:lnTo>
                  <a:lnTo>
                    <a:pt x="2" y="20"/>
                  </a:lnTo>
                  <a:lnTo>
                    <a:pt x="0" y="16"/>
                  </a:lnTo>
                  <a:lnTo>
                    <a:pt x="23" y="0"/>
                  </a:lnTo>
                  <a:lnTo>
                    <a:pt x="22" y="6"/>
                  </a:lnTo>
                  <a:lnTo>
                    <a:pt x="22" y="14"/>
                  </a:lnTo>
                  <a:lnTo>
                    <a:pt x="20" y="22"/>
                  </a:lnTo>
                  <a:lnTo>
                    <a:pt x="18" y="31"/>
                  </a:lnTo>
                  <a:lnTo>
                    <a:pt x="14" y="38"/>
                  </a:lnTo>
                  <a:lnTo>
                    <a:pt x="13" y="46"/>
                  </a:lnTo>
                  <a:lnTo>
                    <a:pt x="11" y="53"/>
                  </a:lnTo>
                  <a:lnTo>
                    <a:pt x="12" y="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824520" y="4632120"/>
              <a:ext cx="278640" cy="201240"/>
            </a:xfrm>
            <a:custGeom>
              <a:avLst/>
              <a:gdLst/>
              <a:ahLst/>
              <a:rect l="l" t="t" r="r" b="b"/>
              <a:pathLst>
                <a:path w="352" h="254">
                  <a:moveTo>
                    <a:pt x="352" y="60"/>
                  </a:moveTo>
                  <a:lnTo>
                    <a:pt x="352" y="66"/>
                  </a:lnTo>
                  <a:lnTo>
                    <a:pt x="352" y="73"/>
                  </a:lnTo>
                  <a:lnTo>
                    <a:pt x="350" y="80"/>
                  </a:lnTo>
                  <a:lnTo>
                    <a:pt x="349" y="87"/>
                  </a:lnTo>
                  <a:lnTo>
                    <a:pt x="346" y="93"/>
                  </a:lnTo>
                  <a:lnTo>
                    <a:pt x="343" y="99"/>
                  </a:lnTo>
                  <a:lnTo>
                    <a:pt x="337" y="105"/>
                  </a:lnTo>
                  <a:lnTo>
                    <a:pt x="333" y="110"/>
                  </a:lnTo>
                  <a:lnTo>
                    <a:pt x="312" y="121"/>
                  </a:lnTo>
                  <a:lnTo>
                    <a:pt x="294" y="139"/>
                  </a:lnTo>
                  <a:lnTo>
                    <a:pt x="277" y="156"/>
                  </a:lnTo>
                  <a:lnTo>
                    <a:pt x="264" y="177"/>
                  </a:lnTo>
                  <a:lnTo>
                    <a:pt x="247" y="195"/>
                  </a:lnTo>
                  <a:lnTo>
                    <a:pt x="231" y="211"/>
                  </a:lnTo>
                  <a:lnTo>
                    <a:pt x="209" y="224"/>
                  </a:lnTo>
                  <a:lnTo>
                    <a:pt x="184" y="231"/>
                  </a:lnTo>
                  <a:lnTo>
                    <a:pt x="174" y="233"/>
                  </a:lnTo>
                  <a:lnTo>
                    <a:pt x="164" y="235"/>
                  </a:lnTo>
                  <a:lnTo>
                    <a:pt x="155" y="236"/>
                  </a:lnTo>
                  <a:lnTo>
                    <a:pt x="146" y="237"/>
                  </a:lnTo>
                  <a:lnTo>
                    <a:pt x="136" y="237"/>
                  </a:lnTo>
                  <a:lnTo>
                    <a:pt x="127" y="237"/>
                  </a:lnTo>
                  <a:lnTo>
                    <a:pt x="118" y="237"/>
                  </a:lnTo>
                  <a:lnTo>
                    <a:pt x="108" y="237"/>
                  </a:lnTo>
                  <a:lnTo>
                    <a:pt x="102" y="244"/>
                  </a:lnTo>
                  <a:lnTo>
                    <a:pt x="94" y="248"/>
                  </a:lnTo>
                  <a:lnTo>
                    <a:pt x="86" y="249"/>
                  </a:lnTo>
                  <a:lnTo>
                    <a:pt x="79" y="252"/>
                  </a:lnTo>
                  <a:lnTo>
                    <a:pt x="70" y="246"/>
                  </a:lnTo>
                  <a:lnTo>
                    <a:pt x="62" y="247"/>
                  </a:lnTo>
                  <a:lnTo>
                    <a:pt x="53" y="251"/>
                  </a:lnTo>
                  <a:lnTo>
                    <a:pt x="44" y="254"/>
                  </a:lnTo>
                  <a:lnTo>
                    <a:pt x="38" y="251"/>
                  </a:lnTo>
                  <a:lnTo>
                    <a:pt x="32" y="249"/>
                  </a:lnTo>
                  <a:lnTo>
                    <a:pt x="26" y="247"/>
                  </a:lnTo>
                  <a:lnTo>
                    <a:pt x="19" y="244"/>
                  </a:lnTo>
                  <a:lnTo>
                    <a:pt x="13" y="240"/>
                  </a:lnTo>
                  <a:lnTo>
                    <a:pt x="8" y="236"/>
                  </a:lnTo>
                  <a:lnTo>
                    <a:pt x="5" y="229"/>
                  </a:lnTo>
                  <a:lnTo>
                    <a:pt x="3" y="223"/>
                  </a:lnTo>
                  <a:lnTo>
                    <a:pt x="1" y="217"/>
                  </a:lnTo>
                  <a:lnTo>
                    <a:pt x="1" y="211"/>
                  </a:lnTo>
                  <a:lnTo>
                    <a:pt x="0" y="205"/>
                  </a:lnTo>
                  <a:lnTo>
                    <a:pt x="0" y="200"/>
                  </a:lnTo>
                  <a:lnTo>
                    <a:pt x="0" y="194"/>
                  </a:lnTo>
                  <a:lnTo>
                    <a:pt x="2" y="190"/>
                  </a:lnTo>
                  <a:lnTo>
                    <a:pt x="5" y="185"/>
                  </a:lnTo>
                  <a:lnTo>
                    <a:pt x="11" y="182"/>
                  </a:lnTo>
                  <a:lnTo>
                    <a:pt x="14" y="191"/>
                  </a:lnTo>
                  <a:lnTo>
                    <a:pt x="19" y="199"/>
                  </a:lnTo>
                  <a:lnTo>
                    <a:pt x="26" y="205"/>
                  </a:lnTo>
                  <a:lnTo>
                    <a:pt x="33" y="212"/>
                  </a:lnTo>
                  <a:lnTo>
                    <a:pt x="40" y="218"/>
                  </a:lnTo>
                  <a:lnTo>
                    <a:pt x="49" y="224"/>
                  </a:lnTo>
                  <a:lnTo>
                    <a:pt x="58" y="228"/>
                  </a:lnTo>
                  <a:lnTo>
                    <a:pt x="67" y="233"/>
                  </a:lnTo>
                  <a:lnTo>
                    <a:pt x="72" y="230"/>
                  </a:lnTo>
                  <a:lnTo>
                    <a:pt x="77" y="227"/>
                  </a:lnTo>
                  <a:lnTo>
                    <a:pt x="83" y="223"/>
                  </a:lnTo>
                  <a:lnTo>
                    <a:pt x="88" y="220"/>
                  </a:lnTo>
                  <a:lnTo>
                    <a:pt x="93" y="215"/>
                  </a:lnTo>
                  <a:lnTo>
                    <a:pt x="98" y="212"/>
                  </a:lnTo>
                  <a:lnTo>
                    <a:pt x="104" y="210"/>
                  </a:lnTo>
                  <a:lnTo>
                    <a:pt x="113" y="211"/>
                  </a:lnTo>
                  <a:lnTo>
                    <a:pt x="135" y="213"/>
                  </a:lnTo>
                  <a:lnTo>
                    <a:pt x="158" y="211"/>
                  </a:lnTo>
                  <a:lnTo>
                    <a:pt x="179" y="204"/>
                  </a:lnTo>
                  <a:lnTo>
                    <a:pt x="201" y="194"/>
                  </a:lnTo>
                  <a:lnTo>
                    <a:pt x="218" y="179"/>
                  </a:lnTo>
                  <a:lnTo>
                    <a:pt x="237" y="165"/>
                  </a:lnTo>
                  <a:lnTo>
                    <a:pt x="253" y="148"/>
                  </a:lnTo>
                  <a:lnTo>
                    <a:pt x="269" y="133"/>
                  </a:lnTo>
                  <a:lnTo>
                    <a:pt x="270" y="123"/>
                  </a:lnTo>
                  <a:lnTo>
                    <a:pt x="275" y="118"/>
                  </a:lnTo>
                  <a:lnTo>
                    <a:pt x="283" y="113"/>
                  </a:lnTo>
                  <a:lnTo>
                    <a:pt x="290" y="110"/>
                  </a:lnTo>
                  <a:lnTo>
                    <a:pt x="299" y="108"/>
                  </a:lnTo>
                  <a:lnTo>
                    <a:pt x="308" y="104"/>
                  </a:lnTo>
                  <a:lnTo>
                    <a:pt x="316" y="97"/>
                  </a:lnTo>
                  <a:lnTo>
                    <a:pt x="323" y="91"/>
                  </a:lnTo>
                  <a:lnTo>
                    <a:pt x="326" y="83"/>
                  </a:lnTo>
                  <a:lnTo>
                    <a:pt x="327" y="75"/>
                  </a:lnTo>
                  <a:lnTo>
                    <a:pt x="326" y="66"/>
                  </a:lnTo>
                  <a:lnTo>
                    <a:pt x="325" y="58"/>
                  </a:lnTo>
                  <a:lnTo>
                    <a:pt x="320" y="51"/>
                  </a:lnTo>
                  <a:lnTo>
                    <a:pt x="316" y="45"/>
                  </a:lnTo>
                  <a:lnTo>
                    <a:pt x="309" y="38"/>
                  </a:lnTo>
                  <a:lnTo>
                    <a:pt x="303" y="32"/>
                  </a:lnTo>
                  <a:lnTo>
                    <a:pt x="296" y="26"/>
                  </a:lnTo>
                  <a:lnTo>
                    <a:pt x="289" y="24"/>
                  </a:lnTo>
                  <a:lnTo>
                    <a:pt x="280" y="23"/>
                  </a:lnTo>
                  <a:lnTo>
                    <a:pt x="273" y="25"/>
                  </a:lnTo>
                  <a:lnTo>
                    <a:pt x="269" y="28"/>
                  </a:lnTo>
                  <a:lnTo>
                    <a:pt x="267" y="25"/>
                  </a:lnTo>
                  <a:lnTo>
                    <a:pt x="262" y="18"/>
                  </a:lnTo>
                  <a:lnTo>
                    <a:pt x="261" y="11"/>
                  </a:lnTo>
                  <a:lnTo>
                    <a:pt x="262" y="5"/>
                  </a:lnTo>
                  <a:lnTo>
                    <a:pt x="269" y="2"/>
                  </a:lnTo>
                  <a:lnTo>
                    <a:pt x="284" y="0"/>
                  </a:lnTo>
                  <a:lnTo>
                    <a:pt x="297" y="3"/>
                  </a:lnTo>
                  <a:lnTo>
                    <a:pt x="308" y="8"/>
                  </a:lnTo>
                  <a:lnTo>
                    <a:pt x="320" y="17"/>
                  </a:lnTo>
                  <a:lnTo>
                    <a:pt x="328" y="26"/>
                  </a:lnTo>
                  <a:lnTo>
                    <a:pt x="337" y="37"/>
                  </a:lnTo>
                  <a:lnTo>
                    <a:pt x="345" y="49"/>
                  </a:lnTo>
                  <a:lnTo>
                    <a:pt x="352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505640" y="4657680"/>
              <a:ext cx="218160" cy="193320"/>
            </a:xfrm>
            <a:custGeom>
              <a:avLst/>
              <a:gdLst/>
              <a:ahLst/>
              <a:rect l="l" t="t" r="r" b="b"/>
              <a:pathLst>
                <a:path w="274" h="246">
                  <a:moveTo>
                    <a:pt x="274" y="48"/>
                  </a:moveTo>
                  <a:lnTo>
                    <a:pt x="262" y="62"/>
                  </a:lnTo>
                  <a:lnTo>
                    <a:pt x="248" y="84"/>
                  </a:lnTo>
                  <a:lnTo>
                    <a:pt x="234" y="110"/>
                  </a:lnTo>
                  <a:lnTo>
                    <a:pt x="220" y="139"/>
                  </a:lnTo>
                  <a:lnTo>
                    <a:pt x="208" y="168"/>
                  </a:lnTo>
                  <a:lnTo>
                    <a:pt x="199" y="197"/>
                  </a:lnTo>
                  <a:lnTo>
                    <a:pt x="194" y="223"/>
                  </a:lnTo>
                  <a:lnTo>
                    <a:pt x="197" y="246"/>
                  </a:lnTo>
                  <a:lnTo>
                    <a:pt x="175" y="241"/>
                  </a:lnTo>
                  <a:lnTo>
                    <a:pt x="151" y="237"/>
                  </a:lnTo>
                  <a:lnTo>
                    <a:pt x="124" y="232"/>
                  </a:lnTo>
                  <a:lnTo>
                    <a:pt x="98" y="228"/>
                  </a:lnTo>
                  <a:lnTo>
                    <a:pt x="70" y="222"/>
                  </a:lnTo>
                  <a:lnTo>
                    <a:pt x="45" y="217"/>
                  </a:lnTo>
                  <a:lnTo>
                    <a:pt x="20" y="211"/>
                  </a:lnTo>
                  <a:lnTo>
                    <a:pt x="0" y="206"/>
                  </a:lnTo>
                  <a:lnTo>
                    <a:pt x="9" y="191"/>
                  </a:lnTo>
                  <a:lnTo>
                    <a:pt x="20" y="167"/>
                  </a:lnTo>
                  <a:lnTo>
                    <a:pt x="31" y="138"/>
                  </a:lnTo>
                  <a:lnTo>
                    <a:pt x="42" y="106"/>
                  </a:lnTo>
                  <a:lnTo>
                    <a:pt x="50" y="73"/>
                  </a:lnTo>
                  <a:lnTo>
                    <a:pt x="59" y="43"/>
                  </a:lnTo>
                  <a:lnTo>
                    <a:pt x="63" y="17"/>
                  </a:lnTo>
                  <a:lnTo>
                    <a:pt x="64" y="0"/>
                  </a:lnTo>
                  <a:lnTo>
                    <a:pt x="87" y="12"/>
                  </a:lnTo>
                  <a:lnTo>
                    <a:pt x="112" y="23"/>
                  </a:lnTo>
                  <a:lnTo>
                    <a:pt x="138" y="30"/>
                  </a:lnTo>
                  <a:lnTo>
                    <a:pt x="166" y="36"/>
                  </a:lnTo>
                  <a:lnTo>
                    <a:pt x="193" y="40"/>
                  </a:lnTo>
                  <a:lnTo>
                    <a:pt x="221" y="44"/>
                  </a:lnTo>
                  <a:lnTo>
                    <a:pt x="248" y="46"/>
                  </a:lnTo>
                  <a:lnTo>
                    <a:pt x="274" y="48"/>
                  </a:lnTo>
                  <a:close/>
                </a:path>
              </a:pathLst>
            </a:custGeom>
            <a:solidFill>
              <a:srgbClr val="f7b6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890760" y="4672080"/>
              <a:ext cx="39240" cy="37440"/>
            </a:xfrm>
            <a:custGeom>
              <a:avLst/>
              <a:gdLst/>
              <a:ahLst/>
              <a:rect l="l" t="t" r="r" b="b"/>
              <a:pathLst>
                <a:path w="48" h="47">
                  <a:moveTo>
                    <a:pt x="47" y="20"/>
                  </a:moveTo>
                  <a:lnTo>
                    <a:pt x="40" y="24"/>
                  </a:lnTo>
                  <a:lnTo>
                    <a:pt x="34" y="28"/>
                  </a:lnTo>
                  <a:lnTo>
                    <a:pt x="29" y="33"/>
                  </a:lnTo>
                  <a:lnTo>
                    <a:pt x="23" y="38"/>
                  </a:lnTo>
                  <a:lnTo>
                    <a:pt x="18" y="41"/>
                  </a:lnTo>
                  <a:lnTo>
                    <a:pt x="13" y="45"/>
                  </a:lnTo>
                  <a:lnTo>
                    <a:pt x="6" y="47"/>
                  </a:lnTo>
                  <a:lnTo>
                    <a:pt x="0" y="47"/>
                  </a:lnTo>
                  <a:lnTo>
                    <a:pt x="1" y="37"/>
                  </a:lnTo>
                  <a:lnTo>
                    <a:pt x="6" y="28"/>
                  </a:lnTo>
                  <a:lnTo>
                    <a:pt x="13" y="19"/>
                  </a:lnTo>
                  <a:lnTo>
                    <a:pt x="20" y="14"/>
                  </a:lnTo>
                  <a:lnTo>
                    <a:pt x="26" y="11"/>
                  </a:lnTo>
                  <a:lnTo>
                    <a:pt x="31" y="9"/>
                  </a:lnTo>
                  <a:lnTo>
                    <a:pt x="36" y="5"/>
                  </a:lnTo>
                  <a:lnTo>
                    <a:pt x="39" y="0"/>
                  </a:lnTo>
                  <a:lnTo>
                    <a:pt x="43" y="4"/>
                  </a:lnTo>
                  <a:lnTo>
                    <a:pt x="47" y="8"/>
                  </a:lnTo>
                  <a:lnTo>
                    <a:pt x="48" y="13"/>
                  </a:lnTo>
                  <a:lnTo>
                    <a:pt x="47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914520" y="4749840"/>
              <a:ext cx="356400" cy="288000"/>
            </a:xfrm>
            <a:custGeom>
              <a:avLst/>
              <a:gdLst/>
              <a:ahLst/>
              <a:rect l="l" t="t" r="r" b="b"/>
              <a:pathLst>
                <a:path w="448" h="365">
                  <a:moveTo>
                    <a:pt x="436" y="25"/>
                  </a:moveTo>
                  <a:lnTo>
                    <a:pt x="442" y="32"/>
                  </a:lnTo>
                  <a:lnTo>
                    <a:pt x="447" y="43"/>
                  </a:lnTo>
                  <a:lnTo>
                    <a:pt x="447" y="48"/>
                  </a:lnTo>
                  <a:lnTo>
                    <a:pt x="448" y="53"/>
                  </a:lnTo>
                  <a:lnTo>
                    <a:pt x="446" y="58"/>
                  </a:lnTo>
                  <a:lnTo>
                    <a:pt x="444" y="64"/>
                  </a:lnTo>
                  <a:lnTo>
                    <a:pt x="440" y="65"/>
                  </a:lnTo>
                  <a:lnTo>
                    <a:pt x="437" y="67"/>
                  </a:lnTo>
                  <a:lnTo>
                    <a:pt x="433" y="67"/>
                  </a:lnTo>
                  <a:lnTo>
                    <a:pt x="430" y="64"/>
                  </a:lnTo>
                  <a:lnTo>
                    <a:pt x="420" y="71"/>
                  </a:lnTo>
                  <a:lnTo>
                    <a:pt x="412" y="80"/>
                  </a:lnTo>
                  <a:lnTo>
                    <a:pt x="404" y="89"/>
                  </a:lnTo>
                  <a:lnTo>
                    <a:pt x="396" y="99"/>
                  </a:lnTo>
                  <a:lnTo>
                    <a:pt x="388" y="108"/>
                  </a:lnTo>
                  <a:lnTo>
                    <a:pt x="381" y="117"/>
                  </a:lnTo>
                  <a:lnTo>
                    <a:pt x="373" y="125"/>
                  </a:lnTo>
                  <a:lnTo>
                    <a:pt x="365" y="134"/>
                  </a:lnTo>
                  <a:lnTo>
                    <a:pt x="358" y="141"/>
                  </a:lnTo>
                  <a:lnTo>
                    <a:pt x="351" y="148"/>
                  </a:lnTo>
                  <a:lnTo>
                    <a:pt x="341" y="156"/>
                  </a:lnTo>
                  <a:lnTo>
                    <a:pt x="334" y="163"/>
                  </a:lnTo>
                  <a:lnTo>
                    <a:pt x="326" y="170"/>
                  </a:lnTo>
                  <a:lnTo>
                    <a:pt x="322" y="179"/>
                  </a:lnTo>
                  <a:lnTo>
                    <a:pt x="319" y="189"/>
                  </a:lnTo>
                  <a:lnTo>
                    <a:pt x="321" y="202"/>
                  </a:lnTo>
                  <a:lnTo>
                    <a:pt x="315" y="212"/>
                  </a:lnTo>
                  <a:lnTo>
                    <a:pt x="309" y="223"/>
                  </a:lnTo>
                  <a:lnTo>
                    <a:pt x="300" y="232"/>
                  </a:lnTo>
                  <a:lnTo>
                    <a:pt x="292" y="241"/>
                  </a:lnTo>
                  <a:lnTo>
                    <a:pt x="281" y="248"/>
                  </a:lnTo>
                  <a:lnTo>
                    <a:pt x="271" y="254"/>
                  </a:lnTo>
                  <a:lnTo>
                    <a:pt x="260" y="257"/>
                  </a:lnTo>
                  <a:lnTo>
                    <a:pt x="248" y="260"/>
                  </a:lnTo>
                  <a:lnTo>
                    <a:pt x="235" y="264"/>
                  </a:lnTo>
                  <a:lnTo>
                    <a:pt x="222" y="268"/>
                  </a:lnTo>
                  <a:lnTo>
                    <a:pt x="208" y="271"/>
                  </a:lnTo>
                  <a:lnTo>
                    <a:pt x="193" y="273"/>
                  </a:lnTo>
                  <a:lnTo>
                    <a:pt x="178" y="272"/>
                  </a:lnTo>
                  <a:lnTo>
                    <a:pt x="164" y="272"/>
                  </a:lnTo>
                  <a:lnTo>
                    <a:pt x="150" y="267"/>
                  </a:lnTo>
                  <a:lnTo>
                    <a:pt x="138" y="264"/>
                  </a:lnTo>
                  <a:lnTo>
                    <a:pt x="125" y="267"/>
                  </a:lnTo>
                  <a:lnTo>
                    <a:pt x="113" y="271"/>
                  </a:lnTo>
                  <a:lnTo>
                    <a:pt x="100" y="274"/>
                  </a:lnTo>
                  <a:lnTo>
                    <a:pt x="88" y="278"/>
                  </a:lnTo>
                  <a:lnTo>
                    <a:pt x="75" y="280"/>
                  </a:lnTo>
                  <a:lnTo>
                    <a:pt x="63" y="283"/>
                  </a:lnTo>
                  <a:lnTo>
                    <a:pt x="50" y="285"/>
                  </a:lnTo>
                  <a:lnTo>
                    <a:pt x="38" y="287"/>
                  </a:lnTo>
                  <a:lnTo>
                    <a:pt x="36" y="296"/>
                  </a:lnTo>
                  <a:lnTo>
                    <a:pt x="38" y="306"/>
                  </a:lnTo>
                  <a:lnTo>
                    <a:pt x="41" y="314"/>
                  </a:lnTo>
                  <a:lnTo>
                    <a:pt x="47" y="323"/>
                  </a:lnTo>
                  <a:lnTo>
                    <a:pt x="51" y="332"/>
                  </a:lnTo>
                  <a:lnTo>
                    <a:pt x="55" y="341"/>
                  </a:lnTo>
                  <a:lnTo>
                    <a:pt x="56" y="350"/>
                  </a:lnTo>
                  <a:lnTo>
                    <a:pt x="55" y="363"/>
                  </a:lnTo>
                  <a:lnTo>
                    <a:pt x="50" y="360"/>
                  </a:lnTo>
                  <a:lnTo>
                    <a:pt x="47" y="363"/>
                  </a:lnTo>
                  <a:lnTo>
                    <a:pt x="43" y="365"/>
                  </a:lnTo>
                  <a:lnTo>
                    <a:pt x="40" y="363"/>
                  </a:lnTo>
                  <a:lnTo>
                    <a:pt x="28" y="342"/>
                  </a:lnTo>
                  <a:lnTo>
                    <a:pt x="17" y="321"/>
                  </a:lnTo>
                  <a:lnTo>
                    <a:pt x="8" y="298"/>
                  </a:lnTo>
                  <a:lnTo>
                    <a:pt x="3" y="277"/>
                  </a:lnTo>
                  <a:lnTo>
                    <a:pt x="0" y="253"/>
                  </a:lnTo>
                  <a:lnTo>
                    <a:pt x="0" y="231"/>
                  </a:lnTo>
                  <a:lnTo>
                    <a:pt x="4" y="208"/>
                  </a:lnTo>
                  <a:lnTo>
                    <a:pt x="13" y="188"/>
                  </a:lnTo>
                  <a:lnTo>
                    <a:pt x="17" y="188"/>
                  </a:lnTo>
                  <a:lnTo>
                    <a:pt x="15" y="195"/>
                  </a:lnTo>
                  <a:lnTo>
                    <a:pt x="15" y="202"/>
                  </a:lnTo>
                  <a:lnTo>
                    <a:pt x="16" y="209"/>
                  </a:lnTo>
                  <a:lnTo>
                    <a:pt x="19" y="218"/>
                  </a:lnTo>
                  <a:lnTo>
                    <a:pt x="20" y="224"/>
                  </a:lnTo>
                  <a:lnTo>
                    <a:pt x="22" y="232"/>
                  </a:lnTo>
                  <a:lnTo>
                    <a:pt x="23" y="239"/>
                  </a:lnTo>
                  <a:lnTo>
                    <a:pt x="23" y="248"/>
                  </a:lnTo>
                  <a:lnTo>
                    <a:pt x="25" y="256"/>
                  </a:lnTo>
                  <a:lnTo>
                    <a:pt x="29" y="261"/>
                  </a:lnTo>
                  <a:lnTo>
                    <a:pt x="35" y="262"/>
                  </a:lnTo>
                  <a:lnTo>
                    <a:pt x="44" y="262"/>
                  </a:lnTo>
                  <a:lnTo>
                    <a:pt x="52" y="259"/>
                  </a:lnTo>
                  <a:lnTo>
                    <a:pt x="62" y="257"/>
                  </a:lnTo>
                  <a:lnTo>
                    <a:pt x="69" y="255"/>
                  </a:lnTo>
                  <a:lnTo>
                    <a:pt x="76" y="256"/>
                  </a:lnTo>
                  <a:lnTo>
                    <a:pt x="108" y="245"/>
                  </a:lnTo>
                  <a:lnTo>
                    <a:pt x="142" y="234"/>
                  </a:lnTo>
                  <a:lnTo>
                    <a:pt x="174" y="222"/>
                  </a:lnTo>
                  <a:lnTo>
                    <a:pt x="207" y="210"/>
                  </a:lnTo>
                  <a:lnTo>
                    <a:pt x="237" y="196"/>
                  </a:lnTo>
                  <a:lnTo>
                    <a:pt x="267" y="179"/>
                  </a:lnTo>
                  <a:lnTo>
                    <a:pt x="296" y="161"/>
                  </a:lnTo>
                  <a:lnTo>
                    <a:pt x="325" y="140"/>
                  </a:lnTo>
                  <a:lnTo>
                    <a:pt x="336" y="129"/>
                  </a:lnTo>
                  <a:lnTo>
                    <a:pt x="348" y="117"/>
                  </a:lnTo>
                  <a:lnTo>
                    <a:pt x="357" y="106"/>
                  </a:lnTo>
                  <a:lnTo>
                    <a:pt x="367" y="94"/>
                  </a:lnTo>
                  <a:lnTo>
                    <a:pt x="376" y="81"/>
                  </a:lnTo>
                  <a:lnTo>
                    <a:pt x="384" y="68"/>
                  </a:lnTo>
                  <a:lnTo>
                    <a:pt x="392" y="56"/>
                  </a:lnTo>
                  <a:lnTo>
                    <a:pt x="401" y="44"/>
                  </a:lnTo>
                  <a:lnTo>
                    <a:pt x="391" y="44"/>
                  </a:lnTo>
                  <a:lnTo>
                    <a:pt x="384" y="39"/>
                  </a:lnTo>
                  <a:lnTo>
                    <a:pt x="377" y="32"/>
                  </a:lnTo>
                  <a:lnTo>
                    <a:pt x="369" y="27"/>
                  </a:lnTo>
                  <a:lnTo>
                    <a:pt x="366" y="21"/>
                  </a:lnTo>
                  <a:lnTo>
                    <a:pt x="365" y="16"/>
                  </a:lnTo>
                  <a:lnTo>
                    <a:pt x="364" y="9"/>
                  </a:lnTo>
                  <a:lnTo>
                    <a:pt x="367" y="4"/>
                  </a:lnTo>
                  <a:lnTo>
                    <a:pt x="376" y="0"/>
                  </a:lnTo>
                  <a:lnTo>
                    <a:pt x="383" y="2"/>
                  </a:lnTo>
                  <a:lnTo>
                    <a:pt x="391" y="5"/>
                  </a:lnTo>
                  <a:lnTo>
                    <a:pt x="398" y="9"/>
                  </a:lnTo>
                  <a:lnTo>
                    <a:pt x="406" y="15"/>
                  </a:lnTo>
                  <a:lnTo>
                    <a:pt x="413" y="18"/>
                  </a:lnTo>
                  <a:lnTo>
                    <a:pt x="420" y="22"/>
                  </a:lnTo>
                  <a:lnTo>
                    <a:pt x="427" y="24"/>
                  </a:lnTo>
                  <a:lnTo>
                    <a:pt x="436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198480" y="4793760"/>
              <a:ext cx="124920" cy="215640"/>
            </a:xfrm>
            <a:custGeom>
              <a:avLst/>
              <a:gdLst/>
              <a:ahLst/>
              <a:rect l="l" t="t" r="r" b="b"/>
              <a:pathLst>
                <a:path w="159" h="274">
                  <a:moveTo>
                    <a:pt x="82" y="22"/>
                  </a:moveTo>
                  <a:lnTo>
                    <a:pt x="85" y="49"/>
                  </a:lnTo>
                  <a:lnTo>
                    <a:pt x="89" y="77"/>
                  </a:lnTo>
                  <a:lnTo>
                    <a:pt x="95" y="104"/>
                  </a:lnTo>
                  <a:lnTo>
                    <a:pt x="102" y="132"/>
                  </a:lnTo>
                  <a:lnTo>
                    <a:pt x="110" y="156"/>
                  </a:lnTo>
                  <a:lnTo>
                    <a:pt x="123" y="182"/>
                  </a:lnTo>
                  <a:lnTo>
                    <a:pt x="136" y="206"/>
                  </a:lnTo>
                  <a:lnTo>
                    <a:pt x="153" y="229"/>
                  </a:lnTo>
                  <a:lnTo>
                    <a:pt x="152" y="236"/>
                  </a:lnTo>
                  <a:lnTo>
                    <a:pt x="156" y="245"/>
                  </a:lnTo>
                  <a:lnTo>
                    <a:pt x="159" y="251"/>
                  </a:lnTo>
                  <a:lnTo>
                    <a:pt x="159" y="260"/>
                  </a:lnTo>
                  <a:lnTo>
                    <a:pt x="145" y="265"/>
                  </a:lnTo>
                  <a:lnTo>
                    <a:pt x="133" y="270"/>
                  </a:lnTo>
                  <a:lnTo>
                    <a:pt x="119" y="273"/>
                  </a:lnTo>
                  <a:lnTo>
                    <a:pt x="107" y="274"/>
                  </a:lnTo>
                  <a:lnTo>
                    <a:pt x="94" y="271"/>
                  </a:lnTo>
                  <a:lnTo>
                    <a:pt x="81" y="268"/>
                  </a:lnTo>
                  <a:lnTo>
                    <a:pt x="69" y="262"/>
                  </a:lnTo>
                  <a:lnTo>
                    <a:pt x="57" y="256"/>
                  </a:lnTo>
                  <a:lnTo>
                    <a:pt x="48" y="245"/>
                  </a:lnTo>
                  <a:lnTo>
                    <a:pt x="42" y="233"/>
                  </a:lnTo>
                  <a:lnTo>
                    <a:pt x="36" y="222"/>
                  </a:lnTo>
                  <a:lnTo>
                    <a:pt x="29" y="210"/>
                  </a:lnTo>
                  <a:lnTo>
                    <a:pt x="23" y="199"/>
                  </a:lnTo>
                  <a:lnTo>
                    <a:pt x="18" y="188"/>
                  </a:lnTo>
                  <a:lnTo>
                    <a:pt x="13" y="176"/>
                  </a:lnTo>
                  <a:lnTo>
                    <a:pt x="8" y="165"/>
                  </a:lnTo>
                  <a:lnTo>
                    <a:pt x="4" y="144"/>
                  </a:lnTo>
                  <a:lnTo>
                    <a:pt x="1" y="123"/>
                  </a:lnTo>
                  <a:lnTo>
                    <a:pt x="0" y="103"/>
                  </a:lnTo>
                  <a:lnTo>
                    <a:pt x="1" y="82"/>
                  </a:lnTo>
                  <a:lnTo>
                    <a:pt x="3" y="61"/>
                  </a:lnTo>
                  <a:lnTo>
                    <a:pt x="9" y="41"/>
                  </a:lnTo>
                  <a:lnTo>
                    <a:pt x="16" y="23"/>
                  </a:lnTo>
                  <a:lnTo>
                    <a:pt x="28" y="6"/>
                  </a:lnTo>
                  <a:lnTo>
                    <a:pt x="34" y="3"/>
                  </a:lnTo>
                  <a:lnTo>
                    <a:pt x="43" y="1"/>
                  </a:lnTo>
                  <a:lnTo>
                    <a:pt x="50" y="0"/>
                  </a:lnTo>
                  <a:lnTo>
                    <a:pt x="58" y="1"/>
                  </a:lnTo>
                  <a:lnTo>
                    <a:pt x="65" y="2"/>
                  </a:lnTo>
                  <a:lnTo>
                    <a:pt x="72" y="6"/>
                  </a:lnTo>
                  <a:lnTo>
                    <a:pt x="77" y="12"/>
                  </a:lnTo>
                  <a:lnTo>
                    <a:pt x="82" y="22"/>
                  </a:lnTo>
                  <a:close/>
                </a:path>
              </a:pathLst>
            </a:custGeom>
            <a:solidFill>
              <a:srgbClr val="924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391520" y="4839840"/>
              <a:ext cx="264600" cy="299520"/>
            </a:xfrm>
            <a:custGeom>
              <a:avLst/>
              <a:gdLst/>
              <a:ahLst/>
              <a:rect l="l" t="t" r="r" b="b"/>
              <a:pathLst>
                <a:path w="335" h="378">
                  <a:moveTo>
                    <a:pt x="133" y="0"/>
                  </a:moveTo>
                  <a:lnTo>
                    <a:pt x="155" y="8"/>
                  </a:lnTo>
                  <a:lnTo>
                    <a:pt x="180" y="17"/>
                  </a:lnTo>
                  <a:lnTo>
                    <a:pt x="205" y="24"/>
                  </a:lnTo>
                  <a:lnTo>
                    <a:pt x="229" y="31"/>
                  </a:lnTo>
                  <a:lnTo>
                    <a:pt x="253" y="37"/>
                  </a:lnTo>
                  <a:lnTo>
                    <a:pt x="278" y="44"/>
                  </a:lnTo>
                  <a:lnTo>
                    <a:pt x="301" y="50"/>
                  </a:lnTo>
                  <a:lnTo>
                    <a:pt x="323" y="56"/>
                  </a:lnTo>
                  <a:lnTo>
                    <a:pt x="325" y="71"/>
                  </a:lnTo>
                  <a:lnTo>
                    <a:pt x="325" y="88"/>
                  </a:lnTo>
                  <a:lnTo>
                    <a:pt x="323" y="106"/>
                  </a:lnTo>
                  <a:lnTo>
                    <a:pt x="322" y="124"/>
                  </a:lnTo>
                  <a:lnTo>
                    <a:pt x="320" y="140"/>
                  </a:lnTo>
                  <a:lnTo>
                    <a:pt x="322" y="153"/>
                  </a:lnTo>
                  <a:lnTo>
                    <a:pt x="325" y="163"/>
                  </a:lnTo>
                  <a:lnTo>
                    <a:pt x="335" y="168"/>
                  </a:lnTo>
                  <a:lnTo>
                    <a:pt x="323" y="192"/>
                  </a:lnTo>
                  <a:lnTo>
                    <a:pt x="307" y="219"/>
                  </a:lnTo>
                  <a:lnTo>
                    <a:pt x="287" y="246"/>
                  </a:lnTo>
                  <a:lnTo>
                    <a:pt x="268" y="274"/>
                  </a:lnTo>
                  <a:lnTo>
                    <a:pt x="245" y="301"/>
                  </a:lnTo>
                  <a:lnTo>
                    <a:pt x="224" y="327"/>
                  </a:lnTo>
                  <a:lnTo>
                    <a:pt x="204" y="353"/>
                  </a:lnTo>
                  <a:lnTo>
                    <a:pt x="187" y="378"/>
                  </a:lnTo>
                  <a:lnTo>
                    <a:pt x="165" y="364"/>
                  </a:lnTo>
                  <a:lnTo>
                    <a:pt x="144" y="348"/>
                  </a:lnTo>
                  <a:lnTo>
                    <a:pt x="124" y="331"/>
                  </a:lnTo>
                  <a:lnTo>
                    <a:pt x="104" y="313"/>
                  </a:lnTo>
                  <a:lnTo>
                    <a:pt x="85" y="292"/>
                  </a:lnTo>
                  <a:lnTo>
                    <a:pt x="70" y="272"/>
                  </a:lnTo>
                  <a:lnTo>
                    <a:pt x="55" y="249"/>
                  </a:lnTo>
                  <a:lnTo>
                    <a:pt x="46" y="225"/>
                  </a:lnTo>
                  <a:lnTo>
                    <a:pt x="41" y="212"/>
                  </a:lnTo>
                  <a:lnTo>
                    <a:pt x="36" y="200"/>
                  </a:lnTo>
                  <a:lnTo>
                    <a:pt x="31" y="189"/>
                  </a:lnTo>
                  <a:lnTo>
                    <a:pt x="25" y="178"/>
                  </a:lnTo>
                  <a:lnTo>
                    <a:pt x="19" y="167"/>
                  </a:lnTo>
                  <a:lnTo>
                    <a:pt x="13" y="157"/>
                  </a:lnTo>
                  <a:lnTo>
                    <a:pt x="7" y="146"/>
                  </a:lnTo>
                  <a:lnTo>
                    <a:pt x="0" y="137"/>
                  </a:lnTo>
                  <a:lnTo>
                    <a:pt x="7" y="128"/>
                  </a:lnTo>
                  <a:lnTo>
                    <a:pt x="14" y="118"/>
                  </a:lnTo>
                  <a:lnTo>
                    <a:pt x="22" y="110"/>
                  </a:lnTo>
                  <a:lnTo>
                    <a:pt x="32" y="103"/>
                  </a:lnTo>
                  <a:lnTo>
                    <a:pt x="41" y="93"/>
                  </a:lnTo>
                  <a:lnTo>
                    <a:pt x="50" y="85"/>
                  </a:lnTo>
                  <a:lnTo>
                    <a:pt x="60" y="77"/>
                  </a:lnTo>
                  <a:lnTo>
                    <a:pt x="69" y="68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061760" y="4905000"/>
              <a:ext cx="82080" cy="39240"/>
            </a:xfrm>
            <a:custGeom>
              <a:avLst/>
              <a:gdLst/>
              <a:ahLst/>
              <a:rect l="l" t="t" r="r" b="b"/>
              <a:pathLst>
                <a:path w="106" h="50">
                  <a:moveTo>
                    <a:pt x="106" y="0"/>
                  </a:moveTo>
                  <a:lnTo>
                    <a:pt x="102" y="8"/>
                  </a:lnTo>
                  <a:lnTo>
                    <a:pt x="96" y="18"/>
                  </a:lnTo>
                  <a:lnTo>
                    <a:pt x="89" y="24"/>
                  </a:lnTo>
                  <a:lnTo>
                    <a:pt x="81" y="31"/>
                  </a:lnTo>
                  <a:lnTo>
                    <a:pt x="72" y="36"/>
                  </a:lnTo>
                  <a:lnTo>
                    <a:pt x="62" y="41"/>
                  </a:lnTo>
                  <a:lnTo>
                    <a:pt x="53" y="46"/>
                  </a:lnTo>
                  <a:lnTo>
                    <a:pt x="44" y="50"/>
                  </a:lnTo>
                  <a:lnTo>
                    <a:pt x="0" y="50"/>
                  </a:lnTo>
                  <a:lnTo>
                    <a:pt x="14" y="43"/>
                  </a:lnTo>
                  <a:lnTo>
                    <a:pt x="27" y="37"/>
                  </a:lnTo>
                  <a:lnTo>
                    <a:pt x="39" y="31"/>
                  </a:lnTo>
                  <a:lnTo>
                    <a:pt x="53" y="26"/>
                  </a:lnTo>
                  <a:lnTo>
                    <a:pt x="65" y="19"/>
                  </a:lnTo>
                  <a:lnTo>
                    <a:pt x="79" y="12"/>
                  </a:lnTo>
                  <a:lnTo>
                    <a:pt x="92" y="6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031520" y="4909680"/>
              <a:ext cx="207360" cy="159840"/>
            </a:xfrm>
            <a:custGeom>
              <a:avLst/>
              <a:gdLst/>
              <a:ahLst/>
              <a:rect l="l" t="t" r="r" b="b"/>
              <a:pathLst>
                <a:path w="263" h="203">
                  <a:moveTo>
                    <a:pt x="216" y="138"/>
                  </a:moveTo>
                  <a:lnTo>
                    <a:pt x="197" y="157"/>
                  </a:lnTo>
                  <a:lnTo>
                    <a:pt x="177" y="172"/>
                  </a:lnTo>
                  <a:lnTo>
                    <a:pt x="155" y="185"/>
                  </a:lnTo>
                  <a:lnTo>
                    <a:pt x="133" y="194"/>
                  </a:lnTo>
                  <a:lnTo>
                    <a:pt x="109" y="200"/>
                  </a:lnTo>
                  <a:lnTo>
                    <a:pt x="85" y="203"/>
                  </a:lnTo>
                  <a:lnTo>
                    <a:pt x="60" y="203"/>
                  </a:lnTo>
                  <a:lnTo>
                    <a:pt x="35" y="200"/>
                  </a:lnTo>
                  <a:lnTo>
                    <a:pt x="30" y="194"/>
                  </a:lnTo>
                  <a:lnTo>
                    <a:pt x="24" y="189"/>
                  </a:lnTo>
                  <a:lnTo>
                    <a:pt x="16" y="185"/>
                  </a:lnTo>
                  <a:lnTo>
                    <a:pt x="10" y="181"/>
                  </a:lnTo>
                  <a:lnTo>
                    <a:pt x="3" y="176"/>
                  </a:lnTo>
                  <a:lnTo>
                    <a:pt x="0" y="172"/>
                  </a:lnTo>
                  <a:lnTo>
                    <a:pt x="0" y="167"/>
                  </a:lnTo>
                  <a:lnTo>
                    <a:pt x="4" y="161"/>
                  </a:lnTo>
                  <a:lnTo>
                    <a:pt x="26" y="168"/>
                  </a:lnTo>
                  <a:lnTo>
                    <a:pt x="48" y="173"/>
                  </a:lnTo>
                  <a:lnTo>
                    <a:pt x="72" y="175"/>
                  </a:lnTo>
                  <a:lnTo>
                    <a:pt x="96" y="175"/>
                  </a:lnTo>
                  <a:lnTo>
                    <a:pt x="118" y="170"/>
                  </a:lnTo>
                  <a:lnTo>
                    <a:pt x="140" y="162"/>
                  </a:lnTo>
                  <a:lnTo>
                    <a:pt x="159" y="149"/>
                  </a:lnTo>
                  <a:lnTo>
                    <a:pt x="178" y="134"/>
                  </a:lnTo>
                  <a:lnTo>
                    <a:pt x="188" y="118"/>
                  </a:lnTo>
                  <a:lnTo>
                    <a:pt x="200" y="103"/>
                  </a:lnTo>
                  <a:lnTo>
                    <a:pt x="211" y="87"/>
                  </a:lnTo>
                  <a:lnTo>
                    <a:pt x="222" y="72"/>
                  </a:lnTo>
                  <a:lnTo>
                    <a:pt x="232" y="55"/>
                  </a:lnTo>
                  <a:lnTo>
                    <a:pt x="242" y="38"/>
                  </a:lnTo>
                  <a:lnTo>
                    <a:pt x="249" y="21"/>
                  </a:lnTo>
                  <a:lnTo>
                    <a:pt x="256" y="4"/>
                  </a:lnTo>
                  <a:lnTo>
                    <a:pt x="260" y="0"/>
                  </a:lnTo>
                  <a:lnTo>
                    <a:pt x="263" y="19"/>
                  </a:lnTo>
                  <a:lnTo>
                    <a:pt x="262" y="37"/>
                  </a:lnTo>
                  <a:lnTo>
                    <a:pt x="257" y="55"/>
                  </a:lnTo>
                  <a:lnTo>
                    <a:pt x="250" y="73"/>
                  </a:lnTo>
                  <a:lnTo>
                    <a:pt x="241" y="88"/>
                  </a:lnTo>
                  <a:lnTo>
                    <a:pt x="232" y="105"/>
                  </a:lnTo>
                  <a:lnTo>
                    <a:pt x="222" y="121"/>
                  </a:lnTo>
                  <a:lnTo>
                    <a:pt x="216" y="1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314040" y="4963680"/>
              <a:ext cx="1197360" cy="773640"/>
            </a:xfrm>
            <a:custGeom>
              <a:avLst/>
              <a:gdLst/>
              <a:ahLst/>
              <a:rect l="l" t="t" r="r" b="b"/>
              <a:pathLst>
                <a:path w="1513" h="974">
                  <a:moveTo>
                    <a:pt x="1334" y="1"/>
                  </a:moveTo>
                  <a:lnTo>
                    <a:pt x="1345" y="25"/>
                  </a:lnTo>
                  <a:lnTo>
                    <a:pt x="1357" y="50"/>
                  </a:lnTo>
                  <a:lnTo>
                    <a:pt x="1369" y="75"/>
                  </a:lnTo>
                  <a:lnTo>
                    <a:pt x="1382" y="101"/>
                  </a:lnTo>
                  <a:lnTo>
                    <a:pt x="1395" y="125"/>
                  </a:lnTo>
                  <a:lnTo>
                    <a:pt x="1411" y="150"/>
                  </a:lnTo>
                  <a:lnTo>
                    <a:pt x="1429" y="174"/>
                  </a:lnTo>
                  <a:lnTo>
                    <a:pt x="1451" y="196"/>
                  </a:lnTo>
                  <a:lnTo>
                    <a:pt x="1456" y="204"/>
                  </a:lnTo>
                  <a:lnTo>
                    <a:pt x="1463" y="212"/>
                  </a:lnTo>
                  <a:lnTo>
                    <a:pt x="1469" y="220"/>
                  </a:lnTo>
                  <a:lnTo>
                    <a:pt x="1479" y="229"/>
                  </a:lnTo>
                  <a:lnTo>
                    <a:pt x="1486" y="235"/>
                  </a:lnTo>
                  <a:lnTo>
                    <a:pt x="1495" y="242"/>
                  </a:lnTo>
                  <a:lnTo>
                    <a:pt x="1503" y="248"/>
                  </a:lnTo>
                  <a:lnTo>
                    <a:pt x="1513" y="254"/>
                  </a:lnTo>
                  <a:lnTo>
                    <a:pt x="1475" y="292"/>
                  </a:lnTo>
                  <a:lnTo>
                    <a:pt x="1439" y="329"/>
                  </a:lnTo>
                  <a:lnTo>
                    <a:pt x="1402" y="367"/>
                  </a:lnTo>
                  <a:lnTo>
                    <a:pt x="1367" y="407"/>
                  </a:lnTo>
                  <a:lnTo>
                    <a:pt x="1330" y="446"/>
                  </a:lnTo>
                  <a:lnTo>
                    <a:pt x="1297" y="486"/>
                  </a:lnTo>
                  <a:lnTo>
                    <a:pt x="1264" y="527"/>
                  </a:lnTo>
                  <a:lnTo>
                    <a:pt x="1234" y="570"/>
                  </a:lnTo>
                  <a:lnTo>
                    <a:pt x="1230" y="576"/>
                  </a:lnTo>
                  <a:lnTo>
                    <a:pt x="1227" y="582"/>
                  </a:lnTo>
                  <a:lnTo>
                    <a:pt x="1224" y="588"/>
                  </a:lnTo>
                  <a:lnTo>
                    <a:pt x="1221" y="594"/>
                  </a:lnTo>
                  <a:lnTo>
                    <a:pt x="1215" y="599"/>
                  </a:lnTo>
                  <a:lnTo>
                    <a:pt x="1211" y="605"/>
                  </a:lnTo>
                  <a:lnTo>
                    <a:pt x="1206" y="610"/>
                  </a:lnTo>
                  <a:lnTo>
                    <a:pt x="1201" y="615"/>
                  </a:lnTo>
                  <a:lnTo>
                    <a:pt x="1189" y="615"/>
                  </a:lnTo>
                  <a:lnTo>
                    <a:pt x="1176" y="615"/>
                  </a:lnTo>
                  <a:lnTo>
                    <a:pt x="1164" y="614"/>
                  </a:lnTo>
                  <a:lnTo>
                    <a:pt x="1151" y="613"/>
                  </a:lnTo>
                  <a:lnTo>
                    <a:pt x="1139" y="611"/>
                  </a:lnTo>
                  <a:lnTo>
                    <a:pt x="1127" y="609"/>
                  </a:lnTo>
                  <a:lnTo>
                    <a:pt x="1116" y="607"/>
                  </a:lnTo>
                  <a:lnTo>
                    <a:pt x="1106" y="605"/>
                  </a:lnTo>
                  <a:lnTo>
                    <a:pt x="1065" y="598"/>
                  </a:lnTo>
                  <a:lnTo>
                    <a:pt x="1027" y="594"/>
                  </a:lnTo>
                  <a:lnTo>
                    <a:pt x="987" y="590"/>
                  </a:lnTo>
                  <a:lnTo>
                    <a:pt x="948" y="587"/>
                  </a:lnTo>
                  <a:lnTo>
                    <a:pt x="908" y="584"/>
                  </a:lnTo>
                  <a:lnTo>
                    <a:pt x="868" y="582"/>
                  </a:lnTo>
                  <a:lnTo>
                    <a:pt x="828" y="581"/>
                  </a:lnTo>
                  <a:lnTo>
                    <a:pt x="789" y="581"/>
                  </a:lnTo>
                  <a:lnTo>
                    <a:pt x="780" y="566"/>
                  </a:lnTo>
                  <a:lnTo>
                    <a:pt x="758" y="554"/>
                  </a:lnTo>
                  <a:lnTo>
                    <a:pt x="735" y="543"/>
                  </a:lnTo>
                  <a:lnTo>
                    <a:pt x="712" y="533"/>
                  </a:lnTo>
                  <a:lnTo>
                    <a:pt x="689" y="525"/>
                  </a:lnTo>
                  <a:lnTo>
                    <a:pt x="665" y="515"/>
                  </a:lnTo>
                  <a:lnTo>
                    <a:pt x="642" y="510"/>
                  </a:lnTo>
                  <a:lnTo>
                    <a:pt x="618" y="504"/>
                  </a:lnTo>
                  <a:lnTo>
                    <a:pt x="594" y="502"/>
                  </a:lnTo>
                  <a:lnTo>
                    <a:pt x="588" y="502"/>
                  </a:lnTo>
                  <a:lnTo>
                    <a:pt x="583" y="502"/>
                  </a:lnTo>
                  <a:lnTo>
                    <a:pt x="578" y="501"/>
                  </a:lnTo>
                  <a:lnTo>
                    <a:pt x="575" y="500"/>
                  </a:lnTo>
                  <a:lnTo>
                    <a:pt x="568" y="498"/>
                  </a:lnTo>
                  <a:lnTo>
                    <a:pt x="561" y="500"/>
                  </a:lnTo>
                  <a:lnTo>
                    <a:pt x="555" y="494"/>
                  </a:lnTo>
                  <a:lnTo>
                    <a:pt x="548" y="489"/>
                  </a:lnTo>
                  <a:lnTo>
                    <a:pt x="541" y="482"/>
                  </a:lnTo>
                  <a:lnTo>
                    <a:pt x="535" y="478"/>
                  </a:lnTo>
                  <a:lnTo>
                    <a:pt x="528" y="472"/>
                  </a:lnTo>
                  <a:lnTo>
                    <a:pt x="522" y="467"/>
                  </a:lnTo>
                  <a:lnTo>
                    <a:pt x="517" y="459"/>
                  </a:lnTo>
                  <a:lnTo>
                    <a:pt x="516" y="450"/>
                  </a:lnTo>
                  <a:lnTo>
                    <a:pt x="512" y="446"/>
                  </a:lnTo>
                  <a:lnTo>
                    <a:pt x="507" y="446"/>
                  </a:lnTo>
                  <a:lnTo>
                    <a:pt x="501" y="447"/>
                  </a:lnTo>
                  <a:lnTo>
                    <a:pt x="496" y="448"/>
                  </a:lnTo>
                  <a:lnTo>
                    <a:pt x="491" y="456"/>
                  </a:lnTo>
                  <a:lnTo>
                    <a:pt x="492" y="467"/>
                  </a:lnTo>
                  <a:lnTo>
                    <a:pt x="494" y="476"/>
                  </a:lnTo>
                  <a:lnTo>
                    <a:pt x="498" y="485"/>
                  </a:lnTo>
                  <a:lnTo>
                    <a:pt x="467" y="493"/>
                  </a:lnTo>
                  <a:lnTo>
                    <a:pt x="438" y="504"/>
                  </a:lnTo>
                  <a:lnTo>
                    <a:pt x="410" y="519"/>
                  </a:lnTo>
                  <a:lnTo>
                    <a:pt x="384" y="537"/>
                  </a:lnTo>
                  <a:lnTo>
                    <a:pt x="357" y="557"/>
                  </a:lnTo>
                  <a:lnTo>
                    <a:pt x="333" y="578"/>
                  </a:lnTo>
                  <a:lnTo>
                    <a:pt x="308" y="599"/>
                  </a:lnTo>
                  <a:lnTo>
                    <a:pt x="285" y="621"/>
                  </a:lnTo>
                  <a:lnTo>
                    <a:pt x="265" y="643"/>
                  </a:lnTo>
                  <a:lnTo>
                    <a:pt x="247" y="667"/>
                  </a:lnTo>
                  <a:lnTo>
                    <a:pt x="230" y="691"/>
                  </a:lnTo>
                  <a:lnTo>
                    <a:pt x="218" y="715"/>
                  </a:lnTo>
                  <a:lnTo>
                    <a:pt x="205" y="740"/>
                  </a:lnTo>
                  <a:lnTo>
                    <a:pt x="194" y="767"/>
                  </a:lnTo>
                  <a:lnTo>
                    <a:pt x="184" y="793"/>
                  </a:lnTo>
                  <a:lnTo>
                    <a:pt x="173" y="820"/>
                  </a:lnTo>
                  <a:lnTo>
                    <a:pt x="167" y="838"/>
                  </a:lnTo>
                  <a:lnTo>
                    <a:pt x="162" y="856"/>
                  </a:lnTo>
                  <a:lnTo>
                    <a:pt x="156" y="875"/>
                  </a:lnTo>
                  <a:lnTo>
                    <a:pt x="152" y="894"/>
                  </a:lnTo>
                  <a:lnTo>
                    <a:pt x="147" y="912"/>
                  </a:lnTo>
                  <a:lnTo>
                    <a:pt x="146" y="932"/>
                  </a:lnTo>
                  <a:lnTo>
                    <a:pt x="145" y="953"/>
                  </a:lnTo>
                  <a:lnTo>
                    <a:pt x="148" y="974"/>
                  </a:lnTo>
                  <a:lnTo>
                    <a:pt x="124" y="957"/>
                  </a:lnTo>
                  <a:lnTo>
                    <a:pt x="101" y="938"/>
                  </a:lnTo>
                  <a:lnTo>
                    <a:pt x="79" y="916"/>
                  </a:lnTo>
                  <a:lnTo>
                    <a:pt x="61" y="895"/>
                  </a:lnTo>
                  <a:lnTo>
                    <a:pt x="44" y="869"/>
                  </a:lnTo>
                  <a:lnTo>
                    <a:pt x="29" y="844"/>
                  </a:lnTo>
                  <a:lnTo>
                    <a:pt x="17" y="817"/>
                  </a:lnTo>
                  <a:lnTo>
                    <a:pt x="9" y="791"/>
                  </a:lnTo>
                  <a:lnTo>
                    <a:pt x="3" y="760"/>
                  </a:lnTo>
                  <a:lnTo>
                    <a:pt x="1" y="728"/>
                  </a:lnTo>
                  <a:lnTo>
                    <a:pt x="0" y="695"/>
                  </a:lnTo>
                  <a:lnTo>
                    <a:pt x="2" y="662"/>
                  </a:lnTo>
                  <a:lnTo>
                    <a:pt x="7" y="627"/>
                  </a:lnTo>
                  <a:lnTo>
                    <a:pt x="15" y="596"/>
                  </a:lnTo>
                  <a:lnTo>
                    <a:pt x="26" y="566"/>
                  </a:lnTo>
                  <a:lnTo>
                    <a:pt x="43" y="539"/>
                  </a:lnTo>
                  <a:lnTo>
                    <a:pt x="72" y="498"/>
                  </a:lnTo>
                  <a:lnTo>
                    <a:pt x="106" y="461"/>
                  </a:lnTo>
                  <a:lnTo>
                    <a:pt x="143" y="425"/>
                  </a:lnTo>
                  <a:lnTo>
                    <a:pt x="185" y="395"/>
                  </a:lnTo>
                  <a:lnTo>
                    <a:pt x="227" y="369"/>
                  </a:lnTo>
                  <a:lnTo>
                    <a:pt x="274" y="351"/>
                  </a:lnTo>
                  <a:lnTo>
                    <a:pt x="323" y="337"/>
                  </a:lnTo>
                  <a:lnTo>
                    <a:pt x="373" y="334"/>
                  </a:lnTo>
                  <a:lnTo>
                    <a:pt x="397" y="332"/>
                  </a:lnTo>
                  <a:lnTo>
                    <a:pt x="423" y="331"/>
                  </a:lnTo>
                  <a:lnTo>
                    <a:pt x="449" y="329"/>
                  </a:lnTo>
                  <a:lnTo>
                    <a:pt x="476" y="328"/>
                  </a:lnTo>
                  <a:lnTo>
                    <a:pt x="502" y="326"/>
                  </a:lnTo>
                  <a:lnTo>
                    <a:pt x="529" y="324"/>
                  </a:lnTo>
                  <a:lnTo>
                    <a:pt x="554" y="321"/>
                  </a:lnTo>
                  <a:lnTo>
                    <a:pt x="579" y="319"/>
                  </a:lnTo>
                  <a:lnTo>
                    <a:pt x="587" y="322"/>
                  </a:lnTo>
                  <a:lnTo>
                    <a:pt x="594" y="321"/>
                  </a:lnTo>
                  <a:lnTo>
                    <a:pt x="594" y="341"/>
                  </a:lnTo>
                  <a:lnTo>
                    <a:pt x="600" y="362"/>
                  </a:lnTo>
                  <a:lnTo>
                    <a:pt x="608" y="381"/>
                  </a:lnTo>
                  <a:lnTo>
                    <a:pt x="621" y="399"/>
                  </a:lnTo>
                  <a:lnTo>
                    <a:pt x="633" y="415"/>
                  </a:lnTo>
                  <a:lnTo>
                    <a:pt x="650" y="429"/>
                  </a:lnTo>
                  <a:lnTo>
                    <a:pt x="666" y="442"/>
                  </a:lnTo>
                  <a:lnTo>
                    <a:pt x="685" y="452"/>
                  </a:lnTo>
                  <a:lnTo>
                    <a:pt x="691" y="454"/>
                  </a:lnTo>
                  <a:lnTo>
                    <a:pt x="699" y="457"/>
                  </a:lnTo>
                  <a:lnTo>
                    <a:pt x="706" y="460"/>
                  </a:lnTo>
                  <a:lnTo>
                    <a:pt x="713" y="462"/>
                  </a:lnTo>
                  <a:lnTo>
                    <a:pt x="719" y="463"/>
                  </a:lnTo>
                  <a:lnTo>
                    <a:pt x="727" y="465"/>
                  </a:lnTo>
                  <a:lnTo>
                    <a:pt x="734" y="465"/>
                  </a:lnTo>
                  <a:lnTo>
                    <a:pt x="743" y="465"/>
                  </a:lnTo>
                  <a:lnTo>
                    <a:pt x="747" y="469"/>
                  </a:lnTo>
                  <a:lnTo>
                    <a:pt x="769" y="467"/>
                  </a:lnTo>
                  <a:lnTo>
                    <a:pt x="792" y="465"/>
                  </a:lnTo>
                  <a:lnTo>
                    <a:pt x="815" y="461"/>
                  </a:lnTo>
                  <a:lnTo>
                    <a:pt x="837" y="457"/>
                  </a:lnTo>
                  <a:lnTo>
                    <a:pt x="859" y="452"/>
                  </a:lnTo>
                  <a:lnTo>
                    <a:pt x="882" y="449"/>
                  </a:lnTo>
                  <a:lnTo>
                    <a:pt x="904" y="446"/>
                  </a:lnTo>
                  <a:lnTo>
                    <a:pt x="926" y="446"/>
                  </a:lnTo>
                  <a:lnTo>
                    <a:pt x="979" y="428"/>
                  </a:lnTo>
                  <a:lnTo>
                    <a:pt x="1037" y="412"/>
                  </a:lnTo>
                  <a:lnTo>
                    <a:pt x="1094" y="392"/>
                  </a:lnTo>
                  <a:lnTo>
                    <a:pt x="1151" y="369"/>
                  </a:lnTo>
                  <a:lnTo>
                    <a:pt x="1203" y="339"/>
                  </a:lnTo>
                  <a:lnTo>
                    <a:pt x="1250" y="303"/>
                  </a:lnTo>
                  <a:lnTo>
                    <a:pt x="1285" y="255"/>
                  </a:lnTo>
                  <a:lnTo>
                    <a:pt x="1311" y="198"/>
                  </a:lnTo>
                  <a:lnTo>
                    <a:pt x="1316" y="176"/>
                  </a:lnTo>
                  <a:lnTo>
                    <a:pt x="1322" y="152"/>
                  </a:lnTo>
                  <a:lnTo>
                    <a:pt x="1325" y="127"/>
                  </a:lnTo>
                  <a:lnTo>
                    <a:pt x="1329" y="102"/>
                  </a:lnTo>
                  <a:lnTo>
                    <a:pt x="1329" y="77"/>
                  </a:lnTo>
                  <a:lnTo>
                    <a:pt x="1329" y="52"/>
                  </a:lnTo>
                  <a:lnTo>
                    <a:pt x="1326" y="29"/>
                  </a:lnTo>
                  <a:lnTo>
                    <a:pt x="1323" y="7"/>
                  </a:lnTo>
                  <a:lnTo>
                    <a:pt x="1326" y="5"/>
                  </a:lnTo>
                  <a:lnTo>
                    <a:pt x="1328" y="3"/>
                  </a:lnTo>
                  <a:lnTo>
                    <a:pt x="1329" y="0"/>
                  </a:lnTo>
                  <a:lnTo>
                    <a:pt x="1334" y="1"/>
                  </a:lnTo>
                  <a:close/>
                </a:path>
              </a:pathLst>
            </a:custGeom>
            <a:solidFill>
              <a:srgbClr val="94b6d2"/>
            </a:solidFill>
            <a:ln w="9360">
              <a:solidFill>
                <a:srgbClr val="94b6d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810120" y="4986000"/>
              <a:ext cx="535320" cy="322920"/>
            </a:xfrm>
            <a:custGeom>
              <a:avLst/>
              <a:gdLst/>
              <a:ahLst/>
              <a:rect l="l" t="t" r="r" b="b"/>
              <a:pathLst>
                <a:path w="676" h="408">
                  <a:moveTo>
                    <a:pt x="607" y="262"/>
                  </a:moveTo>
                  <a:lnTo>
                    <a:pt x="577" y="281"/>
                  </a:lnTo>
                  <a:lnTo>
                    <a:pt x="546" y="300"/>
                  </a:lnTo>
                  <a:lnTo>
                    <a:pt x="514" y="316"/>
                  </a:lnTo>
                  <a:lnTo>
                    <a:pt x="483" y="330"/>
                  </a:lnTo>
                  <a:lnTo>
                    <a:pt x="450" y="341"/>
                  </a:lnTo>
                  <a:lnTo>
                    <a:pt x="416" y="354"/>
                  </a:lnTo>
                  <a:lnTo>
                    <a:pt x="383" y="366"/>
                  </a:lnTo>
                  <a:lnTo>
                    <a:pt x="351" y="379"/>
                  </a:lnTo>
                  <a:lnTo>
                    <a:pt x="343" y="378"/>
                  </a:lnTo>
                  <a:lnTo>
                    <a:pt x="336" y="378"/>
                  </a:lnTo>
                  <a:lnTo>
                    <a:pt x="328" y="379"/>
                  </a:lnTo>
                  <a:lnTo>
                    <a:pt x="322" y="381"/>
                  </a:lnTo>
                  <a:lnTo>
                    <a:pt x="315" y="383"/>
                  </a:lnTo>
                  <a:lnTo>
                    <a:pt x="309" y="385"/>
                  </a:lnTo>
                  <a:lnTo>
                    <a:pt x="301" y="387"/>
                  </a:lnTo>
                  <a:lnTo>
                    <a:pt x="295" y="389"/>
                  </a:lnTo>
                  <a:lnTo>
                    <a:pt x="257" y="392"/>
                  </a:lnTo>
                  <a:lnTo>
                    <a:pt x="220" y="398"/>
                  </a:lnTo>
                  <a:lnTo>
                    <a:pt x="182" y="404"/>
                  </a:lnTo>
                  <a:lnTo>
                    <a:pt x="146" y="408"/>
                  </a:lnTo>
                  <a:lnTo>
                    <a:pt x="110" y="407"/>
                  </a:lnTo>
                  <a:lnTo>
                    <a:pt x="77" y="399"/>
                  </a:lnTo>
                  <a:lnTo>
                    <a:pt x="45" y="383"/>
                  </a:lnTo>
                  <a:lnTo>
                    <a:pt x="17" y="356"/>
                  </a:lnTo>
                  <a:lnTo>
                    <a:pt x="11" y="349"/>
                  </a:lnTo>
                  <a:lnTo>
                    <a:pt x="8" y="342"/>
                  </a:lnTo>
                  <a:lnTo>
                    <a:pt x="5" y="336"/>
                  </a:lnTo>
                  <a:lnTo>
                    <a:pt x="3" y="330"/>
                  </a:lnTo>
                  <a:lnTo>
                    <a:pt x="1" y="322"/>
                  </a:lnTo>
                  <a:lnTo>
                    <a:pt x="0" y="314"/>
                  </a:lnTo>
                  <a:lnTo>
                    <a:pt x="0" y="306"/>
                  </a:lnTo>
                  <a:lnTo>
                    <a:pt x="0" y="299"/>
                  </a:lnTo>
                  <a:lnTo>
                    <a:pt x="7" y="298"/>
                  </a:lnTo>
                  <a:lnTo>
                    <a:pt x="16" y="300"/>
                  </a:lnTo>
                  <a:lnTo>
                    <a:pt x="24" y="304"/>
                  </a:lnTo>
                  <a:lnTo>
                    <a:pt x="29" y="310"/>
                  </a:lnTo>
                  <a:lnTo>
                    <a:pt x="57" y="320"/>
                  </a:lnTo>
                  <a:lnTo>
                    <a:pt x="86" y="330"/>
                  </a:lnTo>
                  <a:lnTo>
                    <a:pt x="115" y="339"/>
                  </a:lnTo>
                  <a:lnTo>
                    <a:pt x="145" y="349"/>
                  </a:lnTo>
                  <a:lnTo>
                    <a:pt x="175" y="355"/>
                  </a:lnTo>
                  <a:lnTo>
                    <a:pt x="206" y="361"/>
                  </a:lnTo>
                  <a:lnTo>
                    <a:pt x="237" y="363"/>
                  </a:lnTo>
                  <a:lnTo>
                    <a:pt x="268" y="362"/>
                  </a:lnTo>
                  <a:lnTo>
                    <a:pt x="298" y="358"/>
                  </a:lnTo>
                  <a:lnTo>
                    <a:pt x="328" y="353"/>
                  </a:lnTo>
                  <a:lnTo>
                    <a:pt x="357" y="346"/>
                  </a:lnTo>
                  <a:lnTo>
                    <a:pt x="387" y="336"/>
                  </a:lnTo>
                  <a:lnTo>
                    <a:pt x="415" y="324"/>
                  </a:lnTo>
                  <a:lnTo>
                    <a:pt x="443" y="310"/>
                  </a:lnTo>
                  <a:lnTo>
                    <a:pt x="469" y="294"/>
                  </a:lnTo>
                  <a:lnTo>
                    <a:pt x="495" y="274"/>
                  </a:lnTo>
                  <a:lnTo>
                    <a:pt x="510" y="266"/>
                  </a:lnTo>
                  <a:lnTo>
                    <a:pt x="523" y="256"/>
                  </a:lnTo>
                  <a:lnTo>
                    <a:pt x="535" y="244"/>
                  </a:lnTo>
                  <a:lnTo>
                    <a:pt x="546" y="232"/>
                  </a:lnTo>
                  <a:lnTo>
                    <a:pt x="555" y="216"/>
                  </a:lnTo>
                  <a:lnTo>
                    <a:pt x="566" y="202"/>
                  </a:lnTo>
                  <a:lnTo>
                    <a:pt x="575" y="187"/>
                  </a:lnTo>
                  <a:lnTo>
                    <a:pt x="584" y="173"/>
                  </a:lnTo>
                  <a:lnTo>
                    <a:pt x="597" y="151"/>
                  </a:lnTo>
                  <a:lnTo>
                    <a:pt x="607" y="130"/>
                  </a:lnTo>
                  <a:lnTo>
                    <a:pt x="615" y="107"/>
                  </a:lnTo>
                  <a:lnTo>
                    <a:pt x="624" y="84"/>
                  </a:lnTo>
                  <a:lnTo>
                    <a:pt x="631" y="61"/>
                  </a:lnTo>
                  <a:lnTo>
                    <a:pt x="641" y="39"/>
                  </a:lnTo>
                  <a:lnTo>
                    <a:pt x="653" y="17"/>
                  </a:lnTo>
                  <a:lnTo>
                    <a:pt x="669" y="0"/>
                  </a:lnTo>
                  <a:lnTo>
                    <a:pt x="674" y="34"/>
                  </a:lnTo>
                  <a:lnTo>
                    <a:pt x="676" y="70"/>
                  </a:lnTo>
                  <a:lnTo>
                    <a:pt x="673" y="104"/>
                  </a:lnTo>
                  <a:lnTo>
                    <a:pt x="667" y="139"/>
                  </a:lnTo>
                  <a:lnTo>
                    <a:pt x="656" y="173"/>
                  </a:lnTo>
                  <a:lnTo>
                    <a:pt x="643" y="205"/>
                  </a:lnTo>
                  <a:lnTo>
                    <a:pt x="626" y="234"/>
                  </a:lnTo>
                  <a:lnTo>
                    <a:pt x="607" y="2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453360" y="5370840"/>
              <a:ext cx="300960" cy="408960"/>
            </a:xfrm>
            <a:custGeom>
              <a:avLst/>
              <a:gdLst/>
              <a:ahLst/>
              <a:rect l="l" t="t" r="r" b="b"/>
              <a:pathLst>
                <a:path w="380" h="516">
                  <a:moveTo>
                    <a:pt x="380" y="15"/>
                  </a:moveTo>
                  <a:lnTo>
                    <a:pt x="336" y="66"/>
                  </a:lnTo>
                  <a:lnTo>
                    <a:pt x="302" y="122"/>
                  </a:lnTo>
                  <a:lnTo>
                    <a:pt x="273" y="181"/>
                  </a:lnTo>
                  <a:lnTo>
                    <a:pt x="253" y="243"/>
                  </a:lnTo>
                  <a:lnTo>
                    <a:pt x="239" y="306"/>
                  </a:lnTo>
                  <a:lnTo>
                    <a:pt x="234" y="373"/>
                  </a:lnTo>
                  <a:lnTo>
                    <a:pt x="234" y="441"/>
                  </a:lnTo>
                  <a:lnTo>
                    <a:pt x="243" y="512"/>
                  </a:lnTo>
                  <a:lnTo>
                    <a:pt x="218" y="512"/>
                  </a:lnTo>
                  <a:lnTo>
                    <a:pt x="193" y="513"/>
                  </a:lnTo>
                  <a:lnTo>
                    <a:pt x="168" y="512"/>
                  </a:lnTo>
                  <a:lnTo>
                    <a:pt x="144" y="512"/>
                  </a:lnTo>
                  <a:lnTo>
                    <a:pt x="120" y="512"/>
                  </a:lnTo>
                  <a:lnTo>
                    <a:pt x="97" y="512"/>
                  </a:lnTo>
                  <a:lnTo>
                    <a:pt x="74" y="513"/>
                  </a:lnTo>
                  <a:lnTo>
                    <a:pt x="53" y="516"/>
                  </a:lnTo>
                  <a:lnTo>
                    <a:pt x="44" y="512"/>
                  </a:lnTo>
                  <a:lnTo>
                    <a:pt x="36" y="508"/>
                  </a:lnTo>
                  <a:lnTo>
                    <a:pt x="26" y="503"/>
                  </a:lnTo>
                  <a:lnTo>
                    <a:pt x="19" y="499"/>
                  </a:lnTo>
                  <a:lnTo>
                    <a:pt x="12" y="493"/>
                  </a:lnTo>
                  <a:lnTo>
                    <a:pt x="7" y="486"/>
                  </a:lnTo>
                  <a:lnTo>
                    <a:pt x="3" y="478"/>
                  </a:lnTo>
                  <a:lnTo>
                    <a:pt x="1" y="469"/>
                  </a:lnTo>
                  <a:lnTo>
                    <a:pt x="0" y="418"/>
                  </a:lnTo>
                  <a:lnTo>
                    <a:pt x="7" y="369"/>
                  </a:lnTo>
                  <a:lnTo>
                    <a:pt x="18" y="323"/>
                  </a:lnTo>
                  <a:lnTo>
                    <a:pt x="35" y="279"/>
                  </a:lnTo>
                  <a:lnTo>
                    <a:pt x="54" y="235"/>
                  </a:lnTo>
                  <a:lnTo>
                    <a:pt x="79" y="194"/>
                  </a:lnTo>
                  <a:lnTo>
                    <a:pt x="106" y="153"/>
                  </a:lnTo>
                  <a:lnTo>
                    <a:pt x="137" y="115"/>
                  </a:lnTo>
                  <a:lnTo>
                    <a:pt x="160" y="95"/>
                  </a:lnTo>
                  <a:lnTo>
                    <a:pt x="184" y="75"/>
                  </a:lnTo>
                  <a:lnTo>
                    <a:pt x="208" y="55"/>
                  </a:lnTo>
                  <a:lnTo>
                    <a:pt x="233" y="39"/>
                  </a:lnTo>
                  <a:lnTo>
                    <a:pt x="257" y="23"/>
                  </a:lnTo>
                  <a:lnTo>
                    <a:pt x="285" y="12"/>
                  </a:lnTo>
                  <a:lnTo>
                    <a:pt x="313" y="3"/>
                  </a:lnTo>
                  <a:lnTo>
                    <a:pt x="344" y="0"/>
                  </a:lnTo>
                  <a:lnTo>
                    <a:pt x="351" y="7"/>
                  </a:lnTo>
                  <a:lnTo>
                    <a:pt x="360" y="11"/>
                  </a:lnTo>
                  <a:lnTo>
                    <a:pt x="369" y="13"/>
                  </a:lnTo>
                  <a:lnTo>
                    <a:pt x="38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659280" y="5389920"/>
              <a:ext cx="245160" cy="389880"/>
            </a:xfrm>
            <a:custGeom>
              <a:avLst/>
              <a:gdLst/>
              <a:ahLst/>
              <a:rect l="l" t="t" r="r" b="b"/>
              <a:pathLst>
                <a:path w="309" h="492">
                  <a:moveTo>
                    <a:pt x="309" y="49"/>
                  </a:moveTo>
                  <a:lnTo>
                    <a:pt x="304" y="53"/>
                  </a:lnTo>
                  <a:lnTo>
                    <a:pt x="299" y="53"/>
                  </a:lnTo>
                  <a:lnTo>
                    <a:pt x="294" y="51"/>
                  </a:lnTo>
                  <a:lnTo>
                    <a:pt x="288" y="53"/>
                  </a:lnTo>
                  <a:lnTo>
                    <a:pt x="253" y="96"/>
                  </a:lnTo>
                  <a:lnTo>
                    <a:pt x="228" y="144"/>
                  </a:lnTo>
                  <a:lnTo>
                    <a:pt x="210" y="197"/>
                  </a:lnTo>
                  <a:lnTo>
                    <a:pt x="199" y="253"/>
                  </a:lnTo>
                  <a:lnTo>
                    <a:pt x="193" y="310"/>
                  </a:lnTo>
                  <a:lnTo>
                    <a:pt x="193" y="369"/>
                  </a:lnTo>
                  <a:lnTo>
                    <a:pt x="196" y="427"/>
                  </a:lnTo>
                  <a:lnTo>
                    <a:pt x="204" y="484"/>
                  </a:lnTo>
                  <a:lnTo>
                    <a:pt x="180" y="484"/>
                  </a:lnTo>
                  <a:lnTo>
                    <a:pt x="158" y="484"/>
                  </a:lnTo>
                  <a:lnTo>
                    <a:pt x="134" y="484"/>
                  </a:lnTo>
                  <a:lnTo>
                    <a:pt x="112" y="485"/>
                  </a:lnTo>
                  <a:lnTo>
                    <a:pt x="89" y="485"/>
                  </a:lnTo>
                  <a:lnTo>
                    <a:pt x="67" y="487"/>
                  </a:lnTo>
                  <a:lnTo>
                    <a:pt x="45" y="489"/>
                  </a:lnTo>
                  <a:lnTo>
                    <a:pt x="24" y="492"/>
                  </a:lnTo>
                  <a:lnTo>
                    <a:pt x="15" y="484"/>
                  </a:lnTo>
                  <a:lnTo>
                    <a:pt x="10" y="476"/>
                  </a:lnTo>
                  <a:lnTo>
                    <a:pt x="6" y="464"/>
                  </a:lnTo>
                  <a:lnTo>
                    <a:pt x="4" y="454"/>
                  </a:lnTo>
                  <a:lnTo>
                    <a:pt x="2" y="442"/>
                  </a:lnTo>
                  <a:lnTo>
                    <a:pt x="0" y="429"/>
                  </a:lnTo>
                  <a:lnTo>
                    <a:pt x="0" y="417"/>
                  </a:lnTo>
                  <a:lnTo>
                    <a:pt x="2" y="405"/>
                  </a:lnTo>
                  <a:lnTo>
                    <a:pt x="0" y="356"/>
                  </a:lnTo>
                  <a:lnTo>
                    <a:pt x="5" y="307"/>
                  </a:lnTo>
                  <a:lnTo>
                    <a:pt x="11" y="259"/>
                  </a:lnTo>
                  <a:lnTo>
                    <a:pt x="23" y="213"/>
                  </a:lnTo>
                  <a:lnTo>
                    <a:pt x="38" y="166"/>
                  </a:lnTo>
                  <a:lnTo>
                    <a:pt x="57" y="121"/>
                  </a:lnTo>
                  <a:lnTo>
                    <a:pt x="81" y="79"/>
                  </a:lnTo>
                  <a:lnTo>
                    <a:pt x="109" y="41"/>
                  </a:lnTo>
                  <a:lnTo>
                    <a:pt x="119" y="30"/>
                  </a:lnTo>
                  <a:lnTo>
                    <a:pt x="130" y="21"/>
                  </a:lnTo>
                  <a:lnTo>
                    <a:pt x="135" y="16"/>
                  </a:lnTo>
                  <a:lnTo>
                    <a:pt x="141" y="11"/>
                  </a:lnTo>
                  <a:lnTo>
                    <a:pt x="147" y="5"/>
                  </a:lnTo>
                  <a:lnTo>
                    <a:pt x="152" y="1"/>
                  </a:lnTo>
                  <a:lnTo>
                    <a:pt x="172" y="0"/>
                  </a:lnTo>
                  <a:lnTo>
                    <a:pt x="194" y="3"/>
                  </a:lnTo>
                  <a:lnTo>
                    <a:pt x="214" y="7"/>
                  </a:lnTo>
                  <a:lnTo>
                    <a:pt x="235" y="15"/>
                  </a:lnTo>
                  <a:lnTo>
                    <a:pt x="253" y="21"/>
                  </a:lnTo>
                  <a:lnTo>
                    <a:pt x="272" y="30"/>
                  </a:lnTo>
                  <a:lnTo>
                    <a:pt x="291" y="40"/>
                  </a:lnTo>
                  <a:lnTo>
                    <a:pt x="309" y="49"/>
                  </a:lnTo>
                  <a:close/>
                </a:path>
              </a:pathLst>
            </a:custGeom>
            <a:solidFill>
              <a:srgbClr val="f7b6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549920" y="5437800"/>
              <a:ext cx="370800" cy="338760"/>
            </a:xfrm>
            <a:custGeom>
              <a:avLst/>
              <a:gdLst/>
              <a:ahLst/>
              <a:rect l="l" t="t" r="r" b="b"/>
              <a:pathLst>
                <a:path w="469" h="429">
                  <a:moveTo>
                    <a:pt x="302" y="31"/>
                  </a:moveTo>
                  <a:lnTo>
                    <a:pt x="315" y="53"/>
                  </a:lnTo>
                  <a:lnTo>
                    <a:pt x="329" y="76"/>
                  </a:lnTo>
                  <a:lnTo>
                    <a:pt x="341" y="99"/>
                  </a:lnTo>
                  <a:lnTo>
                    <a:pt x="354" y="124"/>
                  </a:lnTo>
                  <a:lnTo>
                    <a:pt x="364" y="147"/>
                  </a:lnTo>
                  <a:lnTo>
                    <a:pt x="376" y="171"/>
                  </a:lnTo>
                  <a:lnTo>
                    <a:pt x="389" y="195"/>
                  </a:lnTo>
                  <a:lnTo>
                    <a:pt x="402" y="220"/>
                  </a:lnTo>
                  <a:lnTo>
                    <a:pt x="400" y="226"/>
                  </a:lnTo>
                  <a:lnTo>
                    <a:pt x="398" y="234"/>
                  </a:lnTo>
                  <a:lnTo>
                    <a:pt x="399" y="243"/>
                  </a:lnTo>
                  <a:lnTo>
                    <a:pt x="404" y="249"/>
                  </a:lnTo>
                  <a:lnTo>
                    <a:pt x="411" y="249"/>
                  </a:lnTo>
                  <a:lnTo>
                    <a:pt x="420" y="270"/>
                  </a:lnTo>
                  <a:lnTo>
                    <a:pt x="429" y="291"/>
                  </a:lnTo>
                  <a:lnTo>
                    <a:pt x="437" y="313"/>
                  </a:lnTo>
                  <a:lnTo>
                    <a:pt x="445" y="336"/>
                  </a:lnTo>
                  <a:lnTo>
                    <a:pt x="451" y="358"/>
                  </a:lnTo>
                  <a:lnTo>
                    <a:pt x="457" y="382"/>
                  </a:lnTo>
                  <a:lnTo>
                    <a:pt x="462" y="404"/>
                  </a:lnTo>
                  <a:lnTo>
                    <a:pt x="469" y="428"/>
                  </a:lnTo>
                  <a:lnTo>
                    <a:pt x="411" y="428"/>
                  </a:lnTo>
                  <a:lnTo>
                    <a:pt x="354" y="428"/>
                  </a:lnTo>
                  <a:lnTo>
                    <a:pt x="296" y="428"/>
                  </a:lnTo>
                  <a:lnTo>
                    <a:pt x="238" y="429"/>
                  </a:lnTo>
                  <a:lnTo>
                    <a:pt x="179" y="428"/>
                  </a:lnTo>
                  <a:lnTo>
                    <a:pt x="120" y="428"/>
                  </a:lnTo>
                  <a:lnTo>
                    <a:pt x="59" y="427"/>
                  </a:lnTo>
                  <a:lnTo>
                    <a:pt x="0" y="426"/>
                  </a:lnTo>
                  <a:lnTo>
                    <a:pt x="5" y="417"/>
                  </a:lnTo>
                  <a:lnTo>
                    <a:pt x="11" y="409"/>
                  </a:lnTo>
                  <a:lnTo>
                    <a:pt x="16" y="399"/>
                  </a:lnTo>
                  <a:lnTo>
                    <a:pt x="22" y="392"/>
                  </a:lnTo>
                  <a:lnTo>
                    <a:pt x="28" y="383"/>
                  </a:lnTo>
                  <a:lnTo>
                    <a:pt x="37" y="377"/>
                  </a:lnTo>
                  <a:lnTo>
                    <a:pt x="46" y="372"/>
                  </a:lnTo>
                  <a:lnTo>
                    <a:pt x="56" y="370"/>
                  </a:lnTo>
                  <a:lnTo>
                    <a:pt x="92" y="327"/>
                  </a:lnTo>
                  <a:lnTo>
                    <a:pt x="126" y="283"/>
                  </a:lnTo>
                  <a:lnTo>
                    <a:pt x="156" y="238"/>
                  </a:lnTo>
                  <a:lnTo>
                    <a:pt x="184" y="192"/>
                  </a:lnTo>
                  <a:lnTo>
                    <a:pt x="209" y="144"/>
                  </a:lnTo>
                  <a:lnTo>
                    <a:pt x="234" y="97"/>
                  </a:lnTo>
                  <a:lnTo>
                    <a:pt x="256" y="48"/>
                  </a:lnTo>
                  <a:lnTo>
                    <a:pt x="279" y="0"/>
                  </a:lnTo>
                  <a:lnTo>
                    <a:pt x="285" y="5"/>
                  </a:lnTo>
                  <a:lnTo>
                    <a:pt x="291" y="15"/>
                  </a:lnTo>
                  <a:lnTo>
                    <a:pt x="295" y="23"/>
                  </a:lnTo>
                  <a:lnTo>
                    <a:pt x="302" y="31"/>
                  </a:lnTo>
                  <a:close/>
                </a:path>
              </a:pathLst>
            </a:custGeom>
            <a:solidFill>
              <a:srgbClr val="94b6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849440" y="5599080"/>
              <a:ext cx="13680" cy="20520"/>
            </a:xfrm>
            <a:custGeom>
              <a:avLst/>
              <a:gdLst/>
              <a:ahLst/>
              <a:rect l="l" t="t" r="r" b="b"/>
              <a:pathLst>
                <a:path w="18" h="25">
                  <a:moveTo>
                    <a:pt x="18" y="13"/>
                  </a:moveTo>
                  <a:lnTo>
                    <a:pt x="18" y="25"/>
                  </a:lnTo>
                  <a:lnTo>
                    <a:pt x="16" y="16"/>
                  </a:lnTo>
                  <a:lnTo>
                    <a:pt x="12" y="10"/>
                  </a:lnTo>
                  <a:lnTo>
                    <a:pt x="5" y="5"/>
                  </a:lnTo>
                  <a:lnTo>
                    <a:pt x="0" y="0"/>
                  </a:lnTo>
                  <a:lnTo>
                    <a:pt x="6" y="1"/>
                  </a:lnTo>
                  <a:lnTo>
                    <a:pt x="10" y="5"/>
                  </a:lnTo>
                  <a:lnTo>
                    <a:pt x="14" y="8"/>
                  </a:lnTo>
                  <a:lnTo>
                    <a:pt x="18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943040" y="5713560"/>
              <a:ext cx="10800" cy="16920"/>
            </a:xfrm>
            <a:custGeom>
              <a:avLst/>
              <a:gdLst/>
              <a:ahLst/>
              <a:rect l="l" t="t" r="r" b="b"/>
              <a:pathLst>
                <a:path w="14" h="21">
                  <a:moveTo>
                    <a:pt x="14" y="21"/>
                  </a:moveTo>
                  <a:lnTo>
                    <a:pt x="7" y="20"/>
                  </a:lnTo>
                  <a:lnTo>
                    <a:pt x="4" y="15"/>
                  </a:lnTo>
                  <a:lnTo>
                    <a:pt x="1" y="8"/>
                  </a:lnTo>
                  <a:lnTo>
                    <a:pt x="0" y="0"/>
                  </a:lnTo>
                  <a:lnTo>
                    <a:pt x="2" y="6"/>
                  </a:lnTo>
                  <a:lnTo>
                    <a:pt x="7" y="11"/>
                  </a:lnTo>
                  <a:lnTo>
                    <a:pt x="11" y="15"/>
                  </a:lnTo>
                  <a:lnTo>
                    <a:pt x="14" y="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earch tool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685440" y="1600200"/>
            <a:ext cx="80802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93400" indent="-2934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arch Directories – yahoo, Google directory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83280" indent="-2628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Indexed by human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arch engines – Google, Ask, MS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83280" indent="-2628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use automated spiders or crawlers to find page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Meta search engines – Search.com, Pandi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83280" indent="-2628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get results from other search engine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1" name="TextBox 3"/>
          <p:cNvSpPr/>
          <p:nvPr/>
        </p:nvSpPr>
        <p:spPr>
          <a:xfrm>
            <a:off x="838080" y="5334120"/>
            <a:ext cx="57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rce: </a:t>
            </a:r>
            <a:r>
              <a:rPr b="0" lang="en-US" sz="1800" spc="-1" strike="noStrike" u="sng">
                <a:solidFill>
                  <a:srgbClr val="f7b615"/>
                </a:solidFill>
                <a:uFillTx/>
                <a:latin typeface="Arial"/>
                <a:hlinkClick r:id="rId1"/>
              </a:rPr>
              <a:t>http://www.pandia.com/goalgetter/2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To Google or NOT to Googl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Use search directories when you are not sure about what you are seeking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Use search engines if you have a specific goa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It really doesn’t matter much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each students to use one tool efficiently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We will concentrate on Googl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Preparing your search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STEP  1:   STATE  WHAT  YOU  WANT  TO  FIND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First, in one or two sentences, state what you want to find on the Internet. 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STEP  2:   IDENTIFY  KEYWORD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Next, underline the main concepts in the statement. ? </a:t>
            </a:r>
            <a:r>
              <a:rPr b="0" lang="en-US" sz="17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STEP  3:   SELECT  SYNONYMS  AND  VARIANT WORD  FORM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List synonyms, alternate spellings, and variant word forms of each keyword.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8" name="TextBox 3"/>
          <p:cNvSpPr/>
          <p:nvPr/>
        </p:nvSpPr>
        <p:spPr>
          <a:xfrm>
            <a:off x="714600" y="6248520"/>
            <a:ext cx="616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rce: </a:t>
            </a:r>
            <a:r>
              <a:rPr b="0" lang="en-US" sz="1800" spc="-1" strike="noStrike" u="sng">
                <a:solidFill>
                  <a:srgbClr val="f7b615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f7b615"/>
                </a:solidFill>
                <a:uFillTx/>
                <a:latin typeface="Arial"/>
                <a:hlinkClick r:id="rId2"/>
              </a:rPr>
              <a:t>www.learnwebskills.com/search/prepare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6108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5f55"/>
                </a:solidFill>
                <a:latin typeface="Tw Cen MT"/>
              </a:rPr>
              <a:t>Using the Google advanced search options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612720" y="159984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Exact phrases – enclose in quotes – “I have a dream”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Excluding words – use minus operator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594720" indent="-25344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Tigers –missouri –detroit –clemson - auburn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rom a specific domain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594720" indent="-25344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admissions site:unk.edu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pecific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594720" indent="-25344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wikis filetype:ppt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ages linked to a pag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594720" indent="-25344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link:unk.edu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3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3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3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3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3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Available on the Advanced Search Page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 u="sng">
                <a:solidFill>
                  <a:srgbClr val="f7b615"/>
                </a:solidFill>
                <a:uFillTx/>
                <a:latin typeface="Tw Cen MT"/>
                <a:hlinkClick r:id="rId1"/>
              </a:rPr>
              <a:t>Google Advanced Search Page</a:t>
            </a:r>
            <a:endParaRPr b="0" lang="en-US" sz="37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Other specialized searche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:defin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alculator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The Deep Web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Only about 5% of the Web is actually indexed by Googl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e “Deep Web”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Libraries - UNK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Information behind firewalls and passwords- Nebraska Acces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Proprietary databases -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Lexis Nexi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5T21:06:29Z</dcterms:created>
  <dc:creator>messersmithk</dc:creator>
  <dc:description/>
  <dc:language>en-US</dc:language>
  <cp:lastModifiedBy>Ken Messersmithk</cp:lastModifiedBy>
  <dcterms:modified xsi:type="dcterms:W3CDTF">2007-10-29T03:09:40Z</dcterms:modified>
  <cp:revision>52</cp:revision>
  <dc:subject/>
  <dc:title>Getting what you want from the Web</dc:title>
</cp:coreProperties>
</file>