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wmf" ContentType="image/x-wmf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6B1F-64CA-4403-9C5C-29EBADEBD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July_25" TargetMode="External"/><Relationship Id="rId2" Type="http://schemas.openxmlformats.org/officeDocument/2006/relationships/hyperlink" Target="http://en.wikipedia.org/wiki/1902" TargetMode="External"/><Relationship Id="rId3" Type="http://schemas.openxmlformats.org/officeDocument/2006/relationships/hyperlink" Target="http://en.wikipedia.org/wiki/May_21" TargetMode="External"/><Relationship Id="rId4" Type="http://schemas.openxmlformats.org/officeDocument/2006/relationships/hyperlink" Target="http://en.wikipedia.org/wiki/1983" TargetMode="External"/><Relationship Id="rId5" Type="http://schemas.openxmlformats.org/officeDocument/2006/relationships/hyperlink" Target="http://en.wikipedia.org/wiki/Writer" TargetMode="External"/><Relationship Id="rId6" Type="http://schemas.openxmlformats.org/officeDocument/2006/relationships/slide" Target="../slides/slide2.xml"/><Relationship Id="rId7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68ED-515A-4C35-ABA8-C9D43B1FE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F0B1-C1FE-4471-B9BC-2C554FF7E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9308-359D-4CDD-93E7-292B1DCD2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1BAC-F365-4638-AB8A-84B3B1CD7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7437-DF40-454D-86C2-48C317AE2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wikis into the classroom provides a perfect vehicle for reinforcing or teaching students the importance of wide and reliable research, checking authors and sources, etc.  Just as podcasting and blogging provides a vehicle for instructing students in copyright and fair use guidelin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69D3-DA6B-4B29-AE00-750CA0AC0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2478-F11C-4897-A20F-1E31F1AAB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4646-FA13-4C8B-A7C7-C86890ED2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EE64-2E27-4F15-8996-0E555A24D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ikispaces.com/site/for/teachers10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66CE-7A0E-48B5-BEBE-7E4ED0AF2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5556-DA05-4AA6-9E1B-A9ECDF164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B154-536A-4307-B7FA-D1E86704C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ic Hoff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July 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19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May 2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198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was an American social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ri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He produced ten books and was awarded the Presidential Medal of Freedom in February 1983 by President of the United States Ronald Reagan. His first book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True Believ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ublished in 1951, was widely recognized as a classic, receiving critical acclaim from both scholars and laymen.  This book, which he considered his best, established his reputation. He remained a successful writer for most of his remaining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1EA0-333D-4B3A-A914-6EA93E66E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6D0E-82D4-4ED0-97B8-6A7C4EEC5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21BA-1C46-455F-BA96-07FC9031A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D528-822D-44C9-92E5-D714C3059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Not every member must contribute, but all must believe they are free to contribute when ready and that what they contribute will be appropriately valu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-In such a world, many will only dabble, some will dig deeper, and still others will master the skills that are most valued wit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the communi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-The community itself, however, provides strong incentives for creative expression and active particip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-Historically, we have valued creative writing or art classes because they help to identify and train future writers and artists, but also because the creative process is valuable on its own; every child deserves the chance to express him- or herself through words, sounds, and images, even if most will never write, perform, or draw professionall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-Having these experiences, we believe, changes the way youth think about themselves and alters the way they look at work created by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8A44-7478-4720-BC7F-51BDD5B41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BFBB-CFDA-47D9-985E-958744F19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97AF-2EA4-4DCF-B9C8-CF08B2F7F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EB12-31A2-4F2E-A12C-9F273A168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Wiki-wiki" means "hurry quick" in Hawaii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2734-CBE3-4975-A37E-05E2624D8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323-956A-4E47-BD8C-F87412AF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170D-AB64-4D65-BA32-5EAC513F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D9F9F-1A2B-4A40-AAF4-0D328231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23FED-4C30-42FA-A7E6-9D728C10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2B369-9E6C-4BB9-B49D-CF3E12F4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8F35B-C5AB-4B0F-9B29-CE45FC0C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5088F-F092-4083-940C-18773BC8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B6E75-04EC-4848-93ED-F702AD4A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331B8-96FF-4DCE-A274-AC0BD85C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6E554-EDDE-4F78-A398-9FB78D80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80A19-91DC-4CF4-8726-8B0FD51E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D07-B885-4B47-8889-9D767B64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207-CA42-418D-B9B7-B3336526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5285-A201-47DF-9F9C-66928587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F2DF-D06A-4330-AB62-4712D1FD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4A27-9C36-486F-BF48-237E2A4F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2DFC-E93C-4311-8AB2-3E82D81F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BDE8-5037-4C07-9B67-D89DE020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F7CB-13B4-447D-ACBB-B860A256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52E2-923C-466D-8701-F23617C7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0782-69E2-4DA6-A2C8-B3C1224E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3D19-A1BF-431D-93C9-D1B0FFB8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3264-CEFF-43B9-91FC-B0761553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2EEA-5EB1-44C8-B3A9-145DC998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F37A-FA9D-4B05-99C5-131417B0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8C7B-C458-4DED-B5F6-DD6369DB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443C5-F4E1-4659-BA88-C4226778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690B3-ABD1-4895-A2DA-50AC1AE8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50F84-8FDB-43FF-A16C-55C81A96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3559A-E3FE-467D-BEE2-0433B744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53632-0150-4B1B-A78D-5A6B7901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FFEA-1D3F-4811-8F0E-7C0F26BF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69367-CCA9-449D-8459-3D965CC9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2988A-2FC0-421B-BE56-1463F0E1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705BA-0D69-49B7-82EB-82E5E8D2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D102B-EB5E-4D19-B5C4-C2C6BA16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CC839-C388-4704-822C-28F8B400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0AFCB-79C4-48B8-B371-12B692B0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F9087-1FD2-4E49-8C49-B0AEBF4D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70255-B2E5-49A9-A258-8DE8F674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3C1C6-7FF2-4D24-B2AF-077A6348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AEBF7-9805-4E2D-B3F9-808D9E89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B78-5489-4AC4-AFD2-F04128BB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0314A-A080-4375-A3A7-BC606127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91179-79B9-4E3B-8F9A-7718B262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C4122-51C1-4FBD-9EA3-6CC3149A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5201C-3EEC-4CCE-A4C2-6732ADB6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8199F-5E7D-48B0-A4CA-C2ED714E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C2CD8-610A-454E-A74D-472DE063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4C80D-9547-43E9-BD7F-5A8231BB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7216F-D318-4831-B224-8BB22872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058E3-BD63-461E-A901-CA3823AD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2FEC8-2016-4910-82BF-E579395B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519B-E742-4A93-BEC1-153BB639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4A927-73B0-4D71-8FAA-C8D55ECA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723C0-692F-412E-A283-394C3355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3678C-16B6-4A0F-93B4-61EFE206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5BD3D-A104-4E19-98B7-17727CFA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70460-9E7E-4217-9927-9F2AC58C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EA6A2-EAE0-4A48-B314-8FA56006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E64A2-5F43-4F4F-8333-E78890E1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1C9EE-B6A6-4741-8A69-B59BC59A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E82AD-E997-460D-8B1B-1F9FFB2F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FEDC4-A38E-45B7-AC6A-B9FA5383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0BF0-11D8-4ACD-9A31-F4EC17AC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C1730-B02E-488F-93BA-1F381066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B9050-BC9E-4B81-A838-9C48559C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11D46-8F24-455C-9D54-3DFF3687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8DE68-0362-420F-96AD-428F0432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EC586-383B-44F1-BB11-36476672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3E9FA-793F-4F0B-A0DC-B132ECCC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E8846-0404-4C0F-B06A-2D082E75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64E47-3166-4694-B909-3C77AA89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5E3AF-158C-4C68-992B-548CD5ED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0AFFF-B6B8-4325-9B85-D3DB6912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CA2D-3926-436E-B8D5-46119441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3679F-240C-40F9-86DF-4EA9D1B6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F2F94-96D2-4F48-A7DA-1245C996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91DF8-8378-4914-B6C0-FE6EEE66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9EDD2-95AE-4F1E-B007-B75BDE38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FF1B5-ED74-4E72-BBF4-C1E58CD1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73300-49E5-448C-B84A-6D4D4573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3E0BD-A6E6-4170-B850-D5025936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7C5DB-15EC-455E-BB1D-86379659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62445-09C0-4E40-9931-86AD807C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AAFCA-FD6C-41AD-AD9C-4815D72A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64B5-3CEA-4C17-BDB8-48A9D6AE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BD838-CB25-44ED-8DA7-31FBE5CA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98E46-3FB9-426A-B8EC-F776EB68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9E99A-B705-406C-A7A0-95D35F9F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3BAB9-92D1-443E-8E39-031893CC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28101-0CFE-415B-B64E-62928423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2A641-340F-4230-B250-A773B5A4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E7494-53E2-4D0C-8C22-45146866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5413E-0B79-46DD-B463-F1AF38FF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DABFA-4EC4-47FD-B825-232B80F0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49AF5-E52A-4211-9D76-E70B1E3D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F67-98E5-40AD-B2E5-E5DA5CC0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6553B-3624-4157-8557-EAC56BED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A242F-0563-401F-B348-B116B172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4EFD9-A521-4622-9B51-F2DF0F4E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CC383-810E-4DDD-92AA-18B61482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62C47-8673-4F73-8CE7-C77E4276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A36FF-8321-4133-ADF2-A2C29EFF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2D0ED-BF17-491A-91A2-72156250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ED697-A2B2-4F41-BB04-813E2070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C0F19-AD40-408C-8F5E-1AA0D82F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9344A-09A4-429A-9E1F-FA19067C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809C-1443-48DF-AE00-6A2819B18C6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B3F6-4D5D-4ABD-9D52-58BFAFDFCDE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CB17-F244-49F7-A808-66C3338AAAD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AD58-7C83-4A62-B281-9BB7E77671C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A3AD-5CA5-4F36-99AA-B22A8F90472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EE05-FD22-449C-B6BF-1430D43246A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1F4D-323C-40F4-8225-9BEF0DE1648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8031-8A68-4251-960F-CFC12372B8D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61DC-ECAC-4CDE-B338-5F7C3EBC188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hyperlink" Target="http://discoveryeducation.typepad.com/pennsylvania/2007/02/a_more_reliable.html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hyperlink" Target="http://www.classroom20.com/group/distancecollaboration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hyperlink" Target="http://en.wikibooks.org/wiki/Main_Page" TargetMode="External"/><Relationship Id="rId4" Type="http://schemas.openxmlformats.org/officeDocument/2006/relationships/hyperlink" Target="http://en.wikipedia.org/wiki/Wiki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hyperlink" Target="http://instructech.pbwiki.com/FrontPage" TargetMode="External"/><Relationship Id="rId4" Type="http://schemas.openxmlformats.org/officeDocument/2006/relationships/hyperlink" Target="http://te886.pbwiki.com/" TargetMode="External"/><Relationship Id="rId5" Type="http://schemas.openxmlformats.org/officeDocument/2006/relationships/hyperlink" Target="https://leta-learning.wikispaces.com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hyperlink" Target="http://www.wikispaces.com/site/for/teachers100K" TargetMode="External"/><Relationship Id="rId4" Type="http://schemas.openxmlformats.org/officeDocument/2006/relationships/hyperlink" Target="http://pbwiki.com/" TargetMode="External"/><Relationship Id="rId5" Type="http://schemas.openxmlformats.org/officeDocument/2006/relationships/hyperlink" Target="http://pbwiki.com/" TargetMode="External"/><Relationship Id="rId6" Type="http://schemas.openxmlformats.org/officeDocument/2006/relationships/hyperlink" Target="http://pbwiki.com/" TargetMode="External"/><Relationship Id="rId7" Type="http://schemas.openxmlformats.org/officeDocument/2006/relationships/hyperlink" Target="http://pbwiki.com/" TargetMode="External"/><Relationship Id="rId8" Type="http://schemas.openxmlformats.org/officeDocument/2006/relationships/hyperlink" Target="http://www.wetpaint.com/" TargetMode="External"/><Relationship Id="rId9" Type="http://schemas.openxmlformats.org/officeDocument/2006/relationships/hyperlink" Target="http://www.wetpaint.com/" TargetMode="External"/><Relationship Id="rId10" Type="http://schemas.openxmlformats.org/officeDocument/2006/relationships/hyperlink" Target="http://www.wetpaint.com/" TargetMode="External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hyperlink" Target="http://www.teachersfirst.com/content/wiki/" TargetMode="External"/><Relationship Id="rId4" Type="http://schemas.openxmlformats.org/officeDocument/2006/relationships/hyperlink" Target="http://www.teachersfirst.com/content/wiki/" TargetMode="External"/><Relationship Id="rId5" Type="http://schemas.openxmlformats.org/officeDocument/2006/relationships/hyperlink" Target="http://www.teachersfirst.com/content/wiki/" TargetMode="External"/><Relationship Id="rId6" Type="http://schemas.openxmlformats.org/officeDocument/2006/relationships/hyperlink" Target="http://ikiw.org/" TargetMode="External"/><Relationship Id="rId7" Type="http://schemas.openxmlformats.org/officeDocument/2006/relationships/hyperlink" Target="http://ikiw.org/" TargetMode="External"/><Relationship Id="rId8" Type="http://schemas.openxmlformats.org/officeDocument/2006/relationships/hyperlink" Target="http://ikiw.org/" TargetMode="External"/><Relationship Id="rId9" Type="http://schemas.openxmlformats.org/officeDocument/2006/relationships/hyperlink" Target="http://www.teachinghacks.com/wiki/index.php?title=Wikis" TargetMode="External"/><Relationship Id="rId10" Type="http://schemas.openxmlformats.org/officeDocument/2006/relationships/hyperlink" Target="http://www.teachinghacks.com/wiki/index.php?title=Wikis" TargetMode="External"/><Relationship Id="rId11" Type="http://schemas.openxmlformats.org/officeDocument/2006/relationships/hyperlink" Target="http://www.teachinghacks.com/wiki/index.php?title=Wikis" TargetMode="External"/><Relationship Id="rId12" Type="http://schemas.openxmlformats.org/officeDocument/2006/relationships/hyperlink" Target="http://www.teachinghacks.com/wiki/index.php?title=Wikis" TargetMode="External"/><Relationship Id="rId13" Type="http://schemas.openxmlformats.org/officeDocument/2006/relationships/hyperlink" Target="http://dorman-data-digest.wikispaces.com/" TargetMode="External"/><Relationship Id="rId14" Type="http://schemas.openxmlformats.org/officeDocument/2006/relationships/hyperlink" Target="http://dorman-data-digest.wikispaces.com/" TargetMode="External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hyperlink" Target="http://jdorman.wikispaces.com/+Wikis" TargetMode="External"/><Relationship Id="rId4" Type="http://schemas.openxmlformats.org/officeDocument/2006/relationships/hyperlink" Target="http://jdorman.wikispaces.com/+Wikis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2"/>
          <a:stretch/>
        </p:blipFill>
        <p:spPr>
          <a:xfrm>
            <a:off x="-6480" y="804960"/>
            <a:ext cx="9156960" cy="27972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43329"/>
                </a:solidFill>
                <a:latin typeface="Franklin Gothic Book"/>
              </a:rPr>
              <a:t>Ken Messersmith – Tommy Hanse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43329"/>
                </a:solidFill>
                <a:latin typeface="Franklin Gothic Book"/>
              </a:rPr>
              <a:t>University of Nebraska @ Kearne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85920" y="1676520"/>
            <a:ext cx="83721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asy to correct mistakes, rather than making it difficult to make them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9" name="Picture 4" descr=""/>
          <p:cNvPicPr/>
          <p:nvPr/>
        </p:nvPicPr>
        <p:blipFill>
          <a:blip r:embed="rId3"/>
          <a:stretch/>
        </p:blipFill>
        <p:spPr>
          <a:xfrm>
            <a:off x="3124080" y="3962520"/>
            <a:ext cx="2438640" cy="74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32013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85920" y="1676520"/>
            <a:ext cx="83721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ile wikis are very open, they provide a means to verify the validity of recent additions to the body of pag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clude a "Recent Changes" page—a specific list numbering recent edits, or a list of all the edits made within a given timeframe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85560" y="1676520"/>
            <a:ext cx="85294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ikipedia is as reliable as other external sources we rely on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roperly written articles cite the sources, and a reader should rely on the Wikipedia article as much, but no more, than the sources the article relies on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f an article doesn't cite its sources, it may or may not be reliable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More Reliable Wikipedia?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discoveryeducation.typepad.com/pennsylvania/2007/02/a_more_reliable.html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tudent projects involving students who contribute at different times and from geographically diverse locations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llaborating on ideas and organizing documents and resources from individuals and groups of students. 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(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link to people who want to collaborate</a:t>
            </a:r>
            <a:r>
              <a:rPr b="0" lang="en-US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valuation tool where students critically analyze a partner student’s work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group research project for a specific idea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anage school and classroom documents.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(some features of Blackboard, Angel, etc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://www.teachinghacks.com/wiki/index.php?title=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collaborative worksheet for students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riting: student created books and journaling. (i.e. </a:t>
            </a: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Wikibooks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)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reate and maintain a classroom FAQ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classroom discussion and debate area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dd a topic on </a:t>
            </a: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Wikipedia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, have students verify the facts using their information literacy skills, and make changes accordingly (Citing sources)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://www.teachinghacks.com/wiki/index.php?title=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Instructech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site on student motiv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Teaching tool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sit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LETA-Learning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site for this confere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ikispaces - </a:t>
            </a:r>
            <a:r>
              <a:rPr b="0" lang="en-US" sz="20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www.wikispaces.com/site/for/teachers100K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bwiki – 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http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://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pbwiki.com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7"/>
              </a:rPr>
              <a:t>/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etpaint - 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8"/>
              </a:rPr>
              <a:t>http://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9"/>
              </a:rPr>
              <a:t>www.wetpaint.com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10"/>
              </a:rPr>
              <a:t>/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2"/>
          <a:stretch/>
        </p:blipFill>
        <p:spPr>
          <a:xfrm>
            <a:off x="396720" y="469800"/>
            <a:ext cx="8114040" cy="516888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914400" y="54100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644e"/>
                </a:solidFill>
                <a:latin typeface="Franklin Gothic Book"/>
              </a:rPr>
              <a:t>Alvin Toffler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iki Walk-Through 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www.teachersfirst.com/content/wiki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/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hat’s a wiki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ho uses wikis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ikis or blogs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How to use wikis with students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deas for activities, projects, collaborations, etc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ing wikis in Education (blog) 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http://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7"/>
              </a:rPr>
              <a:t>ikiw.org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8"/>
              </a:rPr>
              <a:t>/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lassroom use of wikis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9"/>
              </a:rPr>
              <a:t>http://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0"/>
              </a:rPr>
              <a:t>www.teachinghacks.com/wiki/index.php?title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1"/>
              </a:rPr>
              <a:t>=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2"/>
              </a:rPr>
              <a:t>Wikis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3"/>
              </a:rPr>
              <a:t>http://dorman-data-digest.wikispaces.com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4"/>
              </a:rPr>
              <a:t>/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2"/>
          <a:stretch/>
        </p:blipFill>
        <p:spPr>
          <a:xfrm>
            <a:off x="334800" y="1047600"/>
            <a:ext cx="8358480" cy="40672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43329"/>
                </a:solidFill>
                <a:latin typeface="Franklin Gothic Book"/>
              </a:rPr>
              <a:t>Eric Hoff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e borrowed heavily from Jennifer Dorman’s extensive presentation on the Participatory Culture. Her materials are available at: 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jdorman.wikispaces.com/+Wiki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This presentation available at: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The LETA-Learning Wiki at: </a:t>
            </a: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http://leta-learning.wikispaces.com/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tact information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Ken Messersmith – messersmithk@unk.edu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ommy Hansen – hansent@unk.edu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4e3b30"/>
                </a:solidFill>
                <a:latin typeface="Franklin Gothic Book"/>
              </a:rPr>
              <a:t>Questions?</a:t>
            </a:r>
            <a:endParaRPr b="0" lang="en-US" sz="11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6" name="Picture 9" descr="MCj01345670000[1]"/>
          <p:cNvPicPr/>
          <p:nvPr/>
        </p:nvPicPr>
        <p:blipFill>
          <a:blip r:embed="rId2"/>
          <a:stretch/>
        </p:blipFill>
        <p:spPr>
          <a:xfrm rot="21005400">
            <a:off x="6361200" y="1941120"/>
            <a:ext cx="2495520" cy="355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We are preparing our students for a future we cannot describe.”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lan November – NETA keynote 2007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762120" y="396252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What are the 21st century skills our students need to survive and thr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ccording to a recent study from the Pew Internet &amp; American Life project (Lenhardt &amp; Madden, 2005), more than one-half of all teens have created media content, and roughly one-third of teens who use the Internet have shared content they produced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-43920" y="6553080"/>
            <a:ext cx="93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nfronting the Challenges of Participatory Culture: Media Education for the 21st Century - Henry Jenkins 10/19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"this may be the birth of a new era, perhaps even a golden one, on par with the Italian renaissance, or the rise of Athenian democracy“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  <a:ea typeface="Times New Roman"/>
              </a:rPr>
              <a:t>Don Tapscott . Wikinomics: How Mass Collaboration Changes Everything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-360" y="15541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dividual expression → community involve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new literacies almost all involve social skills developed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rough collaboration and networking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uilt on traditional literacy, research skills, technical skills, and critical analysis skills taught in the classroom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-43920" y="6553080"/>
            <a:ext cx="93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nfronting the Challenges of Participatory Culture: Media Education for the 21st Century - Henry Jenkins 10/19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e3b30"/>
                </a:solidFill>
                <a:latin typeface="Franklin Gothic Book"/>
              </a:rPr>
              <a:t>This presentation is about a Web 2.0 tool designed to facilitate collaborative work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85920" y="1676520"/>
            <a:ext cx="83721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wiki means "quick" in Hawaiia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ll about quickly linking your information together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 free on-line writing space that allows users to add, modify and update its page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f something is missing or incorrect, you can easily add your thoughts or make changes to the wiki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t is essentially a fully editable web site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p9254B"/>
          <p:cNvPicPr/>
          <p:nvPr/>
        </p:nvPicPr>
        <p:blipFill>
          <a:blip r:embed="rId3"/>
          <a:stretch/>
        </p:blipFill>
        <p:spPr>
          <a:xfrm>
            <a:off x="685800" y="182880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4502"/>
          <p:cNvPicPr/>
          <p:nvPr/>
        </p:nvPicPr>
        <p:blipFill>
          <a:blip r:embed="rId4"/>
          <a:stretch/>
        </p:blipFill>
        <p:spPr>
          <a:xfrm>
            <a:off x="5257800" y="18288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13:25:27Z</dcterms:created>
  <dc:creator>JDORMAN</dc:creator>
  <dc:description/>
  <dc:language>en-US</dc:language>
  <cp:lastModifiedBy>Ken Messersmithk</cp:lastModifiedBy>
  <dcterms:modified xsi:type="dcterms:W3CDTF">2007-10-29T03:01:44Z</dcterms:modified>
  <cp:revision>92</cp:revision>
  <dc:subject/>
  <dc:title>Teaching for Rigor and Relev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3</vt:lpwstr>
  </property>
</Properties>
</file>