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A51-458E-472E-AA9F-532688F4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uly_25" TargetMode="External"/><Relationship Id="rId2" Type="http://schemas.openxmlformats.org/officeDocument/2006/relationships/hyperlink" Target="http://en.wikipedia.org/wiki/1902" TargetMode="External"/><Relationship Id="rId3" Type="http://schemas.openxmlformats.org/officeDocument/2006/relationships/hyperlink" Target="http://en.wikipedia.org/wiki/May_21" TargetMode="External"/><Relationship Id="rId4" Type="http://schemas.openxmlformats.org/officeDocument/2006/relationships/hyperlink" Target="http://en.wikipedia.org/wiki/1983" TargetMode="External"/><Relationship Id="rId5" Type="http://schemas.openxmlformats.org/officeDocument/2006/relationships/hyperlink" Target="http://en.wikipedia.org/wiki/Writer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6B9B-BCC6-42F4-9CCC-5C3E111E3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B318-AED2-4A38-92D5-4FD0E1B41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3B40-8F5E-479C-8FE4-10D2966FA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346E-7880-4575-8C82-86C5AAC32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C43-7AF4-463B-A55E-05EAD962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wikis into the classroom provides a perfect vehicle for reinforcing or teaching students the importance of wide and reliable research, checking authors and sources, etc.  Just as podcasting and blogging provides a vehicle for instructing students in copyright and fair use guidel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A5F3-34D9-486F-8B30-A8A196FC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7BBA-2136-43C6-92BC-E3D1DA21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6749-838D-4602-831A-CD6CAAC20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AE69-2DC1-49A7-890A-784EF0E9E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spaces.com/site/for/teachers10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ED30-C162-41AA-B771-9ED9C7BA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08B4-D652-4CAC-8A97-1C9FE046D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BC5-A9AA-4383-8152-5EBFE7D72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 Hof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uly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y 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 an American socia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ri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 produced ten books and was awarded the Presidential Medal of Freedom in February 1983 by President of the United States Ronald Reagan. His first boo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True Belie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ublished in 1951, was widely recognized as a classic, receiving critical acclaim from both scholars and laymen.  This book, which he considered his best, established his reputation. He remained a successful writer for most of his remaining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EEE9-2FC5-43F0-9EC4-9EEB2A2FC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2F67-3417-409D-9B93-E2F4154F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462D-FF18-4BEC-9E25-373E60852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9C10-5F0E-431C-A522-BBF418634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Not every member must contribute, but all must believe they are free to contribute when ready and that what they contribute will be appropriately val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In such a world, many will only dabble, some will dig deeper, and still others will master the skills that are most valued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the commun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The community itself, however, provides strong incentives for creative expression and active particip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istorically, we have valued creative writing or art classes because they help to identify and train future writers and artists, but also because the creative process is valuable on its own; every child deserves the chance to express him- or herself through words, sounds, and images, even if most will never write, perform, or draw profession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aving these experiences, we believe, changes the way youth think about themselves and alters the way they look at work created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E984-2722-49D2-B3DC-2CAF0EF8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5C90-CA27-4E17-BE58-9BFBCB365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470-3E2D-40D0-80F0-634B1626B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D872-6B52-4D18-96B7-111435D6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iki-wiki" means "hurry quick" in Hawai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8255-B68B-44A2-A22E-29771E76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79E-01DC-4DFD-A898-C636EFBE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C958-2EA7-49A7-8355-AD9AF7C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ACA82-C5AE-4121-B181-1E6182E4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6B4EB-8F23-4E7F-949F-28DC64DE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066E8-C633-4F45-8DC0-F6C944CD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F4E70-D44A-4AB1-91B5-B8FF75FC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9FB44-57CC-485C-9015-823FDB56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4BEA8-1809-4C21-8D48-43171D6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FEE28-ED1E-446E-B737-1FBF13DD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FFA7E-B740-4D86-A02A-2023A4FB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5FAB4-39EF-4EC8-9715-7657F9D0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A790-48D9-4B76-9289-4A5AC9ED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518-14E5-4413-8F59-588AF59A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DE3B-1869-4879-9BC2-1142F750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033E-2FFC-4CF1-A7B3-C4AD6E6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9E16-121D-4F4F-A76B-683129B2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311B-36EB-4CF7-87DA-B78FA5C5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7ECE-E0B1-42D9-9B08-0E7FD0B6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6E3-B4B9-4666-BADA-E034AB6D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AE84-790C-4335-A766-B99F11B0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BC50-18CC-44EB-B9A1-BA0B0D4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97FE-A7A9-4918-AADA-354EE2DC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74F-4901-4C5C-B591-9C72C61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2EC5-1CC4-4776-905B-18C85073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9738-EC34-45DA-87A0-553D3B0C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8368-DAE9-4C91-A2AD-C27D6383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E4919-1FD9-4ECE-910A-CD9691B0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6ED9-A38A-487D-992A-4D735D2B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BEA7-2491-41D2-B7D7-15EC641D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4E712-F1CE-431A-9088-2E2E5DE7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09F1-EAB4-4E2C-AFC9-9D29F54F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859-969A-42AC-BB92-8E4E298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CA43-A68E-476D-937B-09F5D8FD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8E23-0312-4571-A8B1-6EDD84A0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BDFE-0DB6-4565-B235-8876358D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90A45-ED2D-4E72-8609-5523DF3C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76AEF-DB2E-4644-A746-89E8C837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CB431-639F-47A3-A208-59AA881A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207D-54CD-438D-8ACA-71780186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2189-D308-4C5E-8CF8-049BC27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820F-1C7D-431C-B3F2-62A9AFB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241F4-7D22-435A-AFE5-02ECF69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D3F-1ECB-4D22-981B-72FC90B4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9486-9313-4540-8545-5356EFC7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10BD-CA0F-4759-8D40-DCCF4B9D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9F30-DAF3-4362-89AE-6674CAB4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8C28-00B4-4C05-8FA3-845A1A7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4C8D-E42C-4DDE-AE07-E8DEEA1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2C816-07BD-4C33-80BC-E33EC37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89FC-4C71-47B7-BA46-D1F59111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3D6A-B599-4AF3-8409-DF0DC1B4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68D5-34C0-4FDD-B083-1DAF3527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C8688-3CCC-4734-818E-E223BD2C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112-CE23-4601-ADD8-7FC3465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7D061-72AB-42CA-B099-E33FA2DC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2E9E-922A-413C-8FC2-B42B5662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FBA5C-A250-4825-A67E-6004107D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89D0-BE5A-4DFE-9FE2-658233C2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6010-5FB1-44E2-B80E-6020C8BF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B0F57-5AD2-4850-964D-E7B32ECE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DBA2-3AB2-457D-89CE-7B7A319A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939EE-1670-41B0-957F-91541962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C6E0E-8684-4C9D-8440-AAF760C8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439DA-6610-48E0-AC98-B765F7E1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84A-703A-4AB7-A6D9-6C953D74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0B74-EE9A-4C97-8A4D-0B5253BB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C736-DDCA-4F64-A684-E56D6E03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0BEC-018F-41D6-962C-EE6A44FD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08C14-D50D-4582-AB39-C4F151DB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7B9F6-2B85-4E25-B853-243564B9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1A2ED-B912-42A8-BC23-48472E9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6DF1-F282-4184-89D2-2773922D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7422D-A97F-4BD8-B793-C7998CFC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6DF54-C17D-4130-965C-784B2FF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02C0A-D517-4947-85B1-7096C5CD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8DE4-8406-4ADD-A450-0E9BFB5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4A574-229D-4DDE-AD7F-6968BB42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77089-F7F8-4B40-BD7D-4B958C44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7E974-CCEB-4A8B-AA40-8C8B116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5C2EB-D9D6-43C1-9017-0BA71C3A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7CA10-523C-4DE8-B38F-67DB02C4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7D655-FAD5-46F9-93F4-03D4C62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509A4-0D4D-472E-B3B7-FAC261A9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8A175-8559-4F08-A99D-CAC81632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C1806-36C3-4CDA-A711-F2335CFE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749E5-981C-4F01-8589-6914E546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DEB-7707-42AD-9E46-CA60E960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2EE7F-5EAC-4E9E-A22C-76E5ACEE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6FEF-10E7-44FB-843A-4022FF4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6FD1-2E00-48C0-A96C-DB002490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D4435-A53D-4FFD-A32C-F80100E3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E02E3-3170-4324-9E83-8440F0B0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F735-4DB5-440E-A385-C51550B4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8EF3C-6EDF-43B8-BA2E-75D48441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B2ECC-6228-4BBF-AC23-F52EE7A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D2409-E69A-4227-98DA-C7438A17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D9EFD-173C-4C4E-80CA-8CF74937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DB2-8F77-4C1D-ADE2-FF86FA74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35669-A662-472A-9963-D3C42C19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62AF6-1A60-43C6-8823-AFAD8A3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31BE3-8898-4A9A-B031-67121AE0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52FB7-40BA-4778-8A6C-39139267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171E1-3E52-4B6A-AE3D-E91F9AA8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A927F-9FDE-460A-AA66-E5095543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98642-A3C3-4C14-ADC5-686ED641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A1F35-34E7-4847-8219-5D9259A1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AFB90-C883-4891-A2C8-CCE734BE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40E73-78F9-4395-9EEC-10C13E25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33B0-7E6D-481A-9F31-35A9B7DFC7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242D-DC12-43FE-AA5B-6A9BD97F412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A276-1211-4EBF-A5AB-90EE407B14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C742-B6E3-42C7-804E-68E51B2C24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AA42-CE1A-40FC-B592-E21EE906379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5BC3-CBBA-42B2-B652-9C319901F1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458-3AA8-4790-9018-1DD3DC8C6F2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8503-11A4-488B-AA1D-E1D5698A612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05BA-F4EE-483C-93D5-77083D8E493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discoveryeducation.typepad.com/pennsylvania/2007/02/a_more_reliable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classroom20.com/group/distancecollaboration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en.wikibooks.org/wiki/Main_Page" TargetMode="External"/><Relationship Id="rId4" Type="http://schemas.openxmlformats.org/officeDocument/2006/relationships/hyperlink" Target="http://en.wikipedia.org/wiki/Wiki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instructech.pbwiki.com/FrontPage" TargetMode="External"/><Relationship Id="rId4" Type="http://schemas.openxmlformats.org/officeDocument/2006/relationships/hyperlink" Target="http://te886.pbwiki.com/" TargetMode="External"/><Relationship Id="rId5" Type="http://schemas.openxmlformats.org/officeDocument/2006/relationships/hyperlink" Target="https://leta-learning.wikispaces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iki.com/" TargetMode="External"/><Relationship Id="rId5" Type="http://schemas.openxmlformats.org/officeDocument/2006/relationships/hyperlink" Target="http://pbwiki.com/" TargetMode="External"/><Relationship Id="rId6" Type="http://schemas.openxmlformats.org/officeDocument/2006/relationships/hyperlink" Target="http://pbwiki.com/" TargetMode="External"/><Relationship Id="rId7" Type="http://schemas.openxmlformats.org/officeDocument/2006/relationships/hyperlink" Target="http://pbwiki.com/" TargetMode="External"/><Relationship Id="rId8" Type="http://schemas.openxmlformats.org/officeDocument/2006/relationships/hyperlink" Target="http://www.wetpaint.com/" TargetMode="External"/><Relationship Id="rId9" Type="http://schemas.openxmlformats.org/officeDocument/2006/relationships/hyperlink" Target="http://www.wetpaint.com/" TargetMode="External"/><Relationship Id="rId10" Type="http://schemas.openxmlformats.org/officeDocument/2006/relationships/hyperlink" Target="http://www.wetpaint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www.teachersfirst.com/content/wiki/" TargetMode="External"/><Relationship Id="rId4" Type="http://schemas.openxmlformats.org/officeDocument/2006/relationships/hyperlink" Target="http://www.teachersfirst.com/content/wiki/" TargetMode="External"/><Relationship Id="rId5" Type="http://schemas.openxmlformats.org/officeDocument/2006/relationships/hyperlink" Target="http://www.teachersfirst.com/content/wiki/" TargetMode="External"/><Relationship Id="rId6" Type="http://schemas.openxmlformats.org/officeDocument/2006/relationships/hyperlink" Target="http://ikiw.org/" TargetMode="External"/><Relationship Id="rId7" Type="http://schemas.openxmlformats.org/officeDocument/2006/relationships/hyperlink" Target="http://ikiw.org/" TargetMode="External"/><Relationship Id="rId8" Type="http://schemas.openxmlformats.org/officeDocument/2006/relationships/hyperlink" Target="http://ikiw.org/" TargetMode="External"/><Relationship Id="rId9" Type="http://schemas.openxmlformats.org/officeDocument/2006/relationships/hyperlink" Target="http://www.teachinghacks.com/wiki/index.php?title=Wikis" TargetMode="External"/><Relationship Id="rId10" Type="http://schemas.openxmlformats.org/officeDocument/2006/relationships/hyperlink" Target="http://www.teachinghacks.com/wiki/index.php?title=Wikis" TargetMode="External"/><Relationship Id="rId11" Type="http://schemas.openxmlformats.org/officeDocument/2006/relationships/hyperlink" Target="http://www.teachinghacks.com/wiki/index.php?title=Wikis" TargetMode="External"/><Relationship Id="rId12" Type="http://schemas.openxmlformats.org/officeDocument/2006/relationships/hyperlink" Target="http://www.teachinghacks.com/wiki/index.php?title=Wikis" TargetMode="External"/><Relationship Id="rId13" Type="http://schemas.openxmlformats.org/officeDocument/2006/relationships/hyperlink" Target="http://dorman-data-digest.wikispaces.com/" TargetMode="External"/><Relationship Id="rId14" Type="http://schemas.openxmlformats.org/officeDocument/2006/relationships/hyperlink" Target="http://dorman-data-digest.wikispaces.com/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http://jdorman.wikispaces.com/+Wikis" TargetMode="External"/><Relationship Id="rId4" Type="http://schemas.openxmlformats.org/officeDocument/2006/relationships/hyperlink" Target="http://jdorman.wikispaces.com/+Wikis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-6480" y="804960"/>
            <a:ext cx="9156960" cy="2797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Ken Messersmith – Tommy Hans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University of Nebraska @ Kearne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sy to correct mistakes, rather than making it difficult to make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438640" cy="74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201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le wikis are very open, they provide a means to verify the validity of recent additions to the body of pag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 a "Recent Changes" page—a specific list numbering recent edits, or a list of all the edits made within a given timefram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5560" y="1676520"/>
            <a:ext cx="852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pedia is as reliable as other external sources we rely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perly written articles cite the sources, and a reader should rely on the Wikipedia article as much, but no more, than the sources the article relies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 article doesn't cite its sources, it may or may not be reliable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More Reliable Wikipedia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discoveryeducation.typepad.com/pennsylvania/2007/02/a_more_reliable.html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udent projects involving students who contribute at different times and from geographically diverse location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llaborating on ideas and organizing documents and resources from individuals and groups of students.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link to people who want to collaborate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ion tool where students critically analyze a partner student’s work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oup research project for a specific id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school and classroom documents.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some features of Blackboard, Angel, et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ollaborative worksheet for student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ing: student created books and journaling. (i.e.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ikibook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and maintain a classroom FAQ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lassroom discussion and debate ar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 a topic on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ikipedia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have students verify the facts using their information literacy skills, and make changes accordingly (Citing sources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structec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on student motiv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Teaching tool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LETA-Learning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for this confer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kispaces -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wikispaces.com/site/for/teachers100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bwiki –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pbwiki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tpaint -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wetpaint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2"/>
          <a:stretch/>
        </p:blipFill>
        <p:spPr>
          <a:xfrm>
            <a:off x="396720" y="469800"/>
            <a:ext cx="8114040" cy="5168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644e"/>
                </a:solidFill>
                <a:latin typeface="Franklin Gothic Book"/>
              </a:rPr>
              <a:t>Alvin Toffl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 Walk-Through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teachersfirst.com/content/wiki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’s a wiki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uses wiki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kis or blog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to use wikis with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deas for activities, projects, collaborations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ing wikis in Education (blog)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ikiw.org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ssroom use of wiki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www.teachinghacks.com/wiki/index.php?title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=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Wiki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http://dorman-data-digest.wikispaces.com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2"/>
          <a:stretch/>
        </p:blipFill>
        <p:spPr>
          <a:xfrm>
            <a:off x="334800" y="1047600"/>
            <a:ext cx="8358480" cy="4067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43329"/>
                </a:solidFill>
                <a:latin typeface="Franklin Gothic Book"/>
              </a:rPr>
              <a:t>Eric Hoff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borrowed heavily from Jennifer Dorman’s extensive presentation on the Participatory Culture. Her materials are available at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jdorman.wikispaces.com/+Wik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is presentation available at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 LETA-Learning Wiki at: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http://leta-learning.wikispaces.com/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ct informa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n Messersmith – messersmithk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mmy Hansen – hansent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4e3b30"/>
                </a:solidFill>
                <a:latin typeface="Franklin Gothic Book"/>
              </a:rPr>
              <a:t>Questions?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9" descr="MCj01345670000[1]"/>
          <p:cNvPicPr/>
          <p:nvPr/>
        </p:nvPicPr>
        <p:blipFill>
          <a:blip r:embed="rId2"/>
          <a:stretch/>
        </p:blipFill>
        <p:spPr>
          <a:xfrm rot="21005400">
            <a:off x="6361200" y="1941120"/>
            <a:ext cx="2495520" cy="355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e are preparing our students for a future we cannot describe.”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lan November – NETA keynote 200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62120" y="39625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hat are the 21st century skills our students need to survive and thr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ording to a recent study from the Pew Internet &amp; American Life project (Lenhardt &amp; Madden, 2005), more than one-half of all teens have created media content, and roughly one-third of teens who use the Internet have shared content they produc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"this may be the birth of a new era, perhaps even a golden one, on par with the Italian renaissance, or the rise of Athenian democracy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on Tapscott . Wikinomics: How Mass Collaboration Changes Everything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dividual expression → community involv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new literacies almost all involve social skills developed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rough collaboration and network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t on traditional literacy, research skills, technical skills, and critical analysis skills taught in the classro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This presentation is about a Web 2.0 tool designed to facilitate collaborative work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ki means "quick" in Hawaiia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ll about quickly linking your information togethe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free on-line writing space that allows users to add, modify and update its page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something is missing or incorrect, you can easily add your thoughts or make changes to the wik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essentially a fully editable web sit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p9254B"/>
          <p:cNvPicPr/>
          <p:nvPr/>
        </p:nvPicPr>
        <p:blipFill>
          <a:blip r:embed="rId3"/>
          <a:stretch/>
        </p:blipFill>
        <p:spPr>
          <a:xfrm>
            <a:off x="685800" y="1828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4502"/>
          <p:cNvPicPr/>
          <p:nvPr/>
        </p:nvPicPr>
        <p:blipFill>
          <a:blip r:embed="rId4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25:27Z</dcterms:created>
  <dc:creator>JDORMAN</dc:creator>
  <dc:description/>
  <dc:language>en-US</dc:language>
  <cp:lastModifiedBy>Ken Messersmithk</cp:lastModifiedBy>
  <dcterms:modified xsi:type="dcterms:W3CDTF">2007-10-29T03:01:44Z</dcterms:modified>
  <cp:revision>92</cp:revision>
  <dc:subject/>
  <dc:title>Teaching for Rigor and Relev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