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wmf" ContentType="image/x-wmf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D57F-AE5B-437F-ABCC-E805835F8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July_25" TargetMode="External"/><Relationship Id="rId2" Type="http://schemas.openxmlformats.org/officeDocument/2006/relationships/hyperlink" Target="http://en.wikipedia.org/wiki/1902" TargetMode="External"/><Relationship Id="rId3" Type="http://schemas.openxmlformats.org/officeDocument/2006/relationships/hyperlink" Target="http://en.wikipedia.org/wiki/May_21" TargetMode="External"/><Relationship Id="rId4" Type="http://schemas.openxmlformats.org/officeDocument/2006/relationships/hyperlink" Target="http://en.wikipedia.org/wiki/1983" TargetMode="External"/><Relationship Id="rId5" Type="http://schemas.openxmlformats.org/officeDocument/2006/relationships/hyperlink" Target="http://en.wikipedia.org/wiki/Writer" TargetMode="External"/><Relationship Id="rId6" Type="http://schemas.openxmlformats.org/officeDocument/2006/relationships/slide" Target="../slides/slide2.xml"/><Relationship Id="rId7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75D8-3773-4256-8820-636DA57CA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FA97-4394-4577-B7E2-DC8E7F2EF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6A2A-ABBA-4002-AE02-0C46DD016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7951-2E4A-4A76-B8DE-79730D9E6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0149-A0E2-4D6F-9E20-589657F21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wikis into the classroom provides a perfect vehicle for reinforcing or teaching students the importance of wide and reliable research, checking authors and sources, etc.  Just as podcasting and blogging provides a vehicle for instructing students in copyright and fair use guidelin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0FDD-B592-4832-AC9F-ED688AC64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132E-D5A1-4BF3-AAF8-1511C64BC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DD21-CA31-4BA6-8C65-87657AFB5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E256-2F3D-491C-BE10-B11953A2A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ikispaces.com/site/for/teachers10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39E0-C978-4856-BEAD-EDB01A679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7365-8C29-4528-9936-CE9002475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F7F0-F02E-4F56-A1A5-685FDA147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ic Hoff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July 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190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May 2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198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was an American social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wri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He produced ten books and was awarded the Presidential Medal of Freedom in February 1983 by President of the United States Ronald Reagan. His first book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True Believ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ublished in 1951, was widely recognized as a classic, receiving critical acclaim from both scholars and laymen.  This book, which he considered his best, established his reputation. He remained a successful writer for most of his remaining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B007-09FA-4948-B994-00440201A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854B-7610-4039-8365-FEB08DF51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2749-BA07-4FDD-997C-4E7B350E7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D82D-9251-402A-9C59-234F5C258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Not every member must contribute, but all must believe they are free to contribute when ready and that what they contribute will be appropriately valu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-In such a world, many will only dabble, some will dig deeper, and still others will master the skills that are most valued with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the communit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-The community itself, however, provides strong incentives for creative expression and active particip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-Historically, we have valued creative writing or art classes because they help to identify and train future writers and artists, but also because the creative process is valuable on its own; every child deserves the chance to express him- or herself through words, sounds, and images, even if most will never write, perform, or draw professionall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-Having these experiences, we believe, changes the way youth think about themselves and alters the way they look at work created by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BE0D-B4BF-4D3E-BD25-F38EB42F0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4C52-FBB3-4000-9D02-BB6463B6D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15E6-51B5-4DB4-9943-3F9469FFB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CFB7-F640-484D-B044-6431352CB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Wiki-wiki" means "hurry quick" in Hawaii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BF7A-A587-4403-967F-AD2DA213E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3168-6808-4C50-98FF-EB73E033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5197-1F0C-4712-95BA-F6484B7B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E682C-1FC7-4A51-B833-04A2AC0A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49AE5-DABB-4A57-8EB0-50ACCDC5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3D5B8-829F-4DC8-993A-2CC426F7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9B8E4-07A0-4F20-A0D1-0343865F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4C35E-5FD9-4774-8BCB-1D52EBF7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4AAAC-80B3-4549-B8F0-CBDEE238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0305B-56BC-4E91-85C9-34441AA8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08FD6-5C45-4263-8D77-3F4F0EB7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B5C19-7137-443E-B214-F595E147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39BB-3A7B-4F75-A59D-82F32B84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E4CF-F210-49BC-9A17-9440FF47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B3F8-6F5D-44FB-B8AA-25915C0C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F526-5FE6-40D3-9A51-064D6C76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9444-972B-4BFE-8A22-605483F9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5333-D45D-46C6-8B13-E36E3B50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8A2D-B654-45F7-9CA9-E20D9BA2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85EB-8A92-49AB-AE90-43D7E186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37CD-AFEA-4072-9B5C-7B2BAC8E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6011-1D97-481F-BF02-940EACE2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A375-5CB6-46F9-AEF0-84E1CD5F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A41B-02F3-47A2-A264-303CD9CE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6D37-3F6A-4A3C-98C8-FE1A4DE2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B466-72E7-4838-8AC7-40F15D49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BB55-B357-42DD-98AC-5C0787EB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8B77B-5011-48FE-8F76-C151323B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1ABF7-4C5A-490A-B887-4F11F774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0A3AB-5840-4828-8246-D28992DA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FB9F5-CEEA-4E2D-BDE2-B7FF57C4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147FD-A438-49FE-908B-4040A11E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24BB-62C9-4485-B244-FDB7074B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DAA80-0DC6-43D3-A91F-A10662F2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C4B6F-7A3D-4FF7-82C4-844FD9F9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B5D1B-B4A1-4ABD-ABB0-F2DD888B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C8BAC-94A0-4C22-886B-51E78016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FFF98-1D55-4272-BA0A-B3398660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EF426-ECE6-49EF-A2A1-66B7D3EA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785D9-3576-47DE-81BA-3E0D2329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55277-0A6C-49DA-AF57-0FBBB814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2D08F-6ECC-48AD-A1FB-97F27CFE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CE3D4-F77E-48F5-BDB7-E77F45B3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E2B0-11CA-432F-A585-F868D2A0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C3C55-0AC2-4EAD-80D6-B4FD9E70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26583-4437-4AE0-990F-FDBC1BFF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E6555-4348-43F4-BFD0-9ABB7FEF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75F2A-9C14-4C78-B8AC-C310C120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40DFE-AB12-4F2F-8BF8-78FA8E0B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F0B56-DFDD-4373-9311-96663E85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19226-5F0C-40C5-B4B3-80384DB8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953FA-6B7A-4638-9E8D-E829857E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2228E-BCA0-496A-8604-2256B0A8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28E8F-E64A-4354-B6DC-8886356E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A83E-352D-465A-B181-14B90BCB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8ED44-1DD0-4D88-A88E-A19D940A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48208-0B61-42A6-88B6-7410C45D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8FDF0-9249-4279-B5F8-DBB45709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DA040-9082-4FFF-88DF-32DAE0DF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5F9C1-9AA1-4A72-AAB3-4276882C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017BD-C866-4A3D-942A-A04C4842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232A4-A1D7-40C5-9D97-4998533C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0AB07-73DA-4630-B492-B31C3162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9D205-CF3C-4551-BC86-624CAFC9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69DDC-4113-4033-92EE-78237555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5D12-1A85-409B-AA1C-6937D9ED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D1B52-3203-4451-AEA7-52F91BA1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84184-A577-4302-BEAB-1A8C493F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EDB50-3F5E-40FE-A8D8-CFB7353C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E9C55-13A9-40EF-9B97-4AC00C14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21534-B5FB-4E73-AD6C-A3EE13F9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C1C64-2A5B-4BAE-9510-DD77DD31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1D848-559D-4DB2-9DD5-04945504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6B606-01E6-4CBE-B277-2BD5B29E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4BC60-3D53-4108-AB68-AF5729A7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3916B-C218-45E7-B879-43CDE201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AF10-AA5F-472F-BB78-59465539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3FCE8-241F-41FB-983E-F3537CE2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DD1A5-2984-48D0-963E-3A756CF0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EA6CD-4D76-48DF-AE60-72C01DA3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263B0-79AA-4AD0-B9F0-70094BAC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812ED-6A29-4918-9155-D25FBDE9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C5434-53E9-4213-A971-8CC83437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E277D-D7CF-41B2-AD9E-B591E094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05DD4-259B-41FD-BCB9-F5059FF9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3A19B-4A0C-4159-81AA-D59B9F09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EF109-0FF9-49F5-8147-F80C5C95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17A6-D5DC-4271-BF5D-2C7F7E9D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C1060-4063-4659-841B-8B70B231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14A42-77DA-44EC-B282-47E12864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FBC6C-25B2-49CA-9634-FD5D77E8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DA3AB-117F-4005-9BFF-7C352E29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71C7B-6DE1-4DA8-A914-4DBAD410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2256D-FC7B-480D-8B70-7A604C81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CA9FB-1FA8-4926-85C8-B459C336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EF432-8EE2-40F7-A64F-BE4D27EF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BC300-E57D-4BFD-83C4-79A4F95B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781BA-5AD7-42BC-AB1D-C7F27043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6354-A7ED-4977-9C7B-0F99774C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17187-EB1F-4CBA-8FCF-9B899B1E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4CED5-1A53-4772-9468-0802F223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97BFB-24CA-4862-A740-C462B06F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6B020-DFE8-45B0-9225-9B4BFD81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58D89-3B96-47B5-83AF-2766F200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ED061-A1D1-4F71-A673-56237BAE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D44B0-850C-497C-B81B-A830A4B1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F601E-49A5-43AF-93A3-016A735C4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51CE0-B56C-420D-809F-641389D2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B2E95-3144-4BD9-AC7B-AE7CD146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EE42-212A-4B4E-89C8-51B212A9418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0352-1A38-475C-B708-262F399C62B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A8DC-2571-4A81-A342-5BD3D033C7D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3BEB-2601-4904-8846-089DE6A63DF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F58A-EFAB-4C1E-9D3A-41087F4E44E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784D-8CC3-4544-A528-3442655EB44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6646-E69D-4B5A-A758-632F5D1AD9C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8C5A-4594-453C-8531-7BABACB6333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49C4-91A4-400A-81EE-65DE136C758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hyperlink" Target="http://discoveryeducation.typepad.com/pennsylvania/2007/02/a_more_reliable.html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hyperlink" Target="http://www.classroom20.com/group/distancecollaboration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hyperlink" Target="http://en.wikibooks.org/wiki/Main_Page" TargetMode="External"/><Relationship Id="rId4" Type="http://schemas.openxmlformats.org/officeDocument/2006/relationships/hyperlink" Target="http://en.wikipedia.org/wiki/Wiki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hyperlink" Target="http://instructech.pbwiki.com/FrontPage" TargetMode="External"/><Relationship Id="rId4" Type="http://schemas.openxmlformats.org/officeDocument/2006/relationships/hyperlink" Target="http://te886.pbwiki.com/" TargetMode="External"/><Relationship Id="rId5" Type="http://schemas.openxmlformats.org/officeDocument/2006/relationships/hyperlink" Target="https://leta-learning.wikispaces.com/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hyperlink" Target="http://www.wikispaces.com/site/for/teachers100K" TargetMode="External"/><Relationship Id="rId4" Type="http://schemas.openxmlformats.org/officeDocument/2006/relationships/hyperlink" Target="http://pbwiki.com/" TargetMode="External"/><Relationship Id="rId5" Type="http://schemas.openxmlformats.org/officeDocument/2006/relationships/hyperlink" Target="http://pbwiki.com/" TargetMode="External"/><Relationship Id="rId6" Type="http://schemas.openxmlformats.org/officeDocument/2006/relationships/hyperlink" Target="http://pbwiki.com/" TargetMode="External"/><Relationship Id="rId7" Type="http://schemas.openxmlformats.org/officeDocument/2006/relationships/hyperlink" Target="http://pbwiki.com/" TargetMode="External"/><Relationship Id="rId8" Type="http://schemas.openxmlformats.org/officeDocument/2006/relationships/hyperlink" Target="http://www.wetpaint.com/" TargetMode="External"/><Relationship Id="rId9" Type="http://schemas.openxmlformats.org/officeDocument/2006/relationships/hyperlink" Target="http://www.wetpaint.com/" TargetMode="External"/><Relationship Id="rId10" Type="http://schemas.openxmlformats.org/officeDocument/2006/relationships/hyperlink" Target="http://www.wetpaint.com/" TargetMode="External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hyperlink" Target="http://www.teachersfirst.com/content/wiki/" TargetMode="External"/><Relationship Id="rId4" Type="http://schemas.openxmlformats.org/officeDocument/2006/relationships/hyperlink" Target="http://www.teachersfirst.com/content/wiki/" TargetMode="External"/><Relationship Id="rId5" Type="http://schemas.openxmlformats.org/officeDocument/2006/relationships/hyperlink" Target="http://www.teachersfirst.com/content/wiki/" TargetMode="External"/><Relationship Id="rId6" Type="http://schemas.openxmlformats.org/officeDocument/2006/relationships/hyperlink" Target="http://ikiw.org/" TargetMode="External"/><Relationship Id="rId7" Type="http://schemas.openxmlformats.org/officeDocument/2006/relationships/hyperlink" Target="http://ikiw.org/" TargetMode="External"/><Relationship Id="rId8" Type="http://schemas.openxmlformats.org/officeDocument/2006/relationships/hyperlink" Target="http://ikiw.org/" TargetMode="External"/><Relationship Id="rId9" Type="http://schemas.openxmlformats.org/officeDocument/2006/relationships/hyperlink" Target="http://www.teachinghacks.com/wiki/index.php?title=Wikis" TargetMode="External"/><Relationship Id="rId10" Type="http://schemas.openxmlformats.org/officeDocument/2006/relationships/hyperlink" Target="http://www.teachinghacks.com/wiki/index.php?title=Wikis" TargetMode="External"/><Relationship Id="rId11" Type="http://schemas.openxmlformats.org/officeDocument/2006/relationships/hyperlink" Target="http://www.teachinghacks.com/wiki/index.php?title=Wikis" TargetMode="External"/><Relationship Id="rId12" Type="http://schemas.openxmlformats.org/officeDocument/2006/relationships/hyperlink" Target="http://www.teachinghacks.com/wiki/index.php?title=Wikis" TargetMode="External"/><Relationship Id="rId13" Type="http://schemas.openxmlformats.org/officeDocument/2006/relationships/hyperlink" Target="http://dorman-data-digest.wikispaces.com/" TargetMode="External"/><Relationship Id="rId14" Type="http://schemas.openxmlformats.org/officeDocument/2006/relationships/hyperlink" Target="http://dorman-data-digest.wikispaces.com/" TargetMode="External"/><Relationship Id="rId15" Type="http://schemas.openxmlformats.org/officeDocument/2006/relationships/slideLayout" Target="../slideLayouts/slideLayout25.xml"/><Relationship Id="rId1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hyperlink" Target="http://jdorman.wikispaces.com/+Wikis" TargetMode="External"/><Relationship Id="rId4" Type="http://schemas.openxmlformats.org/officeDocument/2006/relationships/hyperlink" Target="http://jdorman.wikispaces.com/+Wikis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2"/>
          <a:stretch/>
        </p:blipFill>
        <p:spPr>
          <a:xfrm>
            <a:off x="-6480" y="804960"/>
            <a:ext cx="9156960" cy="27972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43329"/>
                </a:solidFill>
                <a:latin typeface="Franklin Gothic Book"/>
              </a:rPr>
              <a:t>Ken Messersmith – Tommy Hanse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43329"/>
                </a:solidFill>
                <a:latin typeface="Franklin Gothic Book"/>
              </a:rPr>
              <a:t>University of Nebraska @ Kearney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85920" y="1676520"/>
            <a:ext cx="837216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asy to correct mistakes, rather than making it difficult to make them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9" name="Picture 4" descr=""/>
          <p:cNvPicPr/>
          <p:nvPr/>
        </p:nvPicPr>
        <p:blipFill>
          <a:blip r:embed="rId3"/>
          <a:stretch/>
        </p:blipFill>
        <p:spPr>
          <a:xfrm>
            <a:off x="3124080" y="3962520"/>
            <a:ext cx="2438640" cy="74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232013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" dur="1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85920" y="1676520"/>
            <a:ext cx="837216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ile wikis are very open, they provide a means to verify the validity of recent additions to the body of page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clude a "Recent Changes" page—a specific list numbering recent edits, or a list of all the edits made within a given timeframe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85560" y="1676520"/>
            <a:ext cx="852948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ikipedia is as reliable as other external sources we rely on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roperly written articles cite the sources, and a reader should rely on the Wikipedia article as much, but no more, than the sources the article relies on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f an article doesn't cite its sources, it may or may not be reliable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 More Reliable Wikipedia?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discoveryeducation.typepad.com/pennsylvania/2007/02/a_more_reliable.html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tudent projects involving students who contribute at different times and from geographically diverse locations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ollaborating on ideas and organizing documents and resources from individuals and groups of students. 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(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link to people who want to collaborate</a:t>
            </a:r>
            <a:r>
              <a:rPr b="0" lang="en-US" sz="1800" spc="-1" strike="noStrike" u="sng">
                <a:solidFill>
                  <a:srgbClr val="4e3b30"/>
                </a:solidFill>
                <a:uFillTx/>
                <a:latin typeface="Franklin Gothic Book"/>
              </a:rPr>
              <a:t>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evaluation tool where students critically analyze a partner student’s work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group research project for a specific idea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anage school and classroom documents.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(some features of Blackboard, Angel, etc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ttp://www.teachinghacks.com/wiki/index.php?title=Wi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 collaborative worksheet for students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riting: student created books and journaling. (i.e. </a:t>
            </a:r>
            <a:r>
              <a:rPr b="0" lang="en-US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Wikibooks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)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reate and maintain a classroom FAQ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 classroom discussion and debate area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dd a topic on </a:t>
            </a:r>
            <a:r>
              <a:rPr b="0" lang="en-US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Wikipedia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, have students verify the facts using their information literacy skills, and make changes accordingly (Citing sources)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ttp://www.teachinghacks.com/wiki/index.php?title=Wi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Instructech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site on student motiv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Teaching tool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sit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LETA-Learning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site for this conferen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ikispaces - </a:t>
            </a:r>
            <a:r>
              <a:rPr b="0" lang="en-US" sz="20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www.wikispaces.com/site/for/teachers100K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bwiki – 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http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://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6"/>
              </a:rPr>
              <a:t>pbwiki.com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7"/>
              </a:rPr>
              <a:t>/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etpaint - 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8"/>
              </a:rPr>
              <a:t>http://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9"/>
              </a:rPr>
              <a:t>www.wetpaint.com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10"/>
              </a:rPr>
              <a:t>/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Rectangle 2" descr=""/>
          <p:cNvPicPr/>
          <p:nvPr/>
        </p:nvPicPr>
        <p:blipFill>
          <a:blip r:embed="rId2"/>
          <a:stretch/>
        </p:blipFill>
        <p:spPr>
          <a:xfrm>
            <a:off x="396720" y="469800"/>
            <a:ext cx="8114040" cy="516888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914400" y="54100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5644e"/>
                </a:solidFill>
                <a:latin typeface="Franklin Gothic Book"/>
              </a:rPr>
              <a:t>Alvin Toffler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iki Walk-Through 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www.teachersfirst.com/content/wiki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/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What’s a wiki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Who uses wikis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Wikis or blogs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How to use wikis with students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deas for activities, projects, collaborations, etc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sing wikis in Education (blog) 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6"/>
              </a:rPr>
              <a:t>http://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7"/>
              </a:rPr>
              <a:t>ikiw.org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8"/>
              </a:rPr>
              <a:t>/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lassroom use of wikis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9"/>
              </a:rPr>
              <a:t>http://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10"/>
              </a:rPr>
              <a:t>www.teachinghacks.com/wiki/index.php?title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11"/>
              </a:rPr>
              <a:t>=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12"/>
              </a:rPr>
              <a:t>Wikis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13"/>
              </a:rPr>
              <a:t>http://dorman-data-digest.wikispaces.com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14"/>
              </a:rPr>
              <a:t>/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2"/>
          <a:stretch/>
        </p:blipFill>
        <p:spPr>
          <a:xfrm>
            <a:off x="334800" y="1047600"/>
            <a:ext cx="8358480" cy="406728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43329"/>
                </a:solidFill>
                <a:latin typeface="Franklin Gothic Book"/>
              </a:rPr>
              <a:t>Eric Hoff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e borrowed heavily from Jennifer Dorman’s extensive presentation on the Participatory Culture. Her materials are available at: 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jdorman.wikispaces.com/+Wiki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This presentation available at: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The LETA-Learning Wiki at: </a:t>
            </a: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http://leta-learning.wikispaces.com/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ntact information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Ken Messersmith – messersmithk@unk.edu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ommy Hansen – hansent@unk.edu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4e3b30"/>
                </a:solidFill>
                <a:latin typeface="Franklin Gothic Book"/>
              </a:rPr>
              <a:t>Questions?</a:t>
            </a:r>
            <a:endParaRPr b="0" lang="en-US" sz="115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6" name="Picture 9" descr="MCj01345670000[1]"/>
          <p:cNvPicPr/>
          <p:nvPr/>
        </p:nvPicPr>
        <p:blipFill>
          <a:blip r:embed="rId2"/>
          <a:stretch/>
        </p:blipFill>
        <p:spPr>
          <a:xfrm rot="21005400">
            <a:off x="6361200" y="1941120"/>
            <a:ext cx="2495520" cy="3559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We are preparing our students for a future we cannot describe.”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lan November – NETA keynote 2007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TextBox 3"/>
          <p:cNvSpPr/>
          <p:nvPr/>
        </p:nvSpPr>
        <p:spPr>
          <a:xfrm>
            <a:off x="762120" y="396252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What are the 21st century skills our students need to survive and thr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ccording to a recent study from the Pew Internet &amp; American Life project (Lenhardt &amp; Madden, 2005), more than one-half of all teens have created media content, and roughly one-third of teens who use the Internet have shared content they produced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-43920" y="6553080"/>
            <a:ext cx="93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onfronting the Challenges of Participatory Culture: Media Education for the 21st Century - Henry Jenkins 10/19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"this may be the birth of a new era, perhaps even a golden one, on par with the Italian renaissance, or the rise of Athenian democracy“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  <a:ea typeface="Times New Roman"/>
              </a:rPr>
              <a:t>Don Tapscott . Wikinomics: How Mass Collaboration Changes Everything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-360" y="15541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dividual expression → community involveme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new literacies almost all involve social skills developed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rough collaboration and networking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uilt on traditional literacy, research skills, technical skills, and critical analysis skills taught in the classroom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-43920" y="6553080"/>
            <a:ext cx="93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onfronting the Challenges of Participatory Culture: Media Education for the 21st Century - Henry Jenkins 10/19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e3b30"/>
                </a:solidFill>
                <a:latin typeface="Franklin Gothic Book"/>
              </a:rPr>
              <a:t>This presentation is about a Web 2.0 tool designed to facilitate collaborative work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85920" y="1676520"/>
            <a:ext cx="837216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wiki means "quick" in Hawaiia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all about quickly linking your information together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A free on-line writing space that allows users to add, modify and update its page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If something is missing or incorrect, you can easily add your thoughts or make changes to the wiki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It is essentially a fully editable web site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p9254B"/>
          <p:cNvPicPr/>
          <p:nvPr/>
        </p:nvPicPr>
        <p:blipFill>
          <a:blip r:embed="rId3"/>
          <a:stretch/>
        </p:blipFill>
        <p:spPr>
          <a:xfrm>
            <a:off x="685800" y="182880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4502"/>
          <p:cNvPicPr/>
          <p:nvPr/>
        </p:nvPicPr>
        <p:blipFill>
          <a:blip r:embed="rId4"/>
          <a:stretch/>
        </p:blipFill>
        <p:spPr>
          <a:xfrm>
            <a:off x="5257800" y="18288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2T13:25:27Z</dcterms:created>
  <dc:creator>JDORMAN</dc:creator>
  <dc:description/>
  <dc:language>en-US</dc:language>
  <cp:lastModifiedBy>Ken Messersmithk</cp:lastModifiedBy>
  <dcterms:modified xsi:type="dcterms:W3CDTF">2007-10-29T03:01:44Z</dcterms:modified>
  <cp:revision>92</cp:revision>
  <dc:subject/>
  <dc:title>Teaching for Rigor and Relev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33</vt:lpwstr>
  </property>
</Properties>
</file>